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F0D-C75C-4ABC-BC20-918653B1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86C-16C5-40E6-BE29-82D3AABC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46E-205F-4AAD-B3AB-CB6B13BB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E5D-D900-40CB-B060-05D3750E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DB1-EC7B-44FD-8F5B-5B1C6D12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57C-5ED4-4296-995C-664D17CD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A80-3CBF-4ECB-9CA4-B7507F17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D80-3A64-472D-BE3C-17963F64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0937-8038-4F84-9A8C-D8055711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337-EB37-43F3-A731-EF67E44C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219-0677-4F0F-A38F-2B25DF91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4154-0016-4EB1-8283-ADAC56A1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7F3C-173D-4FA9-A8F1-33FF54B70A7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. 12 – 4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Measures &amp; Segment Lengths in Cir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mework: p. 691 #1-6, 9-14, 21, 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2160" y="277560"/>
            <a:ext cx="472428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5"/>
          <p:cNvSpPr/>
          <p:nvPr/>
        </p:nvSpPr>
        <p:spPr>
          <a:xfrm>
            <a:off x="685800" y="623880"/>
            <a:ext cx="426708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 flipV="1">
            <a:off x="228600" y="549360"/>
            <a:ext cx="4191120" cy="3962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2743200" y="26827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990720" y="3749760"/>
            <a:ext cx="7596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457200" y="420696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3962520" y="93024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4191120" y="70164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28600" y="38257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066680" y="3521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3809880" y="100656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038480" y="380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495680" y="4049640"/>
            <a:ext cx="4648320" cy="2671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c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A line that intersects a circle in exactly 2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 or AB are sec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 is a c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4876920" y="5562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5943600" y="5573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4952880" y="6248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80960" y="1143000"/>
            <a:ext cx="82296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m 11 – 11:  The measure of 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med by 2 lines that intersect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nsid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ircle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57200" y="2378160"/>
            <a:ext cx="38862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09480" y="27432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½(x + 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04920" y="45720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of intercepted ar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 flipV="1">
            <a:off x="2590920" y="32767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V="1">
            <a:off x="2590920" y="327672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5257800" y="2819520"/>
            <a:ext cx="3200400" cy="320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0"/>
          <p:cNvSpPr/>
          <p:nvPr/>
        </p:nvSpPr>
        <p:spPr>
          <a:xfrm>
            <a:off x="6781680" y="44197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4952880" y="2895480"/>
            <a:ext cx="320040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5029200" y="3733920"/>
            <a:ext cx="342900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172200" y="4191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845820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800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"/>
          <p:cNvSpPr/>
          <p:nvPr/>
        </p:nvSpPr>
        <p:spPr>
          <a:xfrm>
            <a:off x="1189080" y="1539720"/>
            <a:ext cx="2384280" cy="441360"/>
          </a:xfrm>
          <a:custGeom>
            <a:avLst/>
            <a:gdLst>
              <a:gd name="textAreaLeft" fmla="*/ 0 w 2384280"/>
              <a:gd name="textAreaRight" fmla="*/ 2384640 w 238428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385061" h="441961">
                <a:moveTo>
                  <a:pt x="1158240" y="403860"/>
                </a:moveTo>
                <a:lnTo>
                  <a:pt x="1150620" y="403860"/>
                </a:lnTo>
                <a:lnTo>
                  <a:pt x="1150620" y="403860"/>
                </a:lnTo>
                <a:lnTo>
                  <a:pt x="1150620" y="403860"/>
                </a:lnTo>
                <a:lnTo>
                  <a:pt x="1150620" y="403860"/>
                </a:lnTo>
                <a:lnTo>
                  <a:pt x="1150620" y="403860"/>
                </a:lnTo>
                <a:lnTo>
                  <a:pt x="1150620" y="403860"/>
                </a:lnTo>
                <a:lnTo>
                  <a:pt x="1150620" y="403860"/>
                </a:lnTo>
                <a:lnTo>
                  <a:pt x="1158240" y="403860"/>
                </a:lnTo>
                <a:lnTo>
                  <a:pt x="1158240" y="403860"/>
                </a:lnTo>
                <a:lnTo>
                  <a:pt x="1158240" y="403860"/>
                </a:lnTo>
                <a:lnTo>
                  <a:pt x="1165860" y="403860"/>
                </a:lnTo>
                <a:lnTo>
                  <a:pt x="1165860" y="403860"/>
                </a:lnTo>
                <a:lnTo>
                  <a:pt x="1173480" y="403860"/>
                </a:lnTo>
                <a:lnTo>
                  <a:pt x="1181100" y="403860"/>
                </a:lnTo>
                <a:lnTo>
                  <a:pt x="1188720" y="403860"/>
                </a:lnTo>
                <a:lnTo>
                  <a:pt x="1196340" y="403860"/>
                </a:lnTo>
                <a:lnTo>
                  <a:pt x="1196340" y="403860"/>
                </a:lnTo>
                <a:lnTo>
                  <a:pt x="1203960" y="403860"/>
                </a:lnTo>
                <a:lnTo>
                  <a:pt x="1211580" y="403860"/>
                </a:lnTo>
                <a:lnTo>
                  <a:pt x="1219200" y="403860"/>
                </a:lnTo>
                <a:lnTo>
                  <a:pt x="1234440" y="403860"/>
                </a:lnTo>
                <a:lnTo>
                  <a:pt x="1242060" y="403860"/>
                </a:lnTo>
                <a:lnTo>
                  <a:pt x="1249680" y="403860"/>
                </a:lnTo>
                <a:lnTo>
                  <a:pt x="1257300" y="403860"/>
                </a:lnTo>
                <a:lnTo>
                  <a:pt x="1264920" y="403860"/>
                </a:lnTo>
                <a:lnTo>
                  <a:pt x="1280160" y="403860"/>
                </a:lnTo>
                <a:lnTo>
                  <a:pt x="1287780" y="403860"/>
                </a:lnTo>
                <a:lnTo>
                  <a:pt x="1303020" y="411480"/>
                </a:lnTo>
                <a:lnTo>
                  <a:pt x="1310640" y="411480"/>
                </a:lnTo>
                <a:lnTo>
                  <a:pt x="1325880" y="411480"/>
                </a:lnTo>
                <a:lnTo>
                  <a:pt x="1333500" y="411480"/>
                </a:lnTo>
                <a:lnTo>
                  <a:pt x="1348740" y="411480"/>
                </a:lnTo>
                <a:lnTo>
                  <a:pt x="1356360" y="411480"/>
                </a:lnTo>
                <a:lnTo>
                  <a:pt x="1363980" y="411480"/>
                </a:lnTo>
                <a:lnTo>
                  <a:pt x="1379220" y="411480"/>
                </a:lnTo>
                <a:lnTo>
                  <a:pt x="1394460" y="403860"/>
                </a:lnTo>
                <a:lnTo>
                  <a:pt x="1402080" y="403860"/>
                </a:lnTo>
                <a:lnTo>
                  <a:pt x="1417320" y="403860"/>
                </a:lnTo>
                <a:lnTo>
                  <a:pt x="1432560" y="403860"/>
                </a:lnTo>
                <a:lnTo>
                  <a:pt x="1440180" y="403860"/>
                </a:lnTo>
                <a:lnTo>
                  <a:pt x="1455420" y="403860"/>
                </a:lnTo>
                <a:lnTo>
                  <a:pt x="1470660" y="403860"/>
                </a:lnTo>
                <a:lnTo>
                  <a:pt x="1485900" y="403860"/>
                </a:lnTo>
                <a:lnTo>
                  <a:pt x="1493520" y="403860"/>
                </a:lnTo>
                <a:lnTo>
                  <a:pt x="1508760" y="403860"/>
                </a:lnTo>
                <a:lnTo>
                  <a:pt x="1524000" y="403860"/>
                </a:lnTo>
                <a:lnTo>
                  <a:pt x="1531620" y="403860"/>
                </a:lnTo>
                <a:lnTo>
                  <a:pt x="1546860" y="403860"/>
                </a:lnTo>
                <a:lnTo>
                  <a:pt x="1554480" y="403860"/>
                </a:lnTo>
                <a:lnTo>
                  <a:pt x="1569720" y="403860"/>
                </a:lnTo>
                <a:lnTo>
                  <a:pt x="1584960" y="403860"/>
                </a:lnTo>
                <a:lnTo>
                  <a:pt x="1592580" y="403860"/>
                </a:lnTo>
                <a:lnTo>
                  <a:pt x="1607820" y="403860"/>
                </a:lnTo>
                <a:lnTo>
                  <a:pt x="1623060" y="403860"/>
                </a:lnTo>
                <a:lnTo>
                  <a:pt x="1630680" y="403860"/>
                </a:lnTo>
                <a:lnTo>
                  <a:pt x="1645920" y="403860"/>
                </a:lnTo>
                <a:lnTo>
                  <a:pt x="1653540" y="403860"/>
                </a:lnTo>
                <a:lnTo>
                  <a:pt x="1668780" y="403860"/>
                </a:lnTo>
                <a:lnTo>
                  <a:pt x="1684020" y="403860"/>
                </a:lnTo>
                <a:lnTo>
                  <a:pt x="1699260" y="403860"/>
                </a:lnTo>
                <a:lnTo>
                  <a:pt x="1706880" y="403860"/>
                </a:lnTo>
                <a:lnTo>
                  <a:pt x="1722120" y="403860"/>
                </a:lnTo>
                <a:lnTo>
                  <a:pt x="1737360" y="403860"/>
                </a:lnTo>
                <a:lnTo>
                  <a:pt x="1752600" y="411480"/>
                </a:lnTo>
                <a:lnTo>
                  <a:pt x="1767840" y="411480"/>
                </a:lnTo>
                <a:lnTo>
                  <a:pt x="1775460" y="411480"/>
                </a:lnTo>
                <a:lnTo>
                  <a:pt x="1790700" y="411480"/>
                </a:lnTo>
                <a:lnTo>
                  <a:pt x="1805940" y="411480"/>
                </a:lnTo>
                <a:lnTo>
                  <a:pt x="1821180" y="411480"/>
                </a:lnTo>
                <a:lnTo>
                  <a:pt x="1836420" y="411480"/>
                </a:lnTo>
                <a:lnTo>
                  <a:pt x="1851660" y="411480"/>
                </a:lnTo>
                <a:lnTo>
                  <a:pt x="1866900" y="411480"/>
                </a:lnTo>
                <a:lnTo>
                  <a:pt x="1882140" y="411480"/>
                </a:lnTo>
                <a:lnTo>
                  <a:pt x="1897380" y="411480"/>
                </a:lnTo>
                <a:lnTo>
                  <a:pt x="1912620" y="411480"/>
                </a:lnTo>
                <a:lnTo>
                  <a:pt x="1927860" y="411480"/>
                </a:lnTo>
                <a:lnTo>
                  <a:pt x="1943100" y="411480"/>
                </a:lnTo>
                <a:lnTo>
                  <a:pt x="1958340" y="411480"/>
                </a:lnTo>
                <a:lnTo>
                  <a:pt x="1973580" y="411480"/>
                </a:lnTo>
                <a:lnTo>
                  <a:pt x="1988820" y="411480"/>
                </a:lnTo>
                <a:lnTo>
                  <a:pt x="2004060" y="411480"/>
                </a:lnTo>
                <a:lnTo>
                  <a:pt x="2019300" y="411480"/>
                </a:lnTo>
                <a:lnTo>
                  <a:pt x="2034540" y="419100"/>
                </a:lnTo>
                <a:lnTo>
                  <a:pt x="2049780" y="419100"/>
                </a:lnTo>
                <a:lnTo>
                  <a:pt x="2065020" y="419100"/>
                </a:lnTo>
                <a:lnTo>
                  <a:pt x="2080260" y="419100"/>
                </a:lnTo>
                <a:lnTo>
                  <a:pt x="2087880" y="419100"/>
                </a:lnTo>
                <a:lnTo>
                  <a:pt x="2103120" y="419100"/>
                </a:lnTo>
                <a:lnTo>
                  <a:pt x="2118360" y="419100"/>
                </a:lnTo>
                <a:lnTo>
                  <a:pt x="2133600" y="419100"/>
                </a:lnTo>
                <a:lnTo>
                  <a:pt x="2148840" y="419100"/>
                </a:lnTo>
                <a:lnTo>
                  <a:pt x="2164080" y="419100"/>
                </a:lnTo>
                <a:lnTo>
                  <a:pt x="2171700" y="419100"/>
                </a:lnTo>
                <a:lnTo>
                  <a:pt x="2186940" y="419100"/>
                </a:lnTo>
                <a:lnTo>
                  <a:pt x="2194560" y="419100"/>
                </a:lnTo>
                <a:lnTo>
                  <a:pt x="2209800" y="419100"/>
                </a:lnTo>
                <a:lnTo>
                  <a:pt x="2217420" y="419100"/>
                </a:lnTo>
                <a:lnTo>
                  <a:pt x="2232660" y="419100"/>
                </a:lnTo>
                <a:lnTo>
                  <a:pt x="2240280" y="419100"/>
                </a:lnTo>
                <a:lnTo>
                  <a:pt x="2247900" y="419100"/>
                </a:lnTo>
                <a:lnTo>
                  <a:pt x="2255520" y="419100"/>
                </a:lnTo>
                <a:lnTo>
                  <a:pt x="2263140" y="419100"/>
                </a:lnTo>
                <a:lnTo>
                  <a:pt x="2270760" y="419100"/>
                </a:lnTo>
                <a:lnTo>
                  <a:pt x="2278380" y="419100"/>
                </a:lnTo>
                <a:lnTo>
                  <a:pt x="2286000" y="419100"/>
                </a:lnTo>
                <a:lnTo>
                  <a:pt x="2286000" y="426720"/>
                </a:lnTo>
                <a:lnTo>
                  <a:pt x="2293620" y="426720"/>
                </a:lnTo>
                <a:lnTo>
                  <a:pt x="2293620" y="426720"/>
                </a:lnTo>
                <a:lnTo>
                  <a:pt x="2293620" y="426720"/>
                </a:lnTo>
                <a:lnTo>
                  <a:pt x="2301240" y="426720"/>
                </a:lnTo>
                <a:lnTo>
                  <a:pt x="2301240" y="426720"/>
                </a:lnTo>
                <a:lnTo>
                  <a:pt x="2301240" y="426720"/>
                </a:lnTo>
                <a:lnTo>
                  <a:pt x="2301240" y="426720"/>
                </a:lnTo>
                <a:lnTo>
                  <a:pt x="2301240" y="426720"/>
                </a:lnTo>
                <a:lnTo>
                  <a:pt x="2301240" y="426720"/>
                </a:lnTo>
                <a:lnTo>
                  <a:pt x="2301240" y="426720"/>
                </a:lnTo>
                <a:lnTo>
                  <a:pt x="2293620" y="419100"/>
                </a:lnTo>
                <a:lnTo>
                  <a:pt x="2293620" y="419100"/>
                </a:lnTo>
                <a:lnTo>
                  <a:pt x="2286000" y="419100"/>
                </a:lnTo>
                <a:lnTo>
                  <a:pt x="2278380" y="419100"/>
                </a:lnTo>
                <a:lnTo>
                  <a:pt x="2270760" y="419100"/>
                </a:lnTo>
                <a:lnTo>
                  <a:pt x="2263140" y="419100"/>
                </a:lnTo>
                <a:lnTo>
                  <a:pt x="2247900" y="419100"/>
                </a:lnTo>
                <a:lnTo>
                  <a:pt x="2232660" y="419100"/>
                </a:lnTo>
                <a:lnTo>
                  <a:pt x="2225040" y="419100"/>
                </a:lnTo>
                <a:lnTo>
                  <a:pt x="2209800" y="419100"/>
                </a:lnTo>
                <a:lnTo>
                  <a:pt x="2186940" y="419100"/>
                </a:lnTo>
                <a:lnTo>
                  <a:pt x="2171700" y="419100"/>
                </a:lnTo>
                <a:lnTo>
                  <a:pt x="2148840" y="419100"/>
                </a:lnTo>
                <a:lnTo>
                  <a:pt x="2133600" y="419100"/>
                </a:lnTo>
                <a:lnTo>
                  <a:pt x="2110740" y="419100"/>
                </a:lnTo>
                <a:lnTo>
                  <a:pt x="2095500" y="419100"/>
                </a:lnTo>
                <a:lnTo>
                  <a:pt x="2072640" y="419100"/>
                </a:lnTo>
                <a:lnTo>
                  <a:pt x="2049780" y="419100"/>
                </a:lnTo>
                <a:lnTo>
                  <a:pt x="2026920" y="419100"/>
                </a:lnTo>
                <a:lnTo>
                  <a:pt x="2004060" y="411480"/>
                </a:lnTo>
                <a:lnTo>
                  <a:pt x="1981200" y="411480"/>
                </a:lnTo>
                <a:lnTo>
                  <a:pt x="1958340" y="411480"/>
                </a:lnTo>
                <a:lnTo>
                  <a:pt x="1935480" y="411480"/>
                </a:lnTo>
                <a:lnTo>
                  <a:pt x="1905000" y="411480"/>
                </a:lnTo>
                <a:lnTo>
                  <a:pt x="1882140" y="411480"/>
                </a:lnTo>
                <a:lnTo>
                  <a:pt x="1859280" y="411480"/>
                </a:lnTo>
                <a:lnTo>
                  <a:pt x="1828800" y="411480"/>
                </a:lnTo>
                <a:lnTo>
                  <a:pt x="1805940" y="411480"/>
                </a:lnTo>
                <a:lnTo>
                  <a:pt x="1775460" y="411480"/>
                </a:lnTo>
                <a:lnTo>
                  <a:pt x="1744980" y="411480"/>
                </a:lnTo>
                <a:lnTo>
                  <a:pt x="1722120" y="411480"/>
                </a:lnTo>
                <a:lnTo>
                  <a:pt x="1699260" y="411480"/>
                </a:lnTo>
                <a:lnTo>
                  <a:pt x="1668780" y="411480"/>
                </a:lnTo>
                <a:lnTo>
                  <a:pt x="1645920" y="411480"/>
                </a:lnTo>
                <a:lnTo>
                  <a:pt x="1615440" y="411480"/>
                </a:lnTo>
                <a:lnTo>
                  <a:pt x="1584960" y="411480"/>
                </a:lnTo>
                <a:lnTo>
                  <a:pt x="1554480" y="411480"/>
                </a:lnTo>
                <a:lnTo>
                  <a:pt x="1531620" y="411480"/>
                </a:lnTo>
                <a:lnTo>
                  <a:pt x="1501140" y="411480"/>
                </a:lnTo>
                <a:lnTo>
                  <a:pt x="1478280" y="411480"/>
                </a:lnTo>
                <a:lnTo>
                  <a:pt x="1447800" y="411480"/>
                </a:lnTo>
                <a:lnTo>
                  <a:pt x="1417320" y="411480"/>
                </a:lnTo>
                <a:lnTo>
                  <a:pt x="1394460" y="411480"/>
                </a:lnTo>
                <a:lnTo>
                  <a:pt x="1363980" y="411480"/>
                </a:lnTo>
                <a:lnTo>
                  <a:pt x="1333500" y="411480"/>
                </a:lnTo>
                <a:lnTo>
                  <a:pt x="1303020" y="411480"/>
                </a:lnTo>
                <a:lnTo>
                  <a:pt x="1280160" y="411480"/>
                </a:lnTo>
                <a:lnTo>
                  <a:pt x="1249680" y="411480"/>
                </a:lnTo>
                <a:lnTo>
                  <a:pt x="1219200" y="411480"/>
                </a:lnTo>
                <a:lnTo>
                  <a:pt x="1196340" y="411480"/>
                </a:lnTo>
                <a:lnTo>
                  <a:pt x="1165860" y="411480"/>
                </a:lnTo>
                <a:lnTo>
                  <a:pt x="1135380" y="411480"/>
                </a:lnTo>
                <a:lnTo>
                  <a:pt x="1104900" y="411480"/>
                </a:lnTo>
                <a:lnTo>
                  <a:pt x="1074420" y="411480"/>
                </a:lnTo>
                <a:lnTo>
                  <a:pt x="1051560" y="411480"/>
                </a:lnTo>
                <a:lnTo>
                  <a:pt x="1021080" y="411480"/>
                </a:lnTo>
                <a:lnTo>
                  <a:pt x="990600" y="411480"/>
                </a:lnTo>
                <a:lnTo>
                  <a:pt x="960120" y="411480"/>
                </a:lnTo>
                <a:lnTo>
                  <a:pt x="937260" y="411480"/>
                </a:lnTo>
                <a:lnTo>
                  <a:pt x="906780" y="411480"/>
                </a:lnTo>
                <a:lnTo>
                  <a:pt x="876300" y="411480"/>
                </a:lnTo>
                <a:lnTo>
                  <a:pt x="853440" y="411480"/>
                </a:lnTo>
                <a:lnTo>
                  <a:pt x="822960" y="411480"/>
                </a:lnTo>
                <a:lnTo>
                  <a:pt x="800100" y="411480"/>
                </a:lnTo>
                <a:lnTo>
                  <a:pt x="769620" y="411480"/>
                </a:lnTo>
                <a:lnTo>
                  <a:pt x="739140" y="403860"/>
                </a:lnTo>
                <a:lnTo>
                  <a:pt x="716280" y="403860"/>
                </a:lnTo>
                <a:lnTo>
                  <a:pt x="685800" y="403860"/>
                </a:lnTo>
                <a:lnTo>
                  <a:pt x="662940" y="403860"/>
                </a:lnTo>
                <a:lnTo>
                  <a:pt x="632460" y="403860"/>
                </a:lnTo>
                <a:lnTo>
                  <a:pt x="601980" y="403860"/>
                </a:lnTo>
                <a:lnTo>
                  <a:pt x="579120" y="403860"/>
                </a:lnTo>
                <a:lnTo>
                  <a:pt x="548640" y="403860"/>
                </a:lnTo>
                <a:lnTo>
                  <a:pt x="525780" y="403860"/>
                </a:lnTo>
                <a:lnTo>
                  <a:pt x="495300" y="403860"/>
                </a:lnTo>
                <a:lnTo>
                  <a:pt x="472440" y="403860"/>
                </a:lnTo>
                <a:lnTo>
                  <a:pt x="441960" y="403860"/>
                </a:lnTo>
                <a:lnTo>
                  <a:pt x="419100" y="403860"/>
                </a:lnTo>
                <a:lnTo>
                  <a:pt x="388620" y="403860"/>
                </a:lnTo>
                <a:lnTo>
                  <a:pt x="365760" y="403860"/>
                </a:lnTo>
                <a:lnTo>
                  <a:pt x="335280" y="403860"/>
                </a:lnTo>
                <a:lnTo>
                  <a:pt x="312420" y="403860"/>
                </a:lnTo>
                <a:lnTo>
                  <a:pt x="281940" y="403860"/>
                </a:lnTo>
                <a:lnTo>
                  <a:pt x="259080" y="403860"/>
                </a:lnTo>
                <a:lnTo>
                  <a:pt x="236220" y="403860"/>
                </a:lnTo>
                <a:lnTo>
                  <a:pt x="213360" y="403860"/>
                </a:lnTo>
                <a:lnTo>
                  <a:pt x="190500" y="403860"/>
                </a:lnTo>
                <a:lnTo>
                  <a:pt x="167640" y="411480"/>
                </a:lnTo>
                <a:lnTo>
                  <a:pt x="144780" y="411480"/>
                </a:lnTo>
                <a:lnTo>
                  <a:pt x="121920" y="411480"/>
                </a:lnTo>
                <a:lnTo>
                  <a:pt x="106680" y="411480"/>
                </a:lnTo>
                <a:lnTo>
                  <a:pt x="91440" y="411480"/>
                </a:lnTo>
                <a:lnTo>
                  <a:pt x="68580" y="411480"/>
                </a:lnTo>
                <a:lnTo>
                  <a:pt x="53340" y="411480"/>
                </a:lnTo>
                <a:lnTo>
                  <a:pt x="45720" y="411480"/>
                </a:lnTo>
                <a:lnTo>
                  <a:pt x="30480" y="411480"/>
                </a:lnTo>
                <a:lnTo>
                  <a:pt x="22860" y="411480"/>
                </a:lnTo>
                <a:lnTo>
                  <a:pt x="15240" y="411480"/>
                </a:lnTo>
                <a:lnTo>
                  <a:pt x="7620" y="411480"/>
                </a:lnTo>
                <a:lnTo>
                  <a:pt x="7620" y="411480"/>
                </a:lnTo>
                <a:lnTo>
                  <a:pt x="0" y="411480"/>
                </a:lnTo>
                <a:lnTo>
                  <a:pt x="0" y="411480"/>
                </a:lnTo>
                <a:lnTo>
                  <a:pt x="0" y="411480"/>
                </a:lnTo>
                <a:lnTo>
                  <a:pt x="0" y="411480"/>
                </a:lnTo>
                <a:lnTo>
                  <a:pt x="0" y="411480"/>
                </a:lnTo>
                <a:lnTo>
                  <a:pt x="7620" y="419100"/>
                </a:lnTo>
                <a:lnTo>
                  <a:pt x="7620" y="419100"/>
                </a:lnTo>
                <a:lnTo>
                  <a:pt x="15240" y="419100"/>
                </a:lnTo>
                <a:lnTo>
                  <a:pt x="30480" y="419100"/>
                </a:lnTo>
                <a:lnTo>
                  <a:pt x="38100" y="411480"/>
                </a:lnTo>
                <a:lnTo>
                  <a:pt x="53340" y="411480"/>
                </a:lnTo>
                <a:lnTo>
                  <a:pt x="60960" y="411480"/>
                </a:lnTo>
                <a:lnTo>
                  <a:pt x="76200" y="411480"/>
                </a:lnTo>
                <a:lnTo>
                  <a:pt x="91440" y="411480"/>
                </a:lnTo>
                <a:lnTo>
                  <a:pt x="114300" y="419100"/>
                </a:lnTo>
                <a:lnTo>
                  <a:pt x="129540" y="419100"/>
                </a:lnTo>
                <a:lnTo>
                  <a:pt x="152400" y="419100"/>
                </a:lnTo>
                <a:lnTo>
                  <a:pt x="167640" y="411480"/>
                </a:lnTo>
                <a:lnTo>
                  <a:pt x="190500" y="411480"/>
                </a:lnTo>
                <a:lnTo>
                  <a:pt x="213360" y="411480"/>
                </a:lnTo>
                <a:lnTo>
                  <a:pt x="236220" y="411480"/>
                </a:lnTo>
                <a:lnTo>
                  <a:pt x="266700" y="411480"/>
                </a:lnTo>
                <a:lnTo>
                  <a:pt x="289560" y="411480"/>
                </a:lnTo>
                <a:lnTo>
                  <a:pt x="320040" y="411480"/>
                </a:lnTo>
                <a:lnTo>
                  <a:pt x="350520" y="411480"/>
                </a:lnTo>
                <a:lnTo>
                  <a:pt x="373380" y="419100"/>
                </a:lnTo>
                <a:lnTo>
                  <a:pt x="403860" y="419100"/>
                </a:lnTo>
                <a:lnTo>
                  <a:pt x="441960" y="419100"/>
                </a:lnTo>
                <a:lnTo>
                  <a:pt x="472440" y="419100"/>
                </a:lnTo>
                <a:lnTo>
                  <a:pt x="502920" y="419100"/>
                </a:lnTo>
                <a:lnTo>
                  <a:pt x="541020" y="419100"/>
                </a:lnTo>
                <a:lnTo>
                  <a:pt x="571500" y="419100"/>
                </a:lnTo>
                <a:lnTo>
                  <a:pt x="609600" y="419100"/>
                </a:lnTo>
                <a:lnTo>
                  <a:pt x="640080" y="419100"/>
                </a:lnTo>
                <a:lnTo>
                  <a:pt x="670560" y="426720"/>
                </a:lnTo>
                <a:lnTo>
                  <a:pt x="708660" y="426720"/>
                </a:lnTo>
                <a:lnTo>
                  <a:pt x="746760" y="426720"/>
                </a:lnTo>
                <a:lnTo>
                  <a:pt x="784860" y="426720"/>
                </a:lnTo>
                <a:lnTo>
                  <a:pt x="815340" y="426720"/>
                </a:lnTo>
                <a:lnTo>
                  <a:pt x="853440" y="426720"/>
                </a:lnTo>
                <a:lnTo>
                  <a:pt x="891540" y="434340"/>
                </a:lnTo>
                <a:lnTo>
                  <a:pt x="922020" y="434340"/>
                </a:lnTo>
                <a:lnTo>
                  <a:pt x="960120" y="434340"/>
                </a:lnTo>
                <a:lnTo>
                  <a:pt x="998220" y="434340"/>
                </a:lnTo>
                <a:lnTo>
                  <a:pt x="1036320" y="434340"/>
                </a:lnTo>
                <a:lnTo>
                  <a:pt x="1066800" y="434340"/>
                </a:lnTo>
                <a:lnTo>
                  <a:pt x="1104900" y="434340"/>
                </a:lnTo>
                <a:lnTo>
                  <a:pt x="1143000" y="434340"/>
                </a:lnTo>
                <a:lnTo>
                  <a:pt x="1181100" y="434340"/>
                </a:lnTo>
                <a:lnTo>
                  <a:pt x="1211580" y="441960"/>
                </a:lnTo>
                <a:lnTo>
                  <a:pt x="1249680" y="441960"/>
                </a:lnTo>
                <a:lnTo>
                  <a:pt x="1280160" y="441960"/>
                </a:lnTo>
                <a:lnTo>
                  <a:pt x="1318260" y="441960"/>
                </a:lnTo>
                <a:lnTo>
                  <a:pt x="1348740" y="441960"/>
                </a:lnTo>
                <a:lnTo>
                  <a:pt x="1386840" y="441960"/>
                </a:lnTo>
                <a:lnTo>
                  <a:pt x="1417320" y="441960"/>
                </a:lnTo>
                <a:lnTo>
                  <a:pt x="1447800" y="441960"/>
                </a:lnTo>
                <a:lnTo>
                  <a:pt x="1485900" y="441960"/>
                </a:lnTo>
                <a:lnTo>
                  <a:pt x="1516380" y="441960"/>
                </a:lnTo>
                <a:lnTo>
                  <a:pt x="1546860" y="441960"/>
                </a:lnTo>
                <a:lnTo>
                  <a:pt x="1584960" y="441960"/>
                </a:lnTo>
                <a:lnTo>
                  <a:pt x="1607820" y="441960"/>
                </a:lnTo>
                <a:lnTo>
                  <a:pt x="1638300" y="441960"/>
                </a:lnTo>
                <a:lnTo>
                  <a:pt x="1676400" y="441960"/>
                </a:lnTo>
                <a:lnTo>
                  <a:pt x="1699260" y="441960"/>
                </a:lnTo>
                <a:lnTo>
                  <a:pt x="1729740" y="441960"/>
                </a:lnTo>
                <a:lnTo>
                  <a:pt x="1760220" y="441960"/>
                </a:lnTo>
                <a:lnTo>
                  <a:pt x="1790700" y="441960"/>
                </a:lnTo>
                <a:lnTo>
                  <a:pt x="1821180" y="441960"/>
                </a:lnTo>
                <a:lnTo>
                  <a:pt x="1851660" y="441960"/>
                </a:lnTo>
                <a:lnTo>
                  <a:pt x="1874520" y="441960"/>
                </a:lnTo>
                <a:lnTo>
                  <a:pt x="1905000" y="441960"/>
                </a:lnTo>
                <a:lnTo>
                  <a:pt x="1927860" y="434340"/>
                </a:lnTo>
                <a:lnTo>
                  <a:pt x="1950720" y="434340"/>
                </a:lnTo>
                <a:lnTo>
                  <a:pt x="1981200" y="434340"/>
                </a:lnTo>
                <a:lnTo>
                  <a:pt x="2004060" y="434340"/>
                </a:lnTo>
                <a:lnTo>
                  <a:pt x="2026920" y="434340"/>
                </a:lnTo>
                <a:lnTo>
                  <a:pt x="2049780" y="434340"/>
                </a:lnTo>
                <a:lnTo>
                  <a:pt x="2072640" y="434340"/>
                </a:lnTo>
                <a:lnTo>
                  <a:pt x="2095500" y="434340"/>
                </a:lnTo>
                <a:lnTo>
                  <a:pt x="2118360" y="434340"/>
                </a:lnTo>
                <a:lnTo>
                  <a:pt x="2133600" y="434340"/>
                </a:lnTo>
                <a:lnTo>
                  <a:pt x="2156460" y="434340"/>
                </a:lnTo>
                <a:lnTo>
                  <a:pt x="2171700" y="426720"/>
                </a:lnTo>
                <a:lnTo>
                  <a:pt x="2186940" y="426720"/>
                </a:lnTo>
                <a:lnTo>
                  <a:pt x="2202180" y="426720"/>
                </a:lnTo>
                <a:lnTo>
                  <a:pt x="2217420" y="426720"/>
                </a:lnTo>
                <a:lnTo>
                  <a:pt x="2225040" y="419100"/>
                </a:lnTo>
                <a:lnTo>
                  <a:pt x="2240280" y="419100"/>
                </a:lnTo>
                <a:lnTo>
                  <a:pt x="2247900" y="419100"/>
                </a:lnTo>
                <a:lnTo>
                  <a:pt x="2255520" y="419100"/>
                </a:lnTo>
                <a:lnTo>
                  <a:pt x="2263140" y="419100"/>
                </a:lnTo>
                <a:lnTo>
                  <a:pt x="2270760" y="419100"/>
                </a:lnTo>
                <a:lnTo>
                  <a:pt x="2270760" y="419100"/>
                </a:lnTo>
                <a:lnTo>
                  <a:pt x="2278380" y="419100"/>
                </a:lnTo>
                <a:lnTo>
                  <a:pt x="2278380" y="426720"/>
                </a:lnTo>
                <a:lnTo>
                  <a:pt x="227838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26720"/>
                </a:lnTo>
                <a:lnTo>
                  <a:pt x="2286000" y="419100"/>
                </a:lnTo>
                <a:lnTo>
                  <a:pt x="2286000" y="419100"/>
                </a:lnTo>
                <a:lnTo>
                  <a:pt x="2286000" y="419100"/>
                </a:lnTo>
                <a:lnTo>
                  <a:pt x="2286000" y="411480"/>
                </a:lnTo>
                <a:lnTo>
                  <a:pt x="2286000" y="411480"/>
                </a:lnTo>
                <a:lnTo>
                  <a:pt x="2286000" y="403860"/>
                </a:lnTo>
                <a:lnTo>
                  <a:pt x="2286000" y="396240"/>
                </a:lnTo>
                <a:lnTo>
                  <a:pt x="2293620" y="388620"/>
                </a:lnTo>
                <a:lnTo>
                  <a:pt x="2293620" y="381000"/>
                </a:lnTo>
                <a:lnTo>
                  <a:pt x="2293620" y="373380"/>
                </a:lnTo>
                <a:lnTo>
                  <a:pt x="2293620" y="365760"/>
                </a:lnTo>
                <a:lnTo>
                  <a:pt x="2301240" y="358140"/>
                </a:lnTo>
                <a:lnTo>
                  <a:pt x="2301240" y="342900"/>
                </a:lnTo>
                <a:lnTo>
                  <a:pt x="2308860" y="335280"/>
                </a:lnTo>
                <a:lnTo>
                  <a:pt x="2308860" y="327660"/>
                </a:lnTo>
                <a:lnTo>
                  <a:pt x="2308860" y="312420"/>
                </a:lnTo>
                <a:lnTo>
                  <a:pt x="2316480" y="304800"/>
                </a:lnTo>
                <a:lnTo>
                  <a:pt x="2316480" y="289560"/>
                </a:lnTo>
                <a:lnTo>
                  <a:pt x="2324100" y="281940"/>
                </a:lnTo>
                <a:lnTo>
                  <a:pt x="2324100" y="266700"/>
                </a:lnTo>
                <a:lnTo>
                  <a:pt x="2331720" y="259080"/>
                </a:lnTo>
                <a:lnTo>
                  <a:pt x="2331720" y="243840"/>
                </a:lnTo>
                <a:lnTo>
                  <a:pt x="2339340" y="236220"/>
                </a:lnTo>
                <a:lnTo>
                  <a:pt x="2339340" y="220980"/>
                </a:lnTo>
                <a:lnTo>
                  <a:pt x="2346960" y="213360"/>
                </a:lnTo>
                <a:lnTo>
                  <a:pt x="2346960" y="198120"/>
                </a:lnTo>
                <a:lnTo>
                  <a:pt x="2354580" y="182880"/>
                </a:lnTo>
                <a:lnTo>
                  <a:pt x="2362200" y="175260"/>
                </a:lnTo>
                <a:lnTo>
                  <a:pt x="2362200" y="167640"/>
                </a:lnTo>
                <a:lnTo>
                  <a:pt x="2362200" y="152400"/>
                </a:lnTo>
                <a:lnTo>
                  <a:pt x="2369820" y="144780"/>
                </a:lnTo>
                <a:lnTo>
                  <a:pt x="2369820" y="137160"/>
                </a:lnTo>
                <a:lnTo>
                  <a:pt x="2369820" y="129540"/>
                </a:lnTo>
                <a:lnTo>
                  <a:pt x="2377440" y="114300"/>
                </a:lnTo>
                <a:lnTo>
                  <a:pt x="2377440" y="106680"/>
                </a:lnTo>
                <a:lnTo>
                  <a:pt x="2377440" y="99060"/>
                </a:lnTo>
                <a:lnTo>
                  <a:pt x="2377440" y="91440"/>
                </a:lnTo>
                <a:lnTo>
                  <a:pt x="2377440" y="83820"/>
                </a:lnTo>
                <a:lnTo>
                  <a:pt x="2377440" y="83820"/>
                </a:lnTo>
                <a:lnTo>
                  <a:pt x="2377440" y="76200"/>
                </a:lnTo>
                <a:lnTo>
                  <a:pt x="2385060" y="68580"/>
                </a:lnTo>
                <a:lnTo>
                  <a:pt x="2385060" y="68580"/>
                </a:lnTo>
                <a:lnTo>
                  <a:pt x="2385060" y="60960"/>
                </a:lnTo>
                <a:lnTo>
                  <a:pt x="2385060" y="60960"/>
                </a:lnTo>
                <a:lnTo>
                  <a:pt x="2385060" y="53340"/>
                </a:lnTo>
                <a:lnTo>
                  <a:pt x="2385060" y="53340"/>
                </a:lnTo>
                <a:lnTo>
                  <a:pt x="2385060" y="53340"/>
                </a:lnTo>
                <a:lnTo>
                  <a:pt x="2385060" y="45720"/>
                </a:lnTo>
                <a:lnTo>
                  <a:pt x="2385060" y="45720"/>
                </a:lnTo>
                <a:lnTo>
                  <a:pt x="2385060" y="45720"/>
                </a:lnTo>
                <a:lnTo>
                  <a:pt x="2377440" y="45720"/>
                </a:lnTo>
                <a:lnTo>
                  <a:pt x="2377440" y="45720"/>
                </a:lnTo>
                <a:lnTo>
                  <a:pt x="2377440" y="45720"/>
                </a:lnTo>
                <a:lnTo>
                  <a:pt x="2377440" y="38100"/>
                </a:lnTo>
                <a:lnTo>
                  <a:pt x="2377440" y="38100"/>
                </a:lnTo>
                <a:lnTo>
                  <a:pt x="2369820" y="38100"/>
                </a:lnTo>
                <a:lnTo>
                  <a:pt x="2369820" y="38100"/>
                </a:lnTo>
                <a:lnTo>
                  <a:pt x="2362200" y="38100"/>
                </a:lnTo>
                <a:lnTo>
                  <a:pt x="2362200" y="30480"/>
                </a:lnTo>
                <a:lnTo>
                  <a:pt x="2354580" y="30480"/>
                </a:lnTo>
                <a:lnTo>
                  <a:pt x="2339340" y="30480"/>
                </a:lnTo>
                <a:lnTo>
                  <a:pt x="2331720" y="30480"/>
                </a:lnTo>
                <a:lnTo>
                  <a:pt x="2324100" y="30480"/>
                </a:lnTo>
                <a:lnTo>
                  <a:pt x="2308860" y="30480"/>
                </a:lnTo>
                <a:lnTo>
                  <a:pt x="2293620" y="30480"/>
                </a:lnTo>
                <a:lnTo>
                  <a:pt x="2278380" y="22860"/>
                </a:lnTo>
                <a:lnTo>
                  <a:pt x="2263140" y="22860"/>
                </a:lnTo>
                <a:lnTo>
                  <a:pt x="2240280" y="22860"/>
                </a:lnTo>
                <a:lnTo>
                  <a:pt x="2225040" y="15240"/>
                </a:lnTo>
                <a:lnTo>
                  <a:pt x="2202180" y="15240"/>
                </a:lnTo>
                <a:lnTo>
                  <a:pt x="2179320" y="15240"/>
                </a:lnTo>
                <a:lnTo>
                  <a:pt x="2156460" y="7620"/>
                </a:lnTo>
                <a:lnTo>
                  <a:pt x="2133600" y="7620"/>
                </a:lnTo>
                <a:lnTo>
                  <a:pt x="2110740" y="7620"/>
                </a:lnTo>
                <a:lnTo>
                  <a:pt x="2080260" y="7620"/>
                </a:lnTo>
                <a:lnTo>
                  <a:pt x="2049780" y="7620"/>
                </a:lnTo>
                <a:lnTo>
                  <a:pt x="2026920" y="7620"/>
                </a:lnTo>
                <a:lnTo>
                  <a:pt x="1996440" y="0"/>
                </a:lnTo>
                <a:lnTo>
                  <a:pt x="1965960" y="0"/>
                </a:lnTo>
                <a:lnTo>
                  <a:pt x="1935480" y="0"/>
                </a:lnTo>
                <a:lnTo>
                  <a:pt x="1905000" y="0"/>
                </a:lnTo>
                <a:lnTo>
                  <a:pt x="1874520" y="0"/>
                </a:lnTo>
                <a:lnTo>
                  <a:pt x="1836420" y="0"/>
                </a:lnTo>
                <a:lnTo>
                  <a:pt x="1805940" y="0"/>
                </a:lnTo>
                <a:lnTo>
                  <a:pt x="1775460" y="0"/>
                </a:lnTo>
                <a:lnTo>
                  <a:pt x="1737360" y="0"/>
                </a:lnTo>
                <a:lnTo>
                  <a:pt x="1699260" y="0"/>
                </a:lnTo>
                <a:lnTo>
                  <a:pt x="1668780" y="0"/>
                </a:lnTo>
                <a:lnTo>
                  <a:pt x="1630680" y="0"/>
                </a:lnTo>
                <a:lnTo>
                  <a:pt x="1592580" y="0"/>
                </a:lnTo>
                <a:lnTo>
                  <a:pt x="1554480" y="0"/>
                </a:lnTo>
                <a:lnTo>
                  <a:pt x="1524000" y="7620"/>
                </a:lnTo>
                <a:lnTo>
                  <a:pt x="1478280" y="7620"/>
                </a:lnTo>
                <a:lnTo>
                  <a:pt x="1440180" y="7620"/>
                </a:lnTo>
                <a:lnTo>
                  <a:pt x="1409700" y="7620"/>
                </a:lnTo>
                <a:lnTo>
                  <a:pt x="1371600" y="7620"/>
                </a:lnTo>
                <a:lnTo>
                  <a:pt x="1333500" y="7620"/>
                </a:lnTo>
                <a:lnTo>
                  <a:pt x="1295400" y="15240"/>
                </a:lnTo>
                <a:lnTo>
                  <a:pt x="1257300" y="15240"/>
                </a:lnTo>
                <a:lnTo>
                  <a:pt x="1219200" y="15240"/>
                </a:lnTo>
                <a:lnTo>
                  <a:pt x="1181100" y="15240"/>
                </a:lnTo>
                <a:lnTo>
                  <a:pt x="1143000" y="22860"/>
                </a:lnTo>
                <a:lnTo>
                  <a:pt x="1104900" y="22860"/>
                </a:lnTo>
                <a:lnTo>
                  <a:pt x="1066800" y="22860"/>
                </a:lnTo>
                <a:lnTo>
                  <a:pt x="1036320" y="22860"/>
                </a:lnTo>
                <a:lnTo>
                  <a:pt x="998220" y="22860"/>
                </a:lnTo>
                <a:lnTo>
                  <a:pt x="960120" y="22860"/>
                </a:lnTo>
                <a:lnTo>
                  <a:pt x="922020" y="30480"/>
                </a:lnTo>
                <a:lnTo>
                  <a:pt x="891540" y="30480"/>
                </a:lnTo>
                <a:lnTo>
                  <a:pt x="853440" y="30480"/>
                </a:lnTo>
                <a:lnTo>
                  <a:pt x="822960" y="30480"/>
                </a:lnTo>
                <a:lnTo>
                  <a:pt x="784860" y="30480"/>
                </a:lnTo>
                <a:lnTo>
                  <a:pt x="754380" y="30480"/>
                </a:lnTo>
                <a:lnTo>
                  <a:pt x="723900" y="30480"/>
                </a:lnTo>
                <a:lnTo>
                  <a:pt x="693420" y="30480"/>
                </a:lnTo>
                <a:lnTo>
                  <a:pt x="655320" y="30480"/>
                </a:lnTo>
                <a:lnTo>
                  <a:pt x="624840" y="30480"/>
                </a:lnTo>
                <a:lnTo>
                  <a:pt x="601980" y="30480"/>
                </a:lnTo>
                <a:lnTo>
                  <a:pt x="571500" y="30480"/>
                </a:lnTo>
                <a:lnTo>
                  <a:pt x="541020" y="30480"/>
                </a:lnTo>
                <a:lnTo>
                  <a:pt x="518160" y="30480"/>
                </a:lnTo>
                <a:lnTo>
                  <a:pt x="487680" y="30480"/>
                </a:lnTo>
                <a:lnTo>
                  <a:pt x="464820" y="30480"/>
                </a:lnTo>
                <a:lnTo>
                  <a:pt x="434340" y="30480"/>
                </a:lnTo>
                <a:lnTo>
                  <a:pt x="411480" y="30480"/>
                </a:lnTo>
                <a:lnTo>
                  <a:pt x="388620" y="30480"/>
                </a:lnTo>
                <a:lnTo>
                  <a:pt x="365760" y="30480"/>
                </a:lnTo>
                <a:lnTo>
                  <a:pt x="342900" y="30480"/>
                </a:lnTo>
                <a:lnTo>
                  <a:pt x="320040" y="30480"/>
                </a:lnTo>
                <a:lnTo>
                  <a:pt x="297180" y="30480"/>
                </a:lnTo>
                <a:lnTo>
                  <a:pt x="274320" y="30480"/>
                </a:lnTo>
                <a:lnTo>
                  <a:pt x="259080" y="30480"/>
                </a:lnTo>
                <a:lnTo>
                  <a:pt x="236220" y="30480"/>
                </a:lnTo>
                <a:lnTo>
                  <a:pt x="220980" y="30480"/>
                </a:lnTo>
                <a:lnTo>
                  <a:pt x="205740" y="30480"/>
                </a:lnTo>
                <a:lnTo>
                  <a:pt x="182880" y="30480"/>
                </a:lnTo>
                <a:lnTo>
                  <a:pt x="167640" y="30480"/>
                </a:lnTo>
                <a:lnTo>
                  <a:pt x="152400" y="30480"/>
                </a:lnTo>
                <a:lnTo>
                  <a:pt x="137160" y="30480"/>
                </a:lnTo>
                <a:lnTo>
                  <a:pt x="129540" y="30480"/>
                </a:lnTo>
                <a:lnTo>
                  <a:pt x="114300" y="38100"/>
                </a:lnTo>
                <a:lnTo>
                  <a:pt x="106680" y="38100"/>
                </a:lnTo>
                <a:lnTo>
                  <a:pt x="91440" y="38100"/>
                </a:lnTo>
                <a:lnTo>
                  <a:pt x="83820" y="38100"/>
                </a:lnTo>
                <a:lnTo>
                  <a:pt x="76200" y="45720"/>
                </a:lnTo>
                <a:lnTo>
                  <a:pt x="68580" y="45720"/>
                </a:lnTo>
                <a:lnTo>
                  <a:pt x="60960" y="45720"/>
                </a:lnTo>
                <a:lnTo>
                  <a:pt x="53340" y="53340"/>
                </a:lnTo>
                <a:lnTo>
                  <a:pt x="53340" y="53340"/>
                </a:lnTo>
                <a:lnTo>
                  <a:pt x="45720" y="60960"/>
                </a:lnTo>
                <a:lnTo>
                  <a:pt x="38100" y="60960"/>
                </a:lnTo>
                <a:lnTo>
                  <a:pt x="38100" y="68580"/>
                </a:lnTo>
                <a:lnTo>
                  <a:pt x="30480" y="76200"/>
                </a:lnTo>
                <a:lnTo>
                  <a:pt x="30480" y="76200"/>
                </a:lnTo>
                <a:lnTo>
                  <a:pt x="30480" y="83820"/>
                </a:lnTo>
                <a:lnTo>
                  <a:pt x="22860" y="91440"/>
                </a:lnTo>
                <a:lnTo>
                  <a:pt x="22860" y="99060"/>
                </a:lnTo>
                <a:lnTo>
                  <a:pt x="22860" y="114300"/>
                </a:lnTo>
                <a:lnTo>
                  <a:pt x="22860" y="121920"/>
                </a:lnTo>
                <a:lnTo>
                  <a:pt x="22860" y="129540"/>
                </a:lnTo>
                <a:lnTo>
                  <a:pt x="15240" y="137160"/>
                </a:lnTo>
                <a:lnTo>
                  <a:pt x="15240" y="144780"/>
                </a:lnTo>
                <a:lnTo>
                  <a:pt x="15240" y="160020"/>
                </a:lnTo>
                <a:lnTo>
                  <a:pt x="15240" y="167640"/>
                </a:lnTo>
                <a:lnTo>
                  <a:pt x="15240" y="182880"/>
                </a:lnTo>
                <a:lnTo>
                  <a:pt x="15240" y="190500"/>
                </a:lnTo>
                <a:lnTo>
                  <a:pt x="15240" y="198120"/>
                </a:lnTo>
                <a:lnTo>
                  <a:pt x="15240" y="213360"/>
                </a:lnTo>
                <a:lnTo>
                  <a:pt x="15240" y="220980"/>
                </a:lnTo>
                <a:lnTo>
                  <a:pt x="15240" y="236220"/>
                </a:lnTo>
                <a:lnTo>
                  <a:pt x="15240" y="243840"/>
                </a:lnTo>
                <a:lnTo>
                  <a:pt x="15240" y="251460"/>
                </a:lnTo>
                <a:lnTo>
                  <a:pt x="15240" y="266700"/>
                </a:lnTo>
                <a:lnTo>
                  <a:pt x="15240" y="2743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"/>
          <p:cNvSpPr/>
          <p:nvPr/>
        </p:nvSpPr>
        <p:spPr>
          <a:xfrm>
            <a:off x="1197000" y="1812960"/>
            <a:ext cx="182520" cy="92160"/>
          </a:xfrm>
          <a:custGeom>
            <a:avLst/>
            <a:gdLst>
              <a:gd name="textAreaLeft" fmla="*/ 0 w 182520"/>
              <a:gd name="textAreaRight" fmla="*/ 182880 w 1825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82881" h="91441">
                <a:moveTo>
                  <a:pt x="7620" y="0"/>
                </a:moveTo>
                <a:lnTo>
                  <a:pt x="7620" y="7620"/>
                </a:lnTo>
                <a:lnTo>
                  <a:pt x="7620" y="22860"/>
                </a:lnTo>
                <a:lnTo>
                  <a:pt x="762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7620" y="53340"/>
                </a:lnTo>
                <a:lnTo>
                  <a:pt x="7620" y="60960"/>
                </a:lnTo>
                <a:lnTo>
                  <a:pt x="7620" y="68580"/>
                </a:lnTo>
                <a:lnTo>
                  <a:pt x="0" y="68580"/>
                </a:lnTo>
                <a:lnTo>
                  <a:pt x="0" y="76200"/>
                </a:lnTo>
                <a:lnTo>
                  <a:pt x="0" y="76200"/>
                </a:lnTo>
                <a:lnTo>
                  <a:pt x="0" y="83820"/>
                </a:lnTo>
                <a:lnTo>
                  <a:pt x="7620" y="83820"/>
                </a:lnTo>
                <a:lnTo>
                  <a:pt x="7620" y="91440"/>
                </a:lnTo>
                <a:lnTo>
                  <a:pt x="7620" y="91440"/>
                </a:lnTo>
                <a:lnTo>
                  <a:pt x="7620" y="91440"/>
                </a:lnTo>
                <a:lnTo>
                  <a:pt x="15240" y="91440"/>
                </a:lnTo>
                <a:lnTo>
                  <a:pt x="15240" y="91440"/>
                </a:lnTo>
                <a:lnTo>
                  <a:pt x="22860" y="91440"/>
                </a:lnTo>
                <a:lnTo>
                  <a:pt x="30480" y="91440"/>
                </a:lnTo>
                <a:lnTo>
                  <a:pt x="38100" y="91440"/>
                </a:lnTo>
                <a:lnTo>
                  <a:pt x="45720" y="91440"/>
                </a:lnTo>
                <a:lnTo>
                  <a:pt x="60960" y="83820"/>
                </a:lnTo>
                <a:lnTo>
                  <a:pt x="68580" y="83820"/>
                </a:lnTo>
                <a:lnTo>
                  <a:pt x="83820" y="83820"/>
                </a:lnTo>
                <a:lnTo>
                  <a:pt x="91440" y="83820"/>
                </a:lnTo>
                <a:lnTo>
                  <a:pt x="106680" y="83820"/>
                </a:lnTo>
                <a:lnTo>
                  <a:pt x="121920" y="76200"/>
                </a:lnTo>
                <a:lnTo>
                  <a:pt x="137160" y="76200"/>
                </a:lnTo>
                <a:lnTo>
                  <a:pt x="152400" y="83820"/>
                </a:lnTo>
                <a:lnTo>
                  <a:pt x="160020" y="83820"/>
                </a:lnTo>
                <a:lnTo>
                  <a:pt x="182880" y="83820"/>
                </a:lnTo>
                <a:lnTo>
                  <a:pt x="182880" y="838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5265720" y="3870360"/>
            <a:ext cx="122400" cy="984240"/>
          </a:xfrm>
          <a:custGeom>
            <a:avLst/>
            <a:gdLst>
              <a:gd name="textAreaLeft" fmla="*/ 0 w 122400"/>
              <a:gd name="textAreaRight" fmla="*/ 122760 w 12240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121921" h="982981">
                <a:moveTo>
                  <a:pt x="68580" y="0"/>
                </a:move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7620"/>
                </a:lnTo>
                <a:lnTo>
                  <a:pt x="68580" y="7620"/>
                </a:lnTo>
                <a:lnTo>
                  <a:pt x="68580" y="7620"/>
                </a:lnTo>
                <a:lnTo>
                  <a:pt x="68580" y="7620"/>
                </a:lnTo>
                <a:lnTo>
                  <a:pt x="68580" y="15240"/>
                </a:lnTo>
                <a:lnTo>
                  <a:pt x="60960" y="15240"/>
                </a:lnTo>
                <a:lnTo>
                  <a:pt x="60960" y="15240"/>
                </a:lnTo>
                <a:lnTo>
                  <a:pt x="60960" y="22860"/>
                </a:lnTo>
                <a:lnTo>
                  <a:pt x="60960" y="22860"/>
                </a:lnTo>
                <a:lnTo>
                  <a:pt x="60960" y="30480"/>
                </a:lnTo>
                <a:lnTo>
                  <a:pt x="60960" y="30480"/>
                </a:lnTo>
                <a:lnTo>
                  <a:pt x="60960" y="38100"/>
                </a:lnTo>
                <a:lnTo>
                  <a:pt x="53340" y="45720"/>
                </a:lnTo>
                <a:lnTo>
                  <a:pt x="53340" y="53340"/>
                </a:lnTo>
                <a:lnTo>
                  <a:pt x="53340" y="53340"/>
                </a:lnTo>
                <a:lnTo>
                  <a:pt x="53340" y="60960"/>
                </a:lnTo>
                <a:lnTo>
                  <a:pt x="53340" y="68580"/>
                </a:lnTo>
                <a:lnTo>
                  <a:pt x="45720" y="76200"/>
                </a:lnTo>
                <a:lnTo>
                  <a:pt x="45720" y="76200"/>
                </a:lnTo>
                <a:lnTo>
                  <a:pt x="45720" y="91440"/>
                </a:lnTo>
                <a:lnTo>
                  <a:pt x="38100" y="91440"/>
                </a:lnTo>
                <a:lnTo>
                  <a:pt x="38100" y="106680"/>
                </a:lnTo>
                <a:lnTo>
                  <a:pt x="30480" y="114300"/>
                </a:lnTo>
                <a:lnTo>
                  <a:pt x="30480" y="121920"/>
                </a:lnTo>
                <a:lnTo>
                  <a:pt x="30480" y="137160"/>
                </a:lnTo>
                <a:lnTo>
                  <a:pt x="30480" y="144780"/>
                </a:lnTo>
                <a:lnTo>
                  <a:pt x="22860" y="152400"/>
                </a:lnTo>
                <a:lnTo>
                  <a:pt x="22860" y="167640"/>
                </a:lnTo>
                <a:lnTo>
                  <a:pt x="22860" y="175260"/>
                </a:lnTo>
                <a:lnTo>
                  <a:pt x="22860" y="190500"/>
                </a:lnTo>
                <a:lnTo>
                  <a:pt x="15240" y="205740"/>
                </a:lnTo>
                <a:lnTo>
                  <a:pt x="15240" y="213360"/>
                </a:lnTo>
                <a:lnTo>
                  <a:pt x="15240" y="228600"/>
                </a:lnTo>
                <a:lnTo>
                  <a:pt x="15240" y="243840"/>
                </a:lnTo>
                <a:lnTo>
                  <a:pt x="7620" y="251460"/>
                </a:lnTo>
                <a:lnTo>
                  <a:pt x="7620" y="266700"/>
                </a:lnTo>
                <a:lnTo>
                  <a:pt x="7620" y="281940"/>
                </a:lnTo>
                <a:lnTo>
                  <a:pt x="7620" y="297180"/>
                </a:lnTo>
                <a:lnTo>
                  <a:pt x="7620" y="304800"/>
                </a:lnTo>
                <a:lnTo>
                  <a:pt x="7620" y="320040"/>
                </a:lnTo>
                <a:lnTo>
                  <a:pt x="7620" y="335280"/>
                </a:lnTo>
                <a:lnTo>
                  <a:pt x="7620" y="350520"/>
                </a:lnTo>
                <a:lnTo>
                  <a:pt x="0" y="365760"/>
                </a:lnTo>
                <a:lnTo>
                  <a:pt x="0" y="381000"/>
                </a:lnTo>
                <a:lnTo>
                  <a:pt x="0" y="388620"/>
                </a:lnTo>
                <a:lnTo>
                  <a:pt x="0" y="403860"/>
                </a:lnTo>
                <a:lnTo>
                  <a:pt x="0" y="419100"/>
                </a:lnTo>
                <a:lnTo>
                  <a:pt x="0" y="434340"/>
                </a:lnTo>
                <a:lnTo>
                  <a:pt x="0" y="449580"/>
                </a:lnTo>
                <a:lnTo>
                  <a:pt x="0" y="457200"/>
                </a:lnTo>
                <a:lnTo>
                  <a:pt x="7620" y="472440"/>
                </a:lnTo>
                <a:lnTo>
                  <a:pt x="0" y="487680"/>
                </a:lnTo>
                <a:lnTo>
                  <a:pt x="7620" y="502920"/>
                </a:lnTo>
                <a:lnTo>
                  <a:pt x="7620" y="518160"/>
                </a:lnTo>
                <a:lnTo>
                  <a:pt x="7620" y="525780"/>
                </a:lnTo>
                <a:lnTo>
                  <a:pt x="7620" y="541020"/>
                </a:lnTo>
                <a:lnTo>
                  <a:pt x="7620" y="556260"/>
                </a:lnTo>
                <a:lnTo>
                  <a:pt x="15240" y="571500"/>
                </a:lnTo>
                <a:lnTo>
                  <a:pt x="15240" y="579120"/>
                </a:lnTo>
                <a:lnTo>
                  <a:pt x="15240" y="594360"/>
                </a:lnTo>
                <a:lnTo>
                  <a:pt x="22860" y="609600"/>
                </a:lnTo>
                <a:lnTo>
                  <a:pt x="22860" y="624840"/>
                </a:lnTo>
                <a:lnTo>
                  <a:pt x="30480" y="632460"/>
                </a:lnTo>
                <a:lnTo>
                  <a:pt x="30480" y="647700"/>
                </a:lnTo>
                <a:lnTo>
                  <a:pt x="30480" y="662940"/>
                </a:lnTo>
                <a:lnTo>
                  <a:pt x="38100" y="670560"/>
                </a:lnTo>
                <a:lnTo>
                  <a:pt x="38100" y="685800"/>
                </a:lnTo>
                <a:lnTo>
                  <a:pt x="45720" y="701040"/>
                </a:lnTo>
                <a:lnTo>
                  <a:pt x="45720" y="708660"/>
                </a:lnTo>
                <a:lnTo>
                  <a:pt x="53340" y="723900"/>
                </a:lnTo>
                <a:lnTo>
                  <a:pt x="53340" y="731520"/>
                </a:lnTo>
                <a:lnTo>
                  <a:pt x="53340" y="746760"/>
                </a:lnTo>
                <a:lnTo>
                  <a:pt x="60960" y="754380"/>
                </a:lnTo>
                <a:lnTo>
                  <a:pt x="60960" y="769620"/>
                </a:lnTo>
                <a:lnTo>
                  <a:pt x="60960" y="777240"/>
                </a:lnTo>
                <a:lnTo>
                  <a:pt x="60960" y="792480"/>
                </a:lnTo>
                <a:lnTo>
                  <a:pt x="68580" y="800100"/>
                </a:lnTo>
                <a:lnTo>
                  <a:pt x="68580" y="815340"/>
                </a:lnTo>
                <a:lnTo>
                  <a:pt x="68580" y="822960"/>
                </a:lnTo>
                <a:lnTo>
                  <a:pt x="68580" y="830580"/>
                </a:lnTo>
                <a:lnTo>
                  <a:pt x="76200" y="845820"/>
                </a:lnTo>
                <a:lnTo>
                  <a:pt x="76200" y="853440"/>
                </a:lnTo>
                <a:lnTo>
                  <a:pt x="76200" y="861060"/>
                </a:lnTo>
                <a:lnTo>
                  <a:pt x="83820" y="868680"/>
                </a:lnTo>
                <a:lnTo>
                  <a:pt x="83820" y="883920"/>
                </a:lnTo>
                <a:lnTo>
                  <a:pt x="91440" y="891540"/>
                </a:lnTo>
                <a:lnTo>
                  <a:pt x="91440" y="899160"/>
                </a:lnTo>
                <a:lnTo>
                  <a:pt x="99060" y="906780"/>
                </a:lnTo>
                <a:lnTo>
                  <a:pt x="99060" y="922020"/>
                </a:lnTo>
                <a:lnTo>
                  <a:pt x="99060" y="922020"/>
                </a:lnTo>
                <a:lnTo>
                  <a:pt x="106680" y="937260"/>
                </a:lnTo>
                <a:lnTo>
                  <a:pt x="106680" y="944880"/>
                </a:lnTo>
                <a:lnTo>
                  <a:pt x="114300" y="952500"/>
                </a:lnTo>
                <a:lnTo>
                  <a:pt x="114300" y="960120"/>
                </a:lnTo>
                <a:lnTo>
                  <a:pt x="114300" y="967740"/>
                </a:lnTo>
                <a:lnTo>
                  <a:pt x="121920" y="975360"/>
                </a:lnTo>
                <a:lnTo>
                  <a:pt x="121920" y="982980"/>
                </a:lnTo>
                <a:lnTo>
                  <a:pt x="121920" y="982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4"/>
          <p:cNvSpPr/>
          <p:nvPr/>
        </p:nvSpPr>
        <p:spPr>
          <a:xfrm>
            <a:off x="403200" y="1828800"/>
            <a:ext cx="4762440" cy="131112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1311120"/>
              <a:gd name="textAreaBottom" fmla="*/ 1311480 h 1311120"/>
            </a:gdLst>
            <a:ahLst/>
            <a:rect l="textAreaLeft" t="textAreaTop" r="textAreaRight" b="textAreaBottom"/>
            <a:pathLst>
              <a:path w="4762501" h="1310641">
                <a:moveTo>
                  <a:pt x="190500" y="1310640"/>
                </a:moveTo>
                <a:lnTo>
                  <a:pt x="190500" y="1303020"/>
                </a:lnTo>
                <a:lnTo>
                  <a:pt x="182880" y="1303020"/>
                </a:lnTo>
                <a:lnTo>
                  <a:pt x="167640" y="1303020"/>
                </a:lnTo>
                <a:lnTo>
                  <a:pt x="160020" y="1295400"/>
                </a:lnTo>
                <a:lnTo>
                  <a:pt x="152400" y="1295400"/>
                </a:lnTo>
                <a:lnTo>
                  <a:pt x="144780" y="1287780"/>
                </a:lnTo>
                <a:lnTo>
                  <a:pt x="129540" y="1287780"/>
                </a:lnTo>
                <a:lnTo>
                  <a:pt x="121920" y="1280160"/>
                </a:lnTo>
                <a:lnTo>
                  <a:pt x="114300" y="1280160"/>
                </a:lnTo>
                <a:lnTo>
                  <a:pt x="99060" y="1272540"/>
                </a:lnTo>
                <a:lnTo>
                  <a:pt x="91440" y="1264920"/>
                </a:lnTo>
                <a:lnTo>
                  <a:pt x="76200" y="1257300"/>
                </a:lnTo>
                <a:lnTo>
                  <a:pt x="68580" y="1249680"/>
                </a:lnTo>
                <a:lnTo>
                  <a:pt x="60960" y="1242060"/>
                </a:lnTo>
                <a:lnTo>
                  <a:pt x="53340" y="1226820"/>
                </a:lnTo>
                <a:lnTo>
                  <a:pt x="38100" y="1219200"/>
                </a:lnTo>
                <a:lnTo>
                  <a:pt x="30480" y="1203960"/>
                </a:lnTo>
                <a:lnTo>
                  <a:pt x="22860" y="1196340"/>
                </a:lnTo>
                <a:lnTo>
                  <a:pt x="15240" y="1181100"/>
                </a:lnTo>
                <a:lnTo>
                  <a:pt x="15240" y="1165860"/>
                </a:lnTo>
                <a:lnTo>
                  <a:pt x="7620" y="1150620"/>
                </a:lnTo>
                <a:lnTo>
                  <a:pt x="7620" y="1135380"/>
                </a:lnTo>
                <a:lnTo>
                  <a:pt x="0" y="1120140"/>
                </a:lnTo>
                <a:lnTo>
                  <a:pt x="0" y="1104900"/>
                </a:lnTo>
                <a:lnTo>
                  <a:pt x="0" y="1082040"/>
                </a:lnTo>
                <a:lnTo>
                  <a:pt x="7620" y="1066800"/>
                </a:lnTo>
                <a:lnTo>
                  <a:pt x="7620" y="1051560"/>
                </a:lnTo>
                <a:lnTo>
                  <a:pt x="15240" y="1028700"/>
                </a:lnTo>
                <a:lnTo>
                  <a:pt x="22860" y="1013460"/>
                </a:lnTo>
                <a:lnTo>
                  <a:pt x="30480" y="990600"/>
                </a:lnTo>
                <a:lnTo>
                  <a:pt x="38100" y="975360"/>
                </a:lnTo>
                <a:lnTo>
                  <a:pt x="53340" y="952500"/>
                </a:lnTo>
                <a:lnTo>
                  <a:pt x="68580" y="937260"/>
                </a:lnTo>
                <a:lnTo>
                  <a:pt x="83820" y="914400"/>
                </a:lnTo>
                <a:lnTo>
                  <a:pt x="99060" y="899160"/>
                </a:lnTo>
                <a:lnTo>
                  <a:pt x="114300" y="876300"/>
                </a:lnTo>
                <a:lnTo>
                  <a:pt x="137160" y="853440"/>
                </a:lnTo>
                <a:lnTo>
                  <a:pt x="160020" y="838200"/>
                </a:lnTo>
                <a:lnTo>
                  <a:pt x="182880" y="822960"/>
                </a:lnTo>
                <a:lnTo>
                  <a:pt x="205740" y="800100"/>
                </a:lnTo>
                <a:lnTo>
                  <a:pt x="228600" y="784860"/>
                </a:lnTo>
                <a:lnTo>
                  <a:pt x="259080" y="769620"/>
                </a:lnTo>
                <a:lnTo>
                  <a:pt x="281940" y="746760"/>
                </a:lnTo>
                <a:lnTo>
                  <a:pt x="312420" y="731520"/>
                </a:lnTo>
                <a:lnTo>
                  <a:pt x="342900" y="716280"/>
                </a:lnTo>
                <a:lnTo>
                  <a:pt x="373380" y="701040"/>
                </a:lnTo>
                <a:lnTo>
                  <a:pt x="411480" y="685800"/>
                </a:lnTo>
                <a:lnTo>
                  <a:pt x="441960" y="670560"/>
                </a:lnTo>
                <a:lnTo>
                  <a:pt x="472440" y="662940"/>
                </a:lnTo>
                <a:lnTo>
                  <a:pt x="510540" y="647700"/>
                </a:lnTo>
                <a:lnTo>
                  <a:pt x="541020" y="632460"/>
                </a:lnTo>
                <a:lnTo>
                  <a:pt x="579120" y="624840"/>
                </a:lnTo>
                <a:lnTo>
                  <a:pt x="617220" y="609600"/>
                </a:lnTo>
                <a:lnTo>
                  <a:pt x="655320" y="601980"/>
                </a:lnTo>
                <a:lnTo>
                  <a:pt x="693420" y="594360"/>
                </a:lnTo>
                <a:lnTo>
                  <a:pt x="731520" y="579120"/>
                </a:lnTo>
                <a:lnTo>
                  <a:pt x="769620" y="571500"/>
                </a:lnTo>
                <a:lnTo>
                  <a:pt x="807720" y="563880"/>
                </a:lnTo>
                <a:lnTo>
                  <a:pt x="845820" y="556260"/>
                </a:lnTo>
                <a:lnTo>
                  <a:pt x="891540" y="556260"/>
                </a:lnTo>
                <a:lnTo>
                  <a:pt x="929640" y="548640"/>
                </a:lnTo>
                <a:lnTo>
                  <a:pt x="967740" y="541020"/>
                </a:lnTo>
                <a:lnTo>
                  <a:pt x="1013460" y="533400"/>
                </a:lnTo>
                <a:lnTo>
                  <a:pt x="1051560" y="525780"/>
                </a:lnTo>
                <a:lnTo>
                  <a:pt x="1089660" y="525780"/>
                </a:lnTo>
                <a:lnTo>
                  <a:pt x="1135380" y="518160"/>
                </a:lnTo>
                <a:lnTo>
                  <a:pt x="1173480" y="518160"/>
                </a:lnTo>
                <a:lnTo>
                  <a:pt x="1219200" y="510540"/>
                </a:lnTo>
                <a:lnTo>
                  <a:pt x="1264920" y="510540"/>
                </a:lnTo>
                <a:lnTo>
                  <a:pt x="1303020" y="502920"/>
                </a:lnTo>
                <a:lnTo>
                  <a:pt x="1348740" y="502920"/>
                </a:lnTo>
                <a:lnTo>
                  <a:pt x="1394460" y="502920"/>
                </a:lnTo>
                <a:lnTo>
                  <a:pt x="1440180" y="502920"/>
                </a:lnTo>
                <a:lnTo>
                  <a:pt x="1485900" y="502920"/>
                </a:lnTo>
                <a:lnTo>
                  <a:pt x="1531620" y="495300"/>
                </a:lnTo>
                <a:lnTo>
                  <a:pt x="1577340" y="495300"/>
                </a:lnTo>
                <a:lnTo>
                  <a:pt x="1623060" y="495300"/>
                </a:lnTo>
                <a:lnTo>
                  <a:pt x="1668780" y="495300"/>
                </a:lnTo>
                <a:lnTo>
                  <a:pt x="1714500" y="502920"/>
                </a:lnTo>
                <a:lnTo>
                  <a:pt x="1760220" y="502920"/>
                </a:lnTo>
                <a:lnTo>
                  <a:pt x="1805940" y="502920"/>
                </a:lnTo>
                <a:lnTo>
                  <a:pt x="1859280" y="502920"/>
                </a:lnTo>
                <a:lnTo>
                  <a:pt x="1905000" y="502920"/>
                </a:lnTo>
                <a:lnTo>
                  <a:pt x="1950720" y="502920"/>
                </a:lnTo>
                <a:lnTo>
                  <a:pt x="1996440" y="510540"/>
                </a:lnTo>
                <a:lnTo>
                  <a:pt x="2042160" y="510540"/>
                </a:lnTo>
                <a:lnTo>
                  <a:pt x="2087880" y="510540"/>
                </a:lnTo>
                <a:lnTo>
                  <a:pt x="2133600" y="510540"/>
                </a:lnTo>
                <a:lnTo>
                  <a:pt x="2186940" y="518160"/>
                </a:lnTo>
                <a:lnTo>
                  <a:pt x="2232660" y="518160"/>
                </a:lnTo>
                <a:lnTo>
                  <a:pt x="2278380" y="518160"/>
                </a:lnTo>
                <a:lnTo>
                  <a:pt x="2324100" y="525780"/>
                </a:lnTo>
                <a:lnTo>
                  <a:pt x="2369820" y="525780"/>
                </a:lnTo>
                <a:lnTo>
                  <a:pt x="2415540" y="525780"/>
                </a:lnTo>
                <a:lnTo>
                  <a:pt x="2461260" y="533400"/>
                </a:lnTo>
                <a:lnTo>
                  <a:pt x="2514600" y="533400"/>
                </a:lnTo>
                <a:lnTo>
                  <a:pt x="2560320" y="541020"/>
                </a:lnTo>
                <a:lnTo>
                  <a:pt x="2613660" y="541020"/>
                </a:lnTo>
                <a:lnTo>
                  <a:pt x="2659380" y="541020"/>
                </a:lnTo>
                <a:lnTo>
                  <a:pt x="2705100" y="548640"/>
                </a:lnTo>
                <a:lnTo>
                  <a:pt x="2758440" y="548640"/>
                </a:lnTo>
                <a:lnTo>
                  <a:pt x="2804160" y="548640"/>
                </a:lnTo>
                <a:lnTo>
                  <a:pt x="2857500" y="548640"/>
                </a:lnTo>
                <a:lnTo>
                  <a:pt x="2910840" y="556260"/>
                </a:lnTo>
                <a:lnTo>
                  <a:pt x="2956560" y="556260"/>
                </a:lnTo>
                <a:lnTo>
                  <a:pt x="3009900" y="556260"/>
                </a:lnTo>
                <a:lnTo>
                  <a:pt x="3055620" y="556260"/>
                </a:lnTo>
                <a:lnTo>
                  <a:pt x="3101340" y="556260"/>
                </a:lnTo>
                <a:lnTo>
                  <a:pt x="3154680" y="563880"/>
                </a:lnTo>
                <a:lnTo>
                  <a:pt x="3200400" y="563880"/>
                </a:lnTo>
                <a:lnTo>
                  <a:pt x="3253740" y="563880"/>
                </a:lnTo>
                <a:lnTo>
                  <a:pt x="3299460" y="563880"/>
                </a:lnTo>
                <a:lnTo>
                  <a:pt x="3345180" y="563880"/>
                </a:lnTo>
                <a:lnTo>
                  <a:pt x="3390900" y="563880"/>
                </a:lnTo>
                <a:lnTo>
                  <a:pt x="3436620" y="563880"/>
                </a:lnTo>
                <a:lnTo>
                  <a:pt x="3489960" y="556260"/>
                </a:lnTo>
                <a:lnTo>
                  <a:pt x="3535680" y="556260"/>
                </a:lnTo>
                <a:lnTo>
                  <a:pt x="3581400" y="556260"/>
                </a:lnTo>
                <a:lnTo>
                  <a:pt x="3627120" y="556260"/>
                </a:lnTo>
                <a:lnTo>
                  <a:pt x="3665220" y="556260"/>
                </a:lnTo>
                <a:lnTo>
                  <a:pt x="3710940" y="548640"/>
                </a:lnTo>
                <a:lnTo>
                  <a:pt x="3756660" y="548640"/>
                </a:lnTo>
                <a:lnTo>
                  <a:pt x="3802380" y="541020"/>
                </a:lnTo>
                <a:lnTo>
                  <a:pt x="3840480" y="533400"/>
                </a:lnTo>
                <a:lnTo>
                  <a:pt x="3886200" y="533400"/>
                </a:lnTo>
                <a:lnTo>
                  <a:pt x="3924300" y="525780"/>
                </a:lnTo>
                <a:lnTo>
                  <a:pt x="3962400" y="518160"/>
                </a:lnTo>
                <a:lnTo>
                  <a:pt x="4000500" y="518160"/>
                </a:lnTo>
                <a:lnTo>
                  <a:pt x="4038600" y="510540"/>
                </a:lnTo>
                <a:lnTo>
                  <a:pt x="4076700" y="502920"/>
                </a:lnTo>
                <a:lnTo>
                  <a:pt x="4122420" y="495300"/>
                </a:lnTo>
                <a:lnTo>
                  <a:pt x="4152900" y="487680"/>
                </a:lnTo>
                <a:lnTo>
                  <a:pt x="4191000" y="480060"/>
                </a:lnTo>
                <a:lnTo>
                  <a:pt x="4229100" y="472440"/>
                </a:lnTo>
                <a:lnTo>
                  <a:pt x="4267200" y="464820"/>
                </a:lnTo>
                <a:lnTo>
                  <a:pt x="4297680" y="449580"/>
                </a:lnTo>
                <a:lnTo>
                  <a:pt x="4328160" y="441960"/>
                </a:lnTo>
                <a:lnTo>
                  <a:pt x="4358640" y="434340"/>
                </a:lnTo>
                <a:lnTo>
                  <a:pt x="4389120" y="419100"/>
                </a:lnTo>
                <a:lnTo>
                  <a:pt x="4419600" y="411480"/>
                </a:lnTo>
                <a:lnTo>
                  <a:pt x="4450080" y="396240"/>
                </a:lnTo>
                <a:lnTo>
                  <a:pt x="4480560" y="388620"/>
                </a:lnTo>
                <a:lnTo>
                  <a:pt x="4503420" y="373380"/>
                </a:lnTo>
                <a:lnTo>
                  <a:pt x="4526280" y="365760"/>
                </a:lnTo>
                <a:lnTo>
                  <a:pt x="4549140" y="350520"/>
                </a:lnTo>
                <a:lnTo>
                  <a:pt x="4572000" y="335280"/>
                </a:lnTo>
                <a:lnTo>
                  <a:pt x="4594860" y="320040"/>
                </a:lnTo>
                <a:lnTo>
                  <a:pt x="4610100" y="304800"/>
                </a:lnTo>
                <a:lnTo>
                  <a:pt x="4625340" y="289560"/>
                </a:lnTo>
                <a:lnTo>
                  <a:pt x="4640580" y="274320"/>
                </a:lnTo>
                <a:lnTo>
                  <a:pt x="4655820" y="251460"/>
                </a:lnTo>
                <a:lnTo>
                  <a:pt x="4663440" y="243840"/>
                </a:lnTo>
                <a:lnTo>
                  <a:pt x="4678680" y="228600"/>
                </a:lnTo>
                <a:lnTo>
                  <a:pt x="4686300" y="205740"/>
                </a:lnTo>
                <a:lnTo>
                  <a:pt x="4693920" y="190500"/>
                </a:lnTo>
                <a:lnTo>
                  <a:pt x="4709160" y="175260"/>
                </a:lnTo>
                <a:lnTo>
                  <a:pt x="4716780" y="160020"/>
                </a:lnTo>
                <a:lnTo>
                  <a:pt x="4724400" y="144780"/>
                </a:lnTo>
                <a:lnTo>
                  <a:pt x="4732020" y="129540"/>
                </a:lnTo>
                <a:lnTo>
                  <a:pt x="4732020" y="114300"/>
                </a:lnTo>
                <a:lnTo>
                  <a:pt x="4739640" y="106680"/>
                </a:lnTo>
                <a:lnTo>
                  <a:pt x="4739640" y="91440"/>
                </a:lnTo>
                <a:lnTo>
                  <a:pt x="4747260" y="76200"/>
                </a:lnTo>
                <a:lnTo>
                  <a:pt x="4747260" y="68580"/>
                </a:lnTo>
                <a:lnTo>
                  <a:pt x="4747260" y="53340"/>
                </a:lnTo>
                <a:lnTo>
                  <a:pt x="4754880" y="45720"/>
                </a:lnTo>
                <a:lnTo>
                  <a:pt x="4754880" y="38100"/>
                </a:lnTo>
                <a:lnTo>
                  <a:pt x="4754880" y="30480"/>
                </a:lnTo>
                <a:lnTo>
                  <a:pt x="4762500" y="22860"/>
                </a:lnTo>
                <a:lnTo>
                  <a:pt x="4762500" y="15240"/>
                </a:lnTo>
                <a:lnTo>
                  <a:pt x="4762500" y="15240"/>
                </a:lnTo>
                <a:lnTo>
                  <a:pt x="4762500" y="7620"/>
                </a:lnTo>
                <a:lnTo>
                  <a:pt x="4762500" y="7620"/>
                </a:lnTo>
                <a:lnTo>
                  <a:pt x="4762500" y="7620"/>
                </a:lnTo>
                <a:lnTo>
                  <a:pt x="4762500" y="0"/>
                </a:lnTo>
                <a:lnTo>
                  <a:pt x="4762500" y="0"/>
                </a:lnTo>
                <a:lnTo>
                  <a:pt x="4762500" y="7620"/>
                </a:lnTo>
                <a:lnTo>
                  <a:pt x="4762500" y="7620"/>
                </a:lnTo>
                <a:lnTo>
                  <a:pt x="4762500" y="7620"/>
                </a:lnTo>
                <a:lnTo>
                  <a:pt x="4762500" y="76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"/>
          <p:cNvSpPr/>
          <p:nvPr/>
        </p:nvSpPr>
        <p:spPr>
          <a:xfrm>
            <a:off x="5051520" y="1722600"/>
            <a:ext cx="252360" cy="136440"/>
          </a:xfrm>
          <a:custGeom>
            <a:avLst/>
            <a:gdLst>
              <a:gd name="textAreaLeft" fmla="*/ 0 w 252360"/>
              <a:gd name="textAreaRight" fmla="*/ 252720 w 2523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51461" h="137161">
                <a:moveTo>
                  <a:pt x="0" y="137160"/>
                </a:moveTo>
                <a:lnTo>
                  <a:pt x="0" y="129540"/>
                </a:lnTo>
                <a:lnTo>
                  <a:pt x="7620" y="129540"/>
                </a:lnTo>
                <a:lnTo>
                  <a:pt x="7620" y="121920"/>
                </a:lnTo>
                <a:lnTo>
                  <a:pt x="15240" y="114300"/>
                </a:lnTo>
                <a:lnTo>
                  <a:pt x="15240" y="114300"/>
                </a:lnTo>
                <a:lnTo>
                  <a:pt x="15240" y="106680"/>
                </a:lnTo>
                <a:lnTo>
                  <a:pt x="22860" y="99060"/>
                </a:lnTo>
                <a:lnTo>
                  <a:pt x="30480" y="91440"/>
                </a:lnTo>
                <a:lnTo>
                  <a:pt x="30480" y="83820"/>
                </a:lnTo>
                <a:lnTo>
                  <a:pt x="38100" y="76200"/>
                </a:lnTo>
                <a:lnTo>
                  <a:pt x="38100" y="68580"/>
                </a:lnTo>
                <a:lnTo>
                  <a:pt x="45720" y="68580"/>
                </a:lnTo>
                <a:lnTo>
                  <a:pt x="53340" y="60960"/>
                </a:lnTo>
                <a:lnTo>
                  <a:pt x="60960" y="53340"/>
                </a:lnTo>
                <a:lnTo>
                  <a:pt x="68580" y="45720"/>
                </a:lnTo>
                <a:lnTo>
                  <a:pt x="68580" y="38100"/>
                </a:lnTo>
                <a:lnTo>
                  <a:pt x="76200" y="30480"/>
                </a:lnTo>
                <a:lnTo>
                  <a:pt x="83820" y="22860"/>
                </a:lnTo>
                <a:lnTo>
                  <a:pt x="91440" y="15240"/>
                </a:lnTo>
                <a:lnTo>
                  <a:pt x="99060" y="15240"/>
                </a:lnTo>
                <a:lnTo>
                  <a:pt x="106680" y="7620"/>
                </a:lnTo>
                <a:lnTo>
                  <a:pt x="114300" y="7620"/>
                </a:lnTo>
                <a:lnTo>
                  <a:pt x="121920" y="7620"/>
                </a:lnTo>
                <a:lnTo>
                  <a:pt x="129540" y="0"/>
                </a:lnTo>
                <a:lnTo>
                  <a:pt x="137160" y="0"/>
                </a:lnTo>
                <a:lnTo>
                  <a:pt x="144780" y="7620"/>
                </a:lnTo>
                <a:lnTo>
                  <a:pt x="152400" y="7620"/>
                </a:lnTo>
                <a:lnTo>
                  <a:pt x="160020" y="7620"/>
                </a:lnTo>
                <a:lnTo>
                  <a:pt x="167640" y="15240"/>
                </a:lnTo>
                <a:lnTo>
                  <a:pt x="167640" y="15240"/>
                </a:lnTo>
                <a:lnTo>
                  <a:pt x="175260" y="22860"/>
                </a:lnTo>
                <a:lnTo>
                  <a:pt x="182880" y="30480"/>
                </a:lnTo>
                <a:lnTo>
                  <a:pt x="190500" y="38100"/>
                </a:lnTo>
                <a:lnTo>
                  <a:pt x="198120" y="45720"/>
                </a:lnTo>
                <a:lnTo>
                  <a:pt x="205740" y="45720"/>
                </a:lnTo>
                <a:lnTo>
                  <a:pt x="213360" y="53340"/>
                </a:lnTo>
                <a:lnTo>
                  <a:pt x="220980" y="60960"/>
                </a:lnTo>
                <a:lnTo>
                  <a:pt x="228600" y="60960"/>
                </a:lnTo>
                <a:lnTo>
                  <a:pt x="236220" y="68580"/>
                </a:lnTo>
                <a:lnTo>
                  <a:pt x="236220" y="68580"/>
                </a:lnTo>
                <a:lnTo>
                  <a:pt x="243840" y="76200"/>
                </a:lnTo>
                <a:lnTo>
                  <a:pt x="243840" y="76200"/>
                </a:lnTo>
                <a:lnTo>
                  <a:pt x="251460" y="83820"/>
                </a:lnTo>
                <a:lnTo>
                  <a:pt x="251460" y="83820"/>
                </a:lnTo>
                <a:lnTo>
                  <a:pt x="251460" y="83820"/>
                </a:lnTo>
                <a:lnTo>
                  <a:pt x="251460" y="83820"/>
                </a:lnTo>
                <a:lnTo>
                  <a:pt x="251460" y="83820"/>
                </a:lnTo>
                <a:lnTo>
                  <a:pt x="243840" y="83820"/>
                </a:lnTo>
                <a:lnTo>
                  <a:pt x="236220" y="83820"/>
                </a:lnTo>
                <a:lnTo>
                  <a:pt x="228600" y="83820"/>
                </a:lnTo>
                <a:lnTo>
                  <a:pt x="213360" y="83820"/>
                </a:lnTo>
                <a:lnTo>
                  <a:pt x="190500" y="83820"/>
                </a:lnTo>
                <a:lnTo>
                  <a:pt x="167640" y="83820"/>
                </a:lnTo>
                <a:lnTo>
                  <a:pt x="144780" y="83820"/>
                </a:lnTo>
                <a:lnTo>
                  <a:pt x="121920" y="83820"/>
                </a:lnTo>
                <a:lnTo>
                  <a:pt x="99060" y="83820"/>
                </a:lnTo>
                <a:lnTo>
                  <a:pt x="76200" y="83820"/>
                </a:lnTo>
                <a:lnTo>
                  <a:pt x="60960" y="83820"/>
                </a:lnTo>
                <a:lnTo>
                  <a:pt x="38100" y="83820"/>
                </a:lnTo>
                <a:lnTo>
                  <a:pt x="30480" y="83820"/>
                </a:lnTo>
                <a:lnTo>
                  <a:pt x="22860" y="91440"/>
                </a:lnTo>
                <a:lnTo>
                  <a:pt x="7620" y="91440"/>
                </a:lnTo>
                <a:lnTo>
                  <a:pt x="0" y="99060"/>
                </a:lnTo>
                <a:lnTo>
                  <a:pt x="0" y="99060"/>
                </a:lnTo>
                <a:lnTo>
                  <a:pt x="0" y="106680"/>
                </a:lnTo>
                <a:lnTo>
                  <a:pt x="0" y="1066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2560" y="132840"/>
            <a:ext cx="8229600" cy="1752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…Thm 11 – 11 Continues)  The measure of 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med by 2 lines that intersect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utsid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ircle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095560" y="117936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½(x - 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486320" y="22557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 flipH="1" flipV="1">
            <a:off x="5029200" y="1722240"/>
            <a:ext cx="385920" cy="6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2324160" y="2252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8"/>
          <p:cNvSpPr/>
          <p:nvPr/>
        </p:nvSpPr>
        <p:spPr>
          <a:xfrm flipV="1">
            <a:off x="3092400" y="172224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9"/>
          <p:cNvSpPr/>
          <p:nvPr/>
        </p:nvSpPr>
        <p:spPr>
          <a:xfrm>
            <a:off x="990720" y="4114800"/>
            <a:ext cx="2286000" cy="236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0"/>
          <p:cNvSpPr/>
          <p:nvPr/>
        </p:nvSpPr>
        <p:spPr>
          <a:xfrm>
            <a:off x="2057400" y="52578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1"/>
          <p:cNvSpPr/>
          <p:nvPr/>
        </p:nvSpPr>
        <p:spPr>
          <a:xfrm flipH="1">
            <a:off x="1066320" y="3352680"/>
            <a:ext cx="129564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1752480" y="3505320"/>
            <a:ext cx="1752840" cy="2361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2209680" y="64008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1905120" y="4114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1905120" y="34131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7"/>
          <p:cNvSpPr/>
          <p:nvPr/>
        </p:nvSpPr>
        <p:spPr>
          <a:xfrm>
            <a:off x="3809880" y="4267080"/>
            <a:ext cx="2286000" cy="236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8"/>
          <p:cNvSpPr/>
          <p:nvPr/>
        </p:nvSpPr>
        <p:spPr>
          <a:xfrm>
            <a:off x="4876920" y="541008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9"/>
          <p:cNvSpPr/>
          <p:nvPr/>
        </p:nvSpPr>
        <p:spPr>
          <a:xfrm flipH="1">
            <a:off x="3657240" y="3962520"/>
            <a:ext cx="304920" cy="2895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0"/>
          <p:cNvSpPr/>
          <p:nvPr/>
        </p:nvSpPr>
        <p:spPr>
          <a:xfrm>
            <a:off x="3429000" y="4267080"/>
            <a:ext cx="2895480" cy="1752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1"/>
          <p:cNvSpPr/>
          <p:nvPr/>
        </p:nvSpPr>
        <p:spPr>
          <a:xfrm>
            <a:off x="5029200" y="6553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2"/>
          <p:cNvSpPr/>
          <p:nvPr/>
        </p:nvSpPr>
        <p:spPr>
          <a:xfrm>
            <a:off x="3886200" y="4800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3581280" y="40989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4"/>
          <p:cNvSpPr/>
          <p:nvPr/>
        </p:nvSpPr>
        <p:spPr>
          <a:xfrm>
            <a:off x="0" y="3657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ec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5"/>
          <p:cNvSpPr/>
          <p:nvPr/>
        </p:nvSpPr>
        <p:spPr>
          <a:xfrm>
            <a:off x="6705720" y="3641760"/>
            <a:ext cx="2286000" cy="236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6"/>
          <p:cNvSpPr/>
          <p:nvPr/>
        </p:nvSpPr>
        <p:spPr>
          <a:xfrm>
            <a:off x="7772400" y="478476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7"/>
          <p:cNvSpPr/>
          <p:nvPr/>
        </p:nvSpPr>
        <p:spPr>
          <a:xfrm>
            <a:off x="6553080" y="2955960"/>
            <a:ext cx="22860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8"/>
          <p:cNvSpPr/>
          <p:nvPr/>
        </p:nvSpPr>
        <p:spPr>
          <a:xfrm>
            <a:off x="6248520" y="348948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8534520" y="56228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7010280" y="3854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1"/>
          <p:cNvSpPr/>
          <p:nvPr/>
        </p:nvSpPr>
        <p:spPr>
          <a:xfrm>
            <a:off x="6324480" y="31687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2"/>
          <p:cNvSpPr/>
          <p:nvPr/>
        </p:nvSpPr>
        <p:spPr>
          <a:xfrm>
            <a:off x="3352680" y="3581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gent &amp; a Se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3"/>
          <p:cNvSpPr/>
          <p:nvPr/>
        </p:nvSpPr>
        <p:spPr>
          <a:xfrm>
            <a:off x="7086600" y="6324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Tan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4"/>
          <p:cNvSpPr/>
          <p:nvPr/>
        </p:nvSpPr>
        <p:spPr>
          <a:xfrm>
            <a:off x="152280" y="2438280"/>
            <a:ext cx="15624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"/>
          <p:cNvSpPr/>
          <p:nvPr/>
        </p:nvSpPr>
        <p:spPr>
          <a:xfrm>
            <a:off x="4282920" y="639720"/>
            <a:ext cx="3146760" cy="549360"/>
          </a:xfrm>
          <a:custGeom>
            <a:avLst/>
            <a:gdLst>
              <a:gd name="textAreaLeft" fmla="*/ 0 w 3146760"/>
              <a:gd name="textAreaRight" fmla="*/ 3147120 w 314676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3147061" h="548641">
                <a:moveTo>
                  <a:pt x="205740" y="472440"/>
                </a:moveTo>
                <a:lnTo>
                  <a:pt x="198120" y="472440"/>
                </a:lnTo>
                <a:lnTo>
                  <a:pt x="198120" y="472440"/>
                </a:lnTo>
                <a:lnTo>
                  <a:pt x="198120" y="472440"/>
                </a:lnTo>
                <a:lnTo>
                  <a:pt x="198120" y="472440"/>
                </a:lnTo>
                <a:lnTo>
                  <a:pt x="198120" y="472440"/>
                </a:lnTo>
                <a:lnTo>
                  <a:pt x="205740" y="472440"/>
                </a:lnTo>
                <a:lnTo>
                  <a:pt x="205740" y="472440"/>
                </a:lnTo>
                <a:lnTo>
                  <a:pt x="213360" y="480060"/>
                </a:lnTo>
                <a:lnTo>
                  <a:pt x="220980" y="480060"/>
                </a:lnTo>
                <a:lnTo>
                  <a:pt x="228600" y="480060"/>
                </a:lnTo>
                <a:lnTo>
                  <a:pt x="243840" y="487680"/>
                </a:lnTo>
                <a:lnTo>
                  <a:pt x="259080" y="487680"/>
                </a:lnTo>
                <a:lnTo>
                  <a:pt x="274320" y="487680"/>
                </a:lnTo>
                <a:lnTo>
                  <a:pt x="289560" y="487680"/>
                </a:lnTo>
                <a:lnTo>
                  <a:pt x="312420" y="495300"/>
                </a:lnTo>
                <a:lnTo>
                  <a:pt x="327660" y="495300"/>
                </a:lnTo>
                <a:lnTo>
                  <a:pt x="358140" y="495300"/>
                </a:lnTo>
                <a:lnTo>
                  <a:pt x="381000" y="495300"/>
                </a:lnTo>
                <a:lnTo>
                  <a:pt x="403860" y="495300"/>
                </a:lnTo>
                <a:lnTo>
                  <a:pt x="434340" y="495300"/>
                </a:lnTo>
                <a:lnTo>
                  <a:pt x="457200" y="495300"/>
                </a:lnTo>
                <a:lnTo>
                  <a:pt x="495300" y="495300"/>
                </a:lnTo>
                <a:lnTo>
                  <a:pt x="525780" y="487680"/>
                </a:lnTo>
                <a:lnTo>
                  <a:pt x="563880" y="487680"/>
                </a:lnTo>
                <a:lnTo>
                  <a:pt x="601980" y="487680"/>
                </a:lnTo>
                <a:lnTo>
                  <a:pt x="640080" y="487680"/>
                </a:lnTo>
                <a:lnTo>
                  <a:pt x="670560" y="487680"/>
                </a:lnTo>
                <a:lnTo>
                  <a:pt x="716280" y="487680"/>
                </a:lnTo>
                <a:lnTo>
                  <a:pt x="754380" y="487680"/>
                </a:lnTo>
                <a:lnTo>
                  <a:pt x="800100" y="487680"/>
                </a:lnTo>
                <a:lnTo>
                  <a:pt x="838200" y="480060"/>
                </a:lnTo>
                <a:lnTo>
                  <a:pt x="883920" y="480060"/>
                </a:lnTo>
                <a:lnTo>
                  <a:pt x="929640" y="480060"/>
                </a:lnTo>
                <a:lnTo>
                  <a:pt x="975360" y="480060"/>
                </a:lnTo>
                <a:lnTo>
                  <a:pt x="1021080" y="480060"/>
                </a:lnTo>
                <a:lnTo>
                  <a:pt x="1074420" y="480060"/>
                </a:lnTo>
                <a:lnTo>
                  <a:pt x="1120140" y="480060"/>
                </a:lnTo>
                <a:lnTo>
                  <a:pt x="1165860" y="480060"/>
                </a:lnTo>
                <a:lnTo>
                  <a:pt x="1211580" y="487680"/>
                </a:lnTo>
                <a:lnTo>
                  <a:pt x="1264920" y="487680"/>
                </a:lnTo>
                <a:lnTo>
                  <a:pt x="1318260" y="487680"/>
                </a:lnTo>
                <a:lnTo>
                  <a:pt x="1371600" y="487680"/>
                </a:lnTo>
                <a:lnTo>
                  <a:pt x="1417320" y="487680"/>
                </a:lnTo>
                <a:lnTo>
                  <a:pt x="1470660" y="487680"/>
                </a:lnTo>
                <a:lnTo>
                  <a:pt x="1516380" y="495300"/>
                </a:lnTo>
                <a:lnTo>
                  <a:pt x="1569720" y="495300"/>
                </a:lnTo>
                <a:lnTo>
                  <a:pt x="1623060" y="495300"/>
                </a:lnTo>
                <a:lnTo>
                  <a:pt x="1668780" y="495300"/>
                </a:lnTo>
                <a:lnTo>
                  <a:pt x="1722120" y="502920"/>
                </a:lnTo>
                <a:lnTo>
                  <a:pt x="1775460" y="502920"/>
                </a:lnTo>
                <a:lnTo>
                  <a:pt x="1828800" y="502920"/>
                </a:lnTo>
                <a:lnTo>
                  <a:pt x="1882140" y="502920"/>
                </a:lnTo>
                <a:lnTo>
                  <a:pt x="1927860" y="510540"/>
                </a:lnTo>
                <a:lnTo>
                  <a:pt x="1981200" y="510540"/>
                </a:lnTo>
                <a:lnTo>
                  <a:pt x="2026920" y="510540"/>
                </a:lnTo>
                <a:lnTo>
                  <a:pt x="2072640" y="518160"/>
                </a:lnTo>
                <a:lnTo>
                  <a:pt x="2125980" y="518160"/>
                </a:lnTo>
                <a:lnTo>
                  <a:pt x="2171700" y="525780"/>
                </a:lnTo>
                <a:lnTo>
                  <a:pt x="2217420" y="525780"/>
                </a:lnTo>
                <a:lnTo>
                  <a:pt x="2270760" y="525780"/>
                </a:lnTo>
                <a:lnTo>
                  <a:pt x="2316480" y="533400"/>
                </a:lnTo>
                <a:lnTo>
                  <a:pt x="2362200" y="533400"/>
                </a:lnTo>
                <a:lnTo>
                  <a:pt x="2407921" y="533400"/>
                </a:lnTo>
                <a:lnTo>
                  <a:pt x="2446021" y="541020"/>
                </a:lnTo>
                <a:lnTo>
                  <a:pt x="2484121" y="541020"/>
                </a:lnTo>
                <a:lnTo>
                  <a:pt x="2529840" y="548640"/>
                </a:lnTo>
                <a:lnTo>
                  <a:pt x="2567940" y="548640"/>
                </a:lnTo>
                <a:lnTo>
                  <a:pt x="2606040" y="548640"/>
                </a:lnTo>
                <a:lnTo>
                  <a:pt x="2651760" y="548640"/>
                </a:lnTo>
                <a:lnTo>
                  <a:pt x="2682240" y="548640"/>
                </a:lnTo>
                <a:lnTo>
                  <a:pt x="2720340" y="548640"/>
                </a:lnTo>
                <a:lnTo>
                  <a:pt x="2758440" y="548640"/>
                </a:lnTo>
                <a:lnTo>
                  <a:pt x="2788921" y="548640"/>
                </a:lnTo>
                <a:lnTo>
                  <a:pt x="2819400" y="548640"/>
                </a:lnTo>
                <a:lnTo>
                  <a:pt x="2849880" y="548640"/>
                </a:lnTo>
                <a:lnTo>
                  <a:pt x="2880360" y="541020"/>
                </a:lnTo>
                <a:lnTo>
                  <a:pt x="2910840" y="533400"/>
                </a:lnTo>
                <a:lnTo>
                  <a:pt x="2941321" y="533400"/>
                </a:lnTo>
                <a:lnTo>
                  <a:pt x="2964180" y="525780"/>
                </a:lnTo>
                <a:lnTo>
                  <a:pt x="2987040" y="518160"/>
                </a:lnTo>
                <a:lnTo>
                  <a:pt x="3009900" y="510540"/>
                </a:lnTo>
                <a:lnTo>
                  <a:pt x="3032760" y="502920"/>
                </a:lnTo>
                <a:lnTo>
                  <a:pt x="3055621" y="487680"/>
                </a:lnTo>
                <a:lnTo>
                  <a:pt x="3070860" y="480060"/>
                </a:lnTo>
                <a:lnTo>
                  <a:pt x="3093721" y="464820"/>
                </a:lnTo>
                <a:lnTo>
                  <a:pt x="3101340" y="449580"/>
                </a:lnTo>
                <a:lnTo>
                  <a:pt x="3116580" y="441960"/>
                </a:lnTo>
                <a:lnTo>
                  <a:pt x="3131821" y="426720"/>
                </a:lnTo>
                <a:lnTo>
                  <a:pt x="3139440" y="411480"/>
                </a:lnTo>
                <a:lnTo>
                  <a:pt x="3139440" y="403860"/>
                </a:lnTo>
                <a:lnTo>
                  <a:pt x="3147060" y="381000"/>
                </a:lnTo>
                <a:lnTo>
                  <a:pt x="3147060" y="373380"/>
                </a:lnTo>
                <a:lnTo>
                  <a:pt x="3147060" y="358140"/>
                </a:lnTo>
                <a:lnTo>
                  <a:pt x="3147060" y="342900"/>
                </a:lnTo>
                <a:lnTo>
                  <a:pt x="3147060" y="327660"/>
                </a:lnTo>
                <a:lnTo>
                  <a:pt x="3139440" y="312420"/>
                </a:lnTo>
                <a:lnTo>
                  <a:pt x="3139440" y="297180"/>
                </a:lnTo>
                <a:lnTo>
                  <a:pt x="3131821" y="281940"/>
                </a:lnTo>
                <a:lnTo>
                  <a:pt x="3116580" y="266700"/>
                </a:lnTo>
                <a:lnTo>
                  <a:pt x="3108960" y="251460"/>
                </a:lnTo>
                <a:lnTo>
                  <a:pt x="3101340" y="243840"/>
                </a:lnTo>
                <a:lnTo>
                  <a:pt x="3086100" y="228600"/>
                </a:lnTo>
                <a:lnTo>
                  <a:pt x="3070860" y="213360"/>
                </a:lnTo>
                <a:lnTo>
                  <a:pt x="3055621" y="198120"/>
                </a:lnTo>
                <a:lnTo>
                  <a:pt x="3040380" y="190500"/>
                </a:lnTo>
                <a:lnTo>
                  <a:pt x="3017521" y="175260"/>
                </a:lnTo>
                <a:lnTo>
                  <a:pt x="2994660" y="167640"/>
                </a:lnTo>
                <a:lnTo>
                  <a:pt x="2971800" y="152400"/>
                </a:lnTo>
                <a:lnTo>
                  <a:pt x="2948940" y="144780"/>
                </a:lnTo>
                <a:lnTo>
                  <a:pt x="2926080" y="137160"/>
                </a:lnTo>
                <a:lnTo>
                  <a:pt x="2895600" y="129540"/>
                </a:lnTo>
                <a:lnTo>
                  <a:pt x="2872740" y="121920"/>
                </a:lnTo>
                <a:lnTo>
                  <a:pt x="2842260" y="114300"/>
                </a:lnTo>
                <a:lnTo>
                  <a:pt x="2811780" y="99060"/>
                </a:lnTo>
                <a:lnTo>
                  <a:pt x="2773680" y="91440"/>
                </a:lnTo>
                <a:lnTo>
                  <a:pt x="2743200" y="83820"/>
                </a:lnTo>
                <a:lnTo>
                  <a:pt x="2712721" y="76200"/>
                </a:lnTo>
                <a:lnTo>
                  <a:pt x="2674621" y="76200"/>
                </a:lnTo>
                <a:lnTo>
                  <a:pt x="2636521" y="68580"/>
                </a:lnTo>
                <a:lnTo>
                  <a:pt x="2598421" y="60960"/>
                </a:lnTo>
                <a:lnTo>
                  <a:pt x="2560321" y="60960"/>
                </a:lnTo>
                <a:lnTo>
                  <a:pt x="2514600" y="53340"/>
                </a:lnTo>
                <a:lnTo>
                  <a:pt x="2468880" y="45720"/>
                </a:lnTo>
                <a:lnTo>
                  <a:pt x="2430780" y="45720"/>
                </a:lnTo>
                <a:lnTo>
                  <a:pt x="2385060" y="38100"/>
                </a:lnTo>
                <a:lnTo>
                  <a:pt x="2339340" y="30480"/>
                </a:lnTo>
                <a:lnTo>
                  <a:pt x="2293621" y="30480"/>
                </a:lnTo>
                <a:lnTo>
                  <a:pt x="2240280" y="30480"/>
                </a:lnTo>
                <a:lnTo>
                  <a:pt x="2194560" y="22860"/>
                </a:lnTo>
                <a:lnTo>
                  <a:pt x="2148840" y="22860"/>
                </a:lnTo>
                <a:lnTo>
                  <a:pt x="2095500" y="22860"/>
                </a:lnTo>
                <a:lnTo>
                  <a:pt x="2049780" y="15240"/>
                </a:lnTo>
                <a:lnTo>
                  <a:pt x="1996440" y="15240"/>
                </a:lnTo>
                <a:lnTo>
                  <a:pt x="1943100" y="15240"/>
                </a:lnTo>
                <a:lnTo>
                  <a:pt x="1889760" y="7620"/>
                </a:lnTo>
                <a:lnTo>
                  <a:pt x="1836420" y="7620"/>
                </a:lnTo>
                <a:lnTo>
                  <a:pt x="1783080" y="7620"/>
                </a:lnTo>
                <a:lnTo>
                  <a:pt x="1729740" y="7620"/>
                </a:lnTo>
                <a:lnTo>
                  <a:pt x="1676400" y="7620"/>
                </a:lnTo>
                <a:lnTo>
                  <a:pt x="1623060" y="7620"/>
                </a:lnTo>
                <a:lnTo>
                  <a:pt x="1562100" y="0"/>
                </a:lnTo>
                <a:lnTo>
                  <a:pt x="1508760" y="0"/>
                </a:lnTo>
                <a:lnTo>
                  <a:pt x="1455420" y="0"/>
                </a:lnTo>
                <a:lnTo>
                  <a:pt x="1402080" y="0"/>
                </a:lnTo>
                <a:lnTo>
                  <a:pt x="1348740" y="0"/>
                </a:lnTo>
                <a:lnTo>
                  <a:pt x="1295400" y="0"/>
                </a:lnTo>
                <a:lnTo>
                  <a:pt x="1242060" y="0"/>
                </a:lnTo>
                <a:lnTo>
                  <a:pt x="1188720" y="0"/>
                </a:lnTo>
                <a:lnTo>
                  <a:pt x="1127760" y="7620"/>
                </a:lnTo>
                <a:lnTo>
                  <a:pt x="1082040" y="7620"/>
                </a:lnTo>
                <a:lnTo>
                  <a:pt x="1028700" y="7620"/>
                </a:lnTo>
                <a:lnTo>
                  <a:pt x="975360" y="7620"/>
                </a:lnTo>
                <a:lnTo>
                  <a:pt x="929640" y="15240"/>
                </a:lnTo>
                <a:lnTo>
                  <a:pt x="876300" y="15240"/>
                </a:lnTo>
                <a:lnTo>
                  <a:pt x="830580" y="22860"/>
                </a:lnTo>
                <a:lnTo>
                  <a:pt x="777240" y="22860"/>
                </a:lnTo>
                <a:lnTo>
                  <a:pt x="731520" y="30480"/>
                </a:lnTo>
                <a:lnTo>
                  <a:pt x="685800" y="30480"/>
                </a:lnTo>
                <a:lnTo>
                  <a:pt x="632460" y="45720"/>
                </a:lnTo>
                <a:lnTo>
                  <a:pt x="594360" y="45720"/>
                </a:lnTo>
                <a:lnTo>
                  <a:pt x="548640" y="53340"/>
                </a:lnTo>
                <a:lnTo>
                  <a:pt x="502920" y="60960"/>
                </a:lnTo>
                <a:lnTo>
                  <a:pt x="464820" y="68580"/>
                </a:lnTo>
                <a:lnTo>
                  <a:pt x="419100" y="76200"/>
                </a:lnTo>
                <a:lnTo>
                  <a:pt x="381000" y="91440"/>
                </a:lnTo>
                <a:lnTo>
                  <a:pt x="342900" y="99060"/>
                </a:lnTo>
                <a:lnTo>
                  <a:pt x="304800" y="106680"/>
                </a:lnTo>
                <a:lnTo>
                  <a:pt x="274320" y="121920"/>
                </a:lnTo>
                <a:lnTo>
                  <a:pt x="243840" y="129540"/>
                </a:lnTo>
                <a:lnTo>
                  <a:pt x="205740" y="144780"/>
                </a:lnTo>
                <a:lnTo>
                  <a:pt x="182880" y="152400"/>
                </a:lnTo>
                <a:lnTo>
                  <a:pt x="152400" y="167640"/>
                </a:lnTo>
                <a:lnTo>
                  <a:pt x="129540" y="182880"/>
                </a:lnTo>
                <a:lnTo>
                  <a:pt x="106680" y="190500"/>
                </a:lnTo>
                <a:lnTo>
                  <a:pt x="91440" y="205740"/>
                </a:lnTo>
                <a:lnTo>
                  <a:pt x="68580" y="220980"/>
                </a:lnTo>
                <a:lnTo>
                  <a:pt x="53340" y="236220"/>
                </a:lnTo>
                <a:lnTo>
                  <a:pt x="45720" y="251460"/>
                </a:lnTo>
                <a:lnTo>
                  <a:pt x="30480" y="266700"/>
                </a:lnTo>
                <a:lnTo>
                  <a:pt x="22860" y="281940"/>
                </a:lnTo>
                <a:lnTo>
                  <a:pt x="15240" y="289560"/>
                </a:lnTo>
                <a:lnTo>
                  <a:pt x="7620" y="304800"/>
                </a:lnTo>
                <a:lnTo>
                  <a:pt x="7620" y="320040"/>
                </a:lnTo>
                <a:lnTo>
                  <a:pt x="0" y="335280"/>
                </a:lnTo>
                <a:lnTo>
                  <a:pt x="7620" y="350520"/>
                </a:lnTo>
                <a:lnTo>
                  <a:pt x="7620" y="365760"/>
                </a:lnTo>
                <a:lnTo>
                  <a:pt x="15240" y="381000"/>
                </a:lnTo>
                <a:lnTo>
                  <a:pt x="22860" y="396240"/>
                </a:lnTo>
                <a:lnTo>
                  <a:pt x="38100" y="403860"/>
                </a:lnTo>
                <a:lnTo>
                  <a:pt x="53340" y="419100"/>
                </a:lnTo>
                <a:lnTo>
                  <a:pt x="76200" y="426720"/>
                </a:lnTo>
                <a:lnTo>
                  <a:pt x="99060" y="441960"/>
                </a:lnTo>
                <a:lnTo>
                  <a:pt x="114300" y="449580"/>
                </a:lnTo>
                <a:lnTo>
                  <a:pt x="144780" y="457200"/>
                </a:lnTo>
                <a:lnTo>
                  <a:pt x="175260" y="464820"/>
                </a:lnTo>
                <a:lnTo>
                  <a:pt x="205740" y="472440"/>
                </a:lnTo>
                <a:lnTo>
                  <a:pt x="243840" y="472440"/>
                </a:lnTo>
                <a:lnTo>
                  <a:pt x="289560" y="472440"/>
                </a:lnTo>
                <a:lnTo>
                  <a:pt x="327660" y="480060"/>
                </a:lnTo>
                <a:lnTo>
                  <a:pt x="373380" y="480060"/>
                </a:lnTo>
                <a:lnTo>
                  <a:pt x="419100" y="472440"/>
                </a:lnTo>
                <a:lnTo>
                  <a:pt x="472440" y="472440"/>
                </a:lnTo>
                <a:lnTo>
                  <a:pt x="525780" y="464820"/>
                </a:lnTo>
                <a:lnTo>
                  <a:pt x="586740" y="464820"/>
                </a:lnTo>
                <a:lnTo>
                  <a:pt x="640080" y="457200"/>
                </a:lnTo>
                <a:lnTo>
                  <a:pt x="701040" y="449580"/>
                </a:lnTo>
                <a:lnTo>
                  <a:pt x="754380" y="441960"/>
                </a:lnTo>
                <a:lnTo>
                  <a:pt x="815340" y="441960"/>
                </a:lnTo>
                <a:lnTo>
                  <a:pt x="876300" y="434340"/>
                </a:lnTo>
                <a:lnTo>
                  <a:pt x="944880" y="426720"/>
                </a:lnTo>
                <a:lnTo>
                  <a:pt x="1005840" y="426720"/>
                </a:lnTo>
                <a:lnTo>
                  <a:pt x="1059180" y="419100"/>
                </a:lnTo>
                <a:lnTo>
                  <a:pt x="1120140" y="419100"/>
                </a:lnTo>
                <a:lnTo>
                  <a:pt x="1181100" y="419100"/>
                </a:lnTo>
                <a:lnTo>
                  <a:pt x="1234440" y="419100"/>
                </a:lnTo>
                <a:lnTo>
                  <a:pt x="1325880" y="419100"/>
                </a:lnTo>
                <a:lnTo>
                  <a:pt x="1325880" y="4191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27432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.1 &amp; 2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189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the measure of arc 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76560" y="803160"/>
            <a:ext cx="4267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the 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1219320" y="2514600"/>
            <a:ext cx="2209680" cy="213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838080" y="2057040"/>
            <a:ext cx="2133720" cy="243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219320" y="2438280"/>
            <a:ext cx="220968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676520" y="3429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05120" y="43275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198108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3"/>
          <p:cNvSpPr/>
          <p:nvPr/>
        </p:nvSpPr>
        <p:spPr>
          <a:xfrm>
            <a:off x="2286000" y="358128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28600" y="4800600"/>
            <a:ext cx="3429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(x +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4 = ½(112 +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8 = (112 +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6°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76212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352680" y="3124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8"/>
          <p:cNvSpPr/>
          <p:nvPr/>
        </p:nvSpPr>
        <p:spPr>
          <a:xfrm>
            <a:off x="5638680" y="2057400"/>
            <a:ext cx="2210040" cy="2133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 flipV="1">
            <a:off x="5257800" y="1371600"/>
            <a:ext cx="914400" cy="266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5410080" y="1600200"/>
            <a:ext cx="342900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6095880" y="22096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553080" y="4175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5791320" y="1371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4"/>
          <p:cNvSpPr/>
          <p:nvPr/>
        </p:nvSpPr>
        <p:spPr>
          <a:xfrm>
            <a:off x="6705720" y="312408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4724280" y="44197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½(x -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½(268 - 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8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"/>
          <p:cNvSpPr/>
          <p:nvPr/>
        </p:nvSpPr>
        <p:spPr>
          <a:xfrm>
            <a:off x="2544840" y="5584680"/>
            <a:ext cx="92160" cy="61920"/>
          </a:xfrm>
          <a:custGeom>
            <a:avLst/>
            <a:gdLst>
              <a:gd name="textAreaLeft" fmla="*/ 0 w 92160"/>
              <a:gd name="textAreaRight" fmla="*/ 92520 w 921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91441" h="60961">
                <a:moveTo>
                  <a:pt x="38100" y="22860"/>
                </a:moveTo>
                <a:lnTo>
                  <a:pt x="38100" y="22860"/>
                </a:lnTo>
                <a:lnTo>
                  <a:pt x="38100" y="22860"/>
                </a:lnTo>
                <a:lnTo>
                  <a:pt x="38100" y="22860"/>
                </a:lnTo>
                <a:lnTo>
                  <a:pt x="30480" y="22860"/>
                </a:lnTo>
                <a:lnTo>
                  <a:pt x="30480" y="22860"/>
                </a:lnTo>
                <a:lnTo>
                  <a:pt x="30480" y="22860"/>
                </a:lnTo>
                <a:lnTo>
                  <a:pt x="22860" y="22860"/>
                </a:lnTo>
                <a:lnTo>
                  <a:pt x="22860" y="22860"/>
                </a:lnTo>
                <a:lnTo>
                  <a:pt x="15240" y="2286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22860" y="0"/>
                </a:lnTo>
                <a:lnTo>
                  <a:pt x="22860" y="0"/>
                </a:lnTo>
                <a:lnTo>
                  <a:pt x="3048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45720" y="0"/>
                </a:lnTo>
                <a:lnTo>
                  <a:pt x="53340" y="0"/>
                </a:lnTo>
                <a:lnTo>
                  <a:pt x="53340" y="0"/>
                </a:lnTo>
                <a:lnTo>
                  <a:pt x="53340" y="7620"/>
                </a:lnTo>
                <a:lnTo>
                  <a:pt x="60960" y="7620"/>
                </a:lnTo>
                <a:lnTo>
                  <a:pt x="60960" y="15240"/>
                </a:lnTo>
                <a:lnTo>
                  <a:pt x="68580" y="15240"/>
                </a:lnTo>
                <a:lnTo>
                  <a:pt x="68580" y="22860"/>
                </a:lnTo>
                <a:lnTo>
                  <a:pt x="68580" y="22860"/>
                </a:lnTo>
                <a:lnTo>
                  <a:pt x="68580" y="30480"/>
                </a:lnTo>
                <a:lnTo>
                  <a:pt x="68580" y="38100"/>
                </a:lnTo>
                <a:lnTo>
                  <a:pt x="68580" y="45720"/>
                </a:lnTo>
                <a:lnTo>
                  <a:pt x="68580" y="45720"/>
                </a:lnTo>
                <a:lnTo>
                  <a:pt x="60960" y="53340"/>
                </a:lnTo>
                <a:lnTo>
                  <a:pt x="60960" y="53340"/>
                </a:lnTo>
                <a:lnTo>
                  <a:pt x="53340" y="60960"/>
                </a:lnTo>
                <a:lnTo>
                  <a:pt x="53340" y="60960"/>
                </a:lnTo>
                <a:lnTo>
                  <a:pt x="45720" y="60960"/>
                </a:lnTo>
                <a:lnTo>
                  <a:pt x="45720" y="60960"/>
                </a:lnTo>
                <a:lnTo>
                  <a:pt x="38100" y="60960"/>
                </a:lnTo>
                <a:lnTo>
                  <a:pt x="30480" y="60960"/>
                </a:lnTo>
                <a:lnTo>
                  <a:pt x="30480" y="60960"/>
                </a:lnTo>
                <a:lnTo>
                  <a:pt x="22860" y="53340"/>
                </a:lnTo>
                <a:lnTo>
                  <a:pt x="22860" y="53340"/>
                </a:lnTo>
                <a:lnTo>
                  <a:pt x="15240" y="45720"/>
                </a:lnTo>
                <a:lnTo>
                  <a:pt x="15240" y="38100"/>
                </a:lnTo>
                <a:lnTo>
                  <a:pt x="15240" y="38100"/>
                </a:lnTo>
                <a:lnTo>
                  <a:pt x="7620" y="30480"/>
                </a:lnTo>
                <a:lnTo>
                  <a:pt x="7620" y="22860"/>
                </a:lnTo>
                <a:lnTo>
                  <a:pt x="7620" y="22860"/>
                </a:lnTo>
                <a:lnTo>
                  <a:pt x="15240" y="15240"/>
                </a:lnTo>
                <a:lnTo>
                  <a:pt x="15240" y="7620"/>
                </a:lnTo>
                <a:lnTo>
                  <a:pt x="22860" y="7620"/>
                </a:lnTo>
                <a:lnTo>
                  <a:pt x="30480" y="7620"/>
                </a:lnTo>
                <a:lnTo>
                  <a:pt x="3048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53340" y="7620"/>
                </a:lnTo>
                <a:lnTo>
                  <a:pt x="60960" y="7620"/>
                </a:lnTo>
                <a:lnTo>
                  <a:pt x="68580" y="7620"/>
                </a:lnTo>
                <a:lnTo>
                  <a:pt x="76200" y="15240"/>
                </a:lnTo>
                <a:lnTo>
                  <a:pt x="76200" y="15240"/>
                </a:lnTo>
                <a:lnTo>
                  <a:pt x="83820" y="15240"/>
                </a:lnTo>
                <a:lnTo>
                  <a:pt x="83820" y="22860"/>
                </a:lnTo>
                <a:lnTo>
                  <a:pt x="91440" y="22860"/>
                </a:lnTo>
                <a:lnTo>
                  <a:pt x="91440" y="22860"/>
                </a:lnTo>
                <a:lnTo>
                  <a:pt x="91440" y="30480"/>
                </a:lnTo>
                <a:lnTo>
                  <a:pt x="91440" y="30480"/>
                </a:lnTo>
                <a:lnTo>
                  <a:pt x="91440" y="38100"/>
                </a:lnTo>
                <a:lnTo>
                  <a:pt x="91440" y="38100"/>
                </a:lnTo>
                <a:lnTo>
                  <a:pt x="83820" y="38100"/>
                </a:lnTo>
                <a:lnTo>
                  <a:pt x="83820" y="38100"/>
                </a:lnTo>
                <a:lnTo>
                  <a:pt x="76200" y="38100"/>
                </a:lnTo>
                <a:lnTo>
                  <a:pt x="76200" y="38100"/>
                </a:lnTo>
                <a:lnTo>
                  <a:pt x="68580" y="45720"/>
                </a:lnTo>
                <a:lnTo>
                  <a:pt x="68580" y="457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"/>
          <p:cNvSpPr/>
          <p:nvPr/>
        </p:nvSpPr>
        <p:spPr>
          <a:xfrm>
            <a:off x="220680" y="5570640"/>
            <a:ext cx="84240" cy="60120"/>
          </a:xfrm>
          <a:custGeom>
            <a:avLst/>
            <a:gdLst>
              <a:gd name="textAreaLeft" fmla="*/ 0 w 84240"/>
              <a:gd name="textAreaRight" fmla="*/ 84600 w 842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83821" h="60961">
                <a:moveTo>
                  <a:pt x="38100" y="0"/>
                </a:moveTo>
                <a:lnTo>
                  <a:pt x="38100" y="0"/>
                </a:lnTo>
                <a:lnTo>
                  <a:pt x="38100" y="0"/>
                </a:lnTo>
                <a:lnTo>
                  <a:pt x="38100" y="0"/>
                </a:lnTo>
                <a:lnTo>
                  <a:pt x="3810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0"/>
                </a:lnTo>
                <a:lnTo>
                  <a:pt x="53340" y="0"/>
                </a:lnTo>
                <a:lnTo>
                  <a:pt x="53340" y="0"/>
                </a:lnTo>
                <a:lnTo>
                  <a:pt x="53340" y="0"/>
                </a:lnTo>
                <a:lnTo>
                  <a:pt x="53340" y="0"/>
                </a:lnTo>
                <a:lnTo>
                  <a:pt x="53340" y="7620"/>
                </a:lnTo>
                <a:lnTo>
                  <a:pt x="53340" y="7620"/>
                </a:lnTo>
                <a:lnTo>
                  <a:pt x="53340" y="7620"/>
                </a:lnTo>
                <a:lnTo>
                  <a:pt x="53340" y="7620"/>
                </a:lnTo>
                <a:lnTo>
                  <a:pt x="45720" y="7620"/>
                </a:lnTo>
                <a:lnTo>
                  <a:pt x="45720" y="7620"/>
                </a:lnTo>
                <a:lnTo>
                  <a:pt x="45720" y="15240"/>
                </a:lnTo>
                <a:lnTo>
                  <a:pt x="45720" y="15240"/>
                </a:lnTo>
                <a:lnTo>
                  <a:pt x="38100" y="15240"/>
                </a:lnTo>
                <a:lnTo>
                  <a:pt x="30480" y="15240"/>
                </a:lnTo>
                <a:lnTo>
                  <a:pt x="30480" y="15240"/>
                </a:lnTo>
                <a:lnTo>
                  <a:pt x="30480" y="15240"/>
                </a:lnTo>
                <a:lnTo>
                  <a:pt x="22860" y="22860"/>
                </a:lnTo>
                <a:lnTo>
                  <a:pt x="2286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7620" y="22860"/>
                </a:lnTo>
                <a:lnTo>
                  <a:pt x="7620" y="22860"/>
                </a:lnTo>
                <a:lnTo>
                  <a:pt x="762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1524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15240" y="0"/>
                </a:lnTo>
                <a:lnTo>
                  <a:pt x="15240" y="0"/>
                </a:lnTo>
                <a:lnTo>
                  <a:pt x="22860" y="0"/>
                </a:lnTo>
                <a:lnTo>
                  <a:pt x="22860" y="0"/>
                </a:lnTo>
                <a:lnTo>
                  <a:pt x="30480" y="0"/>
                </a:lnTo>
                <a:lnTo>
                  <a:pt x="30480" y="0"/>
                </a:lnTo>
                <a:lnTo>
                  <a:pt x="38100" y="0"/>
                </a:lnTo>
                <a:lnTo>
                  <a:pt x="38100" y="7620"/>
                </a:lnTo>
                <a:lnTo>
                  <a:pt x="45720" y="7620"/>
                </a:lnTo>
                <a:lnTo>
                  <a:pt x="45720" y="15240"/>
                </a:lnTo>
                <a:lnTo>
                  <a:pt x="45720" y="15240"/>
                </a:lnTo>
                <a:lnTo>
                  <a:pt x="53340" y="22860"/>
                </a:lnTo>
                <a:lnTo>
                  <a:pt x="53340" y="22860"/>
                </a:lnTo>
                <a:lnTo>
                  <a:pt x="53340" y="30480"/>
                </a:lnTo>
                <a:lnTo>
                  <a:pt x="53340" y="38100"/>
                </a:lnTo>
                <a:lnTo>
                  <a:pt x="53340" y="38100"/>
                </a:lnTo>
                <a:lnTo>
                  <a:pt x="53340" y="45720"/>
                </a:lnTo>
                <a:lnTo>
                  <a:pt x="53340" y="53340"/>
                </a:lnTo>
                <a:lnTo>
                  <a:pt x="53340" y="53340"/>
                </a:lnTo>
                <a:lnTo>
                  <a:pt x="53340" y="60960"/>
                </a:lnTo>
                <a:lnTo>
                  <a:pt x="45720" y="60960"/>
                </a:lnTo>
                <a:lnTo>
                  <a:pt x="45720" y="60960"/>
                </a:lnTo>
                <a:lnTo>
                  <a:pt x="45720" y="60960"/>
                </a:lnTo>
                <a:lnTo>
                  <a:pt x="38100" y="60960"/>
                </a:lnTo>
                <a:lnTo>
                  <a:pt x="38100" y="60960"/>
                </a:lnTo>
                <a:lnTo>
                  <a:pt x="30480" y="60960"/>
                </a:lnTo>
                <a:lnTo>
                  <a:pt x="30480" y="60960"/>
                </a:lnTo>
                <a:lnTo>
                  <a:pt x="22860" y="53340"/>
                </a:lnTo>
                <a:lnTo>
                  <a:pt x="22860" y="53340"/>
                </a:lnTo>
                <a:lnTo>
                  <a:pt x="22860" y="45720"/>
                </a:lnTo>
                <a:lnTo>
                  <a:pt x="22860" y="45720"/>
                </a:lnTo>
                <a:lnTo>
                  <a:pt x="22860" y="38100"/>
                </a:lnTo>
                <a:lnTo>
                  <a:pt x="22860" y="38100"/>
                </a:lnTo>
                <a:lnTo>
                  <a:pt x="22860" y="30480"/>
                </a:lnTo>
                <a:lnTo>
                  <a:pt x="22860" y="22860"/>
                </a:lnTo>
                <a:lnTo>
                  <a:pt x="30480" y="22860"/>
                </a:lnTo>
                <a:lnTo>
                  <a:pt x="38100" y="22860"/>
                </a:lnTo>
                <a:lnTo>
                  <a:pt x="4572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60960" y="15240"/>
                </a:lnTo>
                <a:lnTo>
                  <a:pt x="68580" y="15240"/>
                </a:lnTo>
                <a:lnTo>
                  <a:pt x="6858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76200" y="15240"/>
                </a:lnTo>
                <a:lnTo>
                  <a:pt x="83820" y="22860"/>
                </a:lnTo>
                <a:lnTo>
                  <a:pt x="83820" y="228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54000" y="5456160"/>
            <a:ext cx="106200" cy="182520"/>
          </a:xfrm>
          <a:custGeom>
            <a:avLst/>
            <a:gdLst>
              <a:gd name="textAreaLeft" fmla="*/ 0 w 106200"/>
              <a:gd name="textAreaRight" fmla="*/ 106560 w 1062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6681" h="182881">
                <a:moveTo>
                  <a:pt x="76200" y="38100"/>
                </a:moveTo>
                <a:lnTo>
                  <a:pt x="68580" y="38100"/>
                </a:lnTo>
                <a:lnTo>
                  <a:pt x="68580" y="30480"/>
                </a:lnTo>
                <a:lnTo>
                  <a:pt x="60960" y="22860"/>
                </a:lnTo>
                <a:lnTo>
                  <a:pt x="60960" y="22860"/>
                </a:lnTo>
                <a:lnTo>
                  <a:pt x="60960" y="15240"/>
                </a:lnTo>
                <a:lnTo>
                  <a:pt x="60960" y="15240"/>
                </a:lnTo>
                <a:lnTo>
                  <a:pt x="60960" y="7620"/>
                </a:lnTo>
                <a:lnTo>
                  <a:pt x="60960" y="7620"/>
                </a:lnTo>
                <a:lnTo>
                  <a:pt x="68580" y="7620"/>
                </a:lnTo>
                <a:lnTo>
                  <a:pt x="68580" y="0"/>
                </a:lnTo>
                <a:lnTo>
                  <a:pt x="76200" y="0"/>
                </a:lnTo>
                <a:lnTo>
                  <a:pt x="83820" y="0"/>
                </a:lnTo>
                <a:lnTo>
                  <a:pt x="83820" y="0"/>
                </a:lnTo>
                <a:lnTo>
                  <a:pt x="91440" y="0"/>
                </a:lnTo>
                <a:lnTo>
                  <a:pt x="91440" y="0"/>
                </a:lnTo>
                <a:lnTo>
                  <a:pt x="99060" y="0"/>
                </a:lnTo>
                <a:lnTo>
                  <a:pt x="99060" y="0"/>
                </a:lnTo>
                <a:lnTo>
                  <a:pt x="99060" y="0"/>
                </a:lnTo>
                <a:lnTo>
                  <a:pt x="106680" y="7620"/>
                </a:lnTo>
                <a:lnTo>
                  <a:pt x="106680" y="7620"/>
                </a:lnTo>
                <a:lnTo>
                  <a:pt x="106680" y="7620"/>
                </a:lnTo>
                <a:lnTo>
                  <a:pt x="106680" y="15240"/>
                </a:lnTo>
                <a:lnTo>
                  <a:pt x="106680" y="15240"/>
                </a:lnTo>
                <a:lnTo>
                  <a:pt x="106680" y="22860"/>
                </a:lnTo>
                <a:lnTo>
                  <a:pt x="106680" y="22860"/>
                </a:lnTo>
                <a:lnTo>
                  <a:pt x="106680" y="30480"/>
                </a:lnTo>
                <a:lnTo>
                  <a:pt x="106680" y="38100"/>
                </a:lnTo>
                <a:lnTo>
                  <a:pt x="99060" y="38100"/>
                </a:lnTo>
                <a:lnTo>
                  <a:pt x="99060" y="45720"/>
                </a:lnTo>
                <a:lnTo>
                  <a:pt x="91440" y="53340"/>
                </a:lnTo>
                <a:lnTo>
                  <a:pt x="91440" y="53340"/>
                </a:lnTo>
                <a:lnTo>
                  <a:pt x="83820" y="60960"/>
                </a:lnTo>
                <a:lnTo>
                  <a:pt x="83820" y="68580"/>
                </a:lnTo>
                <a:lnTo>
                  <a:pt x="76200" y="76200"/>
                </a:lnTo>
                <a:lnTo>
                  <a:pt x="68580" y="83820"/>
                </a:lnTo>
                <a:lnTo>
                  <a:pt x="68580" y="91440"/>
                </a:lnTo>
                <a:lnTo>
                  <a:pt x="60960" y="99060"/>
                </a:lnTo>
                <a:lnTo>
                  <a:pt x="53340" y="106680"/>
                </a:lnTo>
                <a:lnTo>
                  <a:pt x="45720" y="114300"/>
                </a:lnTo>
                <a:lnTo>
                  <a:pt x="38100" y="121920"/>
                </a:lnTo>
                <a:lnTo>
                  <a:pt x="30480" y="129540"/>
                </a:lnTo>
                <a:lnTo>
                  <a:pt x="22860" y="129540"/>
                </a:lnTo>
                <a:lnTo>
                  <a:pt x="15240" y="137160"/>
                </a:lnTo>
                <a:lnTo>
                  <a:pt x="15240" y="137160"/>
                </a:lnTo>
                <a:lnTo>
                  <a:pt x="15240" y="144780"/>
                </a:lnTo>
                <a:lnTo>
                  <a:pt x="7620" y="144780"/>
                </a:lnTo>
                <a:lnTo>
                  <a:pt x="7620" y="152400"/>
                </a:lnTo>
                <a:lnTo>
                  <a:pt x="0" y="152400"/>
                </a:lnTo>
                <a:lnTo>
                  <a:pt x="0" y="152400"/>
                </a:lnTo>
                <a:lnTo>
                  <a:pt x="7620" y="152400"/>
                </a:lnTo>
                <a:lnTo>
                  <a:pt x="7620" y="152400"/>
                </a:lnTo>
                <a:lnTo>
                  <a:pt x="7620" y="152400"/>
                </a:lnTo>
                <a:lnTo>
                  <a:pt x="15240" y="152400"/>
                </a:lnTo>
                <a:lnTo>
                  <a:pt x="15240" y="160020"/>
                </a:lnTo>
                <a:lnTo>
                  <a:pt x="22860" y="160020"/>
                </a:lnTo>
                <a:lnTo>
                  <a:pt x="30480" y="160020"/>
                </a:lnTo>
                <a:lnTo>
                  <a:pt x="38100" y="160020"/>
                </a:lnTo>
                <a:lnTo>
                  <a:pt x="38100" y="167640"/>
                </a:lnTo>
                <a:lnTo>
                  <a:pt x="45720" y="167640"/>
                </a:lnTo>
                <a:lnTo>
                  <a:pt x="60960" y="167640"/>
                </a:lnTo>
                <a:lnTo>
                  <a:pt x="68580" y="167640"/>
                </a:lnTo>
                <a:lnTo>
                  <a:pt x="76200" y="175260"/>
                </a:lnTo>
                <a:lnTo>
                  <a:pt x="83820" y="182880"/>
                </a:lnTo>
                <a:lnTo>
                  <a:pt x="83820" y="1828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4"/>
          <p:cNvSpPr/>
          <p:nvPr/>
        </p:nvSpPr>
        <p:spPr>
          <a:xfrm>
            <a:off x="2803680" y="5524560"/>
            <a:ext cx="160200" cy="168120"/>
          </a:xfrm>
          <a:custGeom>
            <a:avLst/>
            <a:gdLst>
              <a:gd name="textAreaLeft" fmla="*/ 0 w 160200"/>
              <a:gd name="textAreaRight" fmla="*/ 160560 w 1602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60021" h="167641">
                <a:moveTo>
                  <a:pt x="60960" y="15240"/>
                </a:moveTo>
                <a:lnTo>
                  <a:pt x="60960" y="7620"/>
                </a:lnTo>
                <a:lnTo>
                  <a:pt x="76200" y="7620"/>
                </a:lnTo>
                <a:lnTo>
                  <a:pt x="83820" y="0"/>
                </a:lnTo>
                <a:lnTo>
                  <a:pt x="91440" y="0"/>
                </a:lnTo>
                <a:lnTo>
                  <a:pt x="106680" y="0"/>
                </a:lnTo>
                <a:lnTo>
                  <a:pt x="114300" y="0"/>
                </a:lnTo>
                <a:lnTo>
                  <a:pt x="121920" y="0"/>
                </a:lnTo>
                <a:lnTo>
                  <a:pt x="129540" y="0"/>
                </a:lnTo>
                <a:lnTo>
                  <a:pt x="137160" y="7620"/>
                </a:lnTo>
                <a:lnTo>
                  <a:pt x="137160" y="7620"/>
                </a:lnTo>
                <a:lnTo>
                  <a:pt x="137160" y="7620"/>
                </a:lnTo>
                <a:lnTo>
                  <a:pt x="137160" y="15240"/>
                </a:lnTo>
                <a:lnTo>
                  <a:pt x="137160" y="15240"/>
                </a:lnTo>
                <a:lnTo>
                  <a:pt x="137160" y="22860"/>
                </a:lnTo>
                <a:lnTo>
                  <a:pt x="129540" y="22860"/>
                </a:lnTo>
                <a:lnTo>
                  <a:pt x="121920" y="30480"/>
                </a:lnTo>
                <a:lnTo>
                  <a:pt x="114300" y="30480"/>
                </a:lnTo>
                <a:lnTo>
                  <a:pt x="106680" y="38100"/>
                </a:lnTo>
                <a:lnTo>
                  <a:pt x="91440" y="38100"/>
                </a:lnTo>
                <a:lnTo>
                  <a:pt x="83820" y="45720"/>
                </a:lnTo>
                <a:lnTo>
                  <a:pt x="68580" y="53340"/>
                </a:lnTo>
                <a:lnTo>
                  <a:pt x="60960" y="53340"/>
                </a:lnTo>
                <a:lnTo>
                  <a:pt x="45720" y="60960"/>
                </a:lnTo>
                <a:lnTo>
                  <a:pt x="30480" y="68580"/>
                </a:lnTo>
                <a:lnTo>
                  <a:pt x="22860" y="68580"/>
                </a:lnTo>
                <a:lnTo>
                  <a:pt x="15240" y="76200"/>
                </a:lnTo>
                <a:lnTo>
                  <a:pt x="15240" y="83820"/>
                </a:lnTo>
                <a:lnTo>
                  <a:pt x="7620" y="83820"/>
                </a:lnTo>
                <a:lnTo>
                  <a:pt x="0" y="91440"/>
                </a:lnTo>
                <a:lnTo>
                  <a:pt x="0" y="99060"/>
                </a:lnTo>
                <a:lnTo>
                  <a:pt x="0" y="99060"/>
                </a:lnTo>
                <a:lnTo>
                  <a:pt x="0" y="106680"/>
                </a:lnTo>
                <a:lnTo>
                  <a:pt x="7620" y="114300"/>
                </a:lnTo>
                <a:lnTo>
                  <a:pt x="7620" y="114300"/>
                </a:lnTo>
                <a:lnTo>
                  <a:pt x="15240" y="129540"/>
                </a:lnTo>
                <a:lnTo>
                  <a:pt x="22860" y="129540"/>
                </a:lnTo>
                <a:lnTo>
                  <a:pt x="30480" y="137160"/>
                </a:lnTo>
                <a:lnTo>
                  <a:pt x="45720" y="137160"/>
                </a:lnTo>
                <a:lnTo>
                  <a:pt x="53340" y="144780"/>
                </a:lnTo>
                <a:lnTo>
                  <a:pt x="68580" y="152400"/>
                </a:lnTo>
                <a:lnTo>
                  <a:pt x="83820" y="152400"/>
                </a:lnTo>
                <a:lnTo>
                  <a:pt x="91440" y="160020"/>
                </a:lnTo>
                <a:lnTo>
                  <a:pt x="114300" y="160020"/>
                </a:lnTo>
                <a:lnTo>
                  <a:pt x="121920" y="167640"/>
                </a:lnTo>
                <a:lnTo>
                  <a:pt x="137160" y="167640"/>
                </a:lnTo>
                <a:lnTo>
                  <a:pt x="160020" y="167640"/>
                </a:lnTo>
                <a:lnTo>
                  <a:pt x="160020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5"/>
          <p:cNvSpPr/>
          <p:nvPr/>
        </p:nvSpPr>
        <p:spPr>
          <a:xfrm>
            <a:off x="2835360" y="5349960"/>
            <a:ext cx="120600" cy="449280"/>
          </a:xfrm>
          <a:custGeom>
            <a:avLst/>
            <a:gdLst>
              <a:gd name="textAreaLeft" fmla="*/ 0 w 120600"/>
              <a:gd name="textAreaRight" fmla="*/ 120960 w 1206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21921" h="449581">
                <a:moveTo>
                  <a:pt x="0" y="0"/>
                </a:moveTo>
                <a:lnTo>
                  <a:pt x="0" y="7620"/>
                </a:lnTo>
                <a:lnTo>
                  <a:pt x="0" y="22860"/>
                </a:lnTo>
                <a:lnTo>
                  <a:pt x="7620" y="45720"/>
                </a:lnTo>
                <a:lnTo>
                  <a:pt x="7620" y="60960"/>
                </a:lnTo>
                <a:lnTo>
                  <a:pt x="15240" y="83820"/>
                </a:lnTo>
                <a:lnTo>
                  <a:pt x="22860" y="106680"/>
                </a:lnTo>
                <a:lnTo>
                  <a:pt x="22860" y="137160"/>
                </a:lnTo>
                <a:lnTo>
                  <a:pt x="30480" y="167640"/>
                </a:lnTo>
                <a:lnTo>
                  <a:pt x="38100" y="198120"/>
                </a:lnTo>
                <a:lnTo>
                  <a:pt x="45720" y="236220"/>
                </a:lnTo>
                <a:lnTo>
                  <a:pt x="60960" y="266700"/>
                </a:lnTo>
                <a:lnTo>
                  <a:pt x="76200" y="304800"/>
                </a:lnTo>
                <a:lnTo>
                  <a:pt x="83820" y="342900"/>
                </a:lnTo>
                <a:lnTo>
                  <a:pt x="99060" y="388620"/>
                </a:lnTo>
                <a:lnTo>
                  <a:pt x="121920" y="449580"/>
                </a:lnTo>
                <a:lnTo>
                  <a:pt x="121920" y="4495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6"/>
          <p:cNvSpPr/>
          <p:nvPr/>
        </p:nvSpPr>
        <p:spPr>
          <a:xfrm>
            <a:off x="1066680" y="5364000"/>
            <a:ext cx="198720" cy="397080"/>
          </a:xfrm>
          <a:custGeom>
            <a:avLst/>
            <a:gdLst>
              <a:gd name="textAreaLeft" fmla="*/ 0 w 198720"/>
              <a:gd name="textAreaRight" fmla="*/ 199080 w 19872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198121" h="396241">
                <a:moveTo>
                  <a:pt x="0" y="0"/>
                </a:moveTo>
                <a:lnTo>
                  <a:pt x="0" y="0"/>
                </a:lnTo>
                <a:lnTo>
                  <a:pt x="0" y="7620"/>
                </a:lnTo>
                <a:lnTo>
                  <a:pt x="7620" y="15240"/>
                </a:lnTo>
                <a:lnTo>
                  <a:pt x="7620" y="22860"/>
                </a:lnTo>
                <a:lnTo>
                  <a:pt x="15240" y="38100"/>
                </a:lnTo>
                <a:lnTo>
                  <a:pt x="22860" y="53340"/>
                </a:lnTo>
                <a:lnTo>
                  <a:pt x="38100" y="68580"/>
                </a:lnTo>
                <a:lnTo>
                  <a:pt x="45720" y="91440"/>
                </a:lnTo>
                <a:lnTo>
                  <a:pt x="60960" y="114300"/>
                </a:lnTo>
                <a:lnTo>
                  <a:pt x="76200" y="137160"/>
                </a:lnTo>
                <a:lnTo>
                  <a:pt x="91440" y="160020"/>
                </a:lnTo>
                <a:lnTo>
                  <a:pt x="106680" y="190500"/>
                </a:lnTo>
                <a:lnTo>
                  <a:pt x="121920" y="228600"/>
                </a:lnTo>
                <a:lnTo>
                  <a:pt x="137160" y="259080"/>
                </a:lnTo>
                <a:lnTo>
                  <a:pt x="152400" y="297180"/>
                </a:lnTo>
                <a:lnTo>
                  <a:pt x="175260" y="335280"/>
                </a:lnTo>
                <a:lnTo>
                  <a:pt x="198120" y="396240"/>
                </a:lnTo>
                <a:lnTo>
                  <a:pt x="198120" y="396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7"/>
          <p:cNvSpPr/>
          <p:nvPr/>
        </p:nvSpPr>
        <p:spPr>
          <a:xfrm>
            <a:off x="3970440" y="2232000"/>
            <a:ext cx="274680" cy="312840"/>
          </a:xfrm>
          <a:custGeom>
            <a:avLst/>
            <a:gdLst>
              <a:gd name="textAreaLeft" fmla="*/ 0 w 274680"/>
              <a:gd name="textAreaRight" fmla="*/ 275040 w 27468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274321" h="312421">
                <a:moveTo>
                  <a:pt x="0" y="91440"/>
                </a:moveTo>
                <a:lnTo>
                  <a:pt x="0" y="83820"/>
                </a:lnTo>
                <a:lnTo>
                  <a:pt x="0" y="76200"/>
                </a:lnTo>
                <a:lnTo>
                  <a:pt x="0" y="68580"/>
                </a:lnTo>
                <a:lnTo>
                  <a:pt x="15240" y="60960"/>
                </a:lnTo>
                <a:lnTo>
                  <a:pt x="22860" y="53340"/>
                </a:lnTo>
                <a:lnTo>
                  <a:pt x="30480" y="45720"/>
                </a:lnTo>
                <a:lnTo>
                  <a:pt x="38100" y="45720"/>
                </a:lnTo>
                <a:lnTo>
                  <a:pt x="53340" y="38100"/>
                </a:lnTo>
                <a:lnTo>
                  <a:pt x="68580" y="30480"/>
                </a:lnTo>
                <a:lnTo>
                  <a:pt x="83820" y="30480"/>
                </a:lnTo>
                <a:lnTo>
                  <a:pt x="99060" y="22860"/>
                </a:lnTo>
                <a:lnTo>
                  <a:pt x="121920" y="15240"/>
                </a:lnTo>
                <a:lnTo>
                  <a:pt x="137160" y="7620"/>
                </a:lnTo>
                <a:lnTo>
                  <a:pt x="152400" y="7620"/>
                </a:lnTo>
                <a:lnTo>
                  <a:pt x="167640" y="7620"/>
                </a:lnTo>
                <a:lnTo>
                  <a:pt x="182880" y="0"/>
                </a:lnTo>
                <a:lnTo>
                  <a:pt x="190500" y="7620"/>
                </a:lnTo>
                <a:lnTo>
                  <a:pt x="198120" y="7620"/>
                </a:lnTo>
                <a:lnTo>
                  <a:pt x="198120" y="7620"/>
                </a:lnTo>
                <a:lnTo>
                  <a:pt x="198120" y="15240"/>
                </a:lnTo>
                <a:lnTo>
                  <a:pt x="198120" y="22860"/>
                </a:lnTo>
                <a:lnTo>
                  <a:pt x="190500" y="30480"/>
                </a:lnTo>
                <a:lnTo>
                  <a:pt x="182880" y="38100"/>
                </a:lnTo>
                <a:lnTo>
                  <a:pt x="167640" y="53340"/>
                </a:lnTo>
                <a:lnTo>
                  <a:pt x="152400" y="60960"/>
                </a:lnTo>
                <a:lnTo>
                  <a:pt x="137160" y="76200"/>
                </a:lnTo>
                <a:lnTo>
                  <a:pt x="121920" y="91440"/>
                </a:lnTo>
                <a:lnTo>
                  <a:pt x="106680" y="99060"/>
                </a:lnTo>
                <a:lnTo>
                  <a:pt x="99060" y="114300"/>
                </a:lnTo>
                <a:lnTo>
                  <a:pt x="91440" y="121920"/>
                </a:lnTo>
                <a:lnTo>
                  <a:pt x="83820" y="129540"/>
                </a:lnTo>
                <a:lnTo>
                  <a:pt x="83820" y="137160"/>
                </a:lnTo>
                <a:lnTo>
                  <a:pt x="83820" y="137160"/>
                </a:lnTo>
                <a:lnTo>
                  <a:pt x="91440" y="144780"/>
                </a:lnTo>
                <a:lnTo>
                  <a:pt x="99060" y="144780"/>
                </a:lnTo>
                <a:lnTo>
                  <a:pt x="114300" y="152400"/>
                </a:lnTo>
                <a:lnTo>
                  <a:pt x="129540" y="152400"/>
                </a:lnTo>
                <a:lnTo>
                  <a:pt x="144780" y="152400"/>
                </a:lnTo>
                <a:lnTo>
                  <a:pt x="167640" y="152400"/>
                </a:lnTo>
                <a:lnTo>
                  <a:pt x="190500" y="152400"/>
                </a:lnTo>
                <a:lnTo>
                  <a:pt x="205740" y="152400"/>
                </a:lnTo>
                <a:lnTo>
                  <a:pt x="220980" y="160020"/>
                </a:lnTo>
                <a:lnTo>
                  <a:pt x="243840" y="160020"/>
                </a:lnTo>
                <a:lnTo>
                  <a:pt x="259080" y="167640"/>
                </a:lnTo>
                <a:lnTo>
                  <a:pt x="266700" y="167640"/>
                </a:lnTo>
                <a:lnTo>
                  <a:pt x="274320" y="175260"/>
                </a:lnTo>
                <a:lnTo>
                  <a:pt x="274320" y="182880"/>
                </a:lnTo>
                <a:lnTo>
                  <a:pt x="274320" y="190500"/>
                </a:lnTo>
                <a:lnTo>
                  <a:pt x="274320" y="198120"/>
                </a:lnTo>
                <a:lnTo>
                  <a:pt x="266700" y="205740"/>
                </a:lnTo>
                <a:lnTo>
                  <a:pt x="259080" y="213360"/>
                </a:lnTo>
                <a:lnTo>
                  <a:pt x="243840" y="220980"/>
                </a:lnTo>
                <a:lnTo>
                  <a:pt x="236220" y="236220"/>
                </a:lnTo>
                <a:lnTo>
                  <a:pt x="220980" y="243840"/>
                </a:lnTo>
                <a:lnTo>
                  <a:pt x="205740" y="251460"/>
                </a:lnTo>
                <a:lnTo>
                  <a:pt x="182880" y="266700"/>
                </a:lnTo>
                <a:lnTo>
                  <a:pt x="167640" y="274320"/>
                </a:lnTo>
                <a:lnTo>
                  <a:pt x="144780" y="281940"/>
                </a:lnTo>
                <a:lnTo>
                  <a:pt x="121920" y="297180"/>
                </a:lnTo>
                <a:lnTo>
                  <a:pt x="99060" y="304800"/>
                </a:lnTo>
                <a:lnTo>
                  <a:pt x="83820" y="304800"/>
                </a:lnTo>
                <a:lnTo>
                  <a:pt x="68580" y="312420"/>
                </a:lnTo>
                <a:lnTo>
                  <a:pt x="60960" y="312420"/>
                </a:lnTo>
                <a:lnTo>
                  <a:pt x="45720" y="312420"/>
                </a:lnTo>
                <a:lnTo>
                  <a:pt x="45720" y="3124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4305240" y="2201760"/>
            <a:ext cx="274680" cy="198720"/>
          </a:xfrm>
          <a:custGeom>
            <a:avLst/>
            <a:gdLst>
              <a:gd name="textAreaLeft" fmla="*/ 0 w 274680"/>
              <a:gd name="textAreaRight" fmla="*/ 275040 w 27468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274321" h="198121">
                <a:moveTo>
                  <a:pt x="45720" y="0"/>
                </a:moveTo>
                <a:lnTo>
                  <a:pt x="38100" y="0"/>
                </a:lnTo>
                <a:lnTo>
                  <a:pt x="38100" y="0"/>
                </a:lnTo>
                <a:lnTo>
                  <a:pt x="38100" y="7620"/>
                </a:lnTo>
                <a:lnTo>
                  <a:pt x="30480" y="15240"/>
                </a:lnTo>
                <a:lnTo>
                  <a:pt x="22860" y="22860"/>
                </a:lnTo>
                <a:lnTo>
                  <a:pt x="22860" y="30480"/>
                </a:lnTo>
                <a:lnTo>
                  <a:pt x="15240" y="45720"/>
                </a:lnTo>
                <a:lnTo>
                  <a:pt x="7620" y="60960"/>
                </a:lnTo>
                <a:lnTo>
                  <a:pt x="7620" y="76200"/>
                </a:lnTo>
                <a:lnTo>
                  <a:pt x="7620" y="91440"/>
                </a:lnTo>
                <a:lnTo>
                  <a:pt x="0" y="106680"/>
                </a:lnTo>
                <a:lnTo>
                  <a:pt x="0" y="121920"/>
                </a:lnTo>
                <a:lnTo>
                  <a:pt x="7620" y="137160"/>
                </a:lnTo>
                <a:lnTo>
                  <a:pt x="7620" y="144780"/>
                </a:lnTo>
                <a:lnTo>
                  <a:pt x="22860" y="160020"/>
                </a:lnTo>
                <a:lnTo>
                  <a:pt x="30480" y="175260"/>
                </a:lnTo>
                <a:lnTo>
                  <a:pt x="38100" y="182880"/>
                </a:lnTo>
                <a:lnTo>
                  <a:pt x="45720" y="190500"/>
                </a:lnTo>
                <a:lnTo>
                  <a:pt x="60960" y="198120"/>
                </a:lnTo>
                <a:lnTo>
                  <a:pt x="83820" y="198120"/>
                </a:lnTo>
                <a:lnTo>
                  <a:pt x="99060" y="198120"/>
                </a:lnTo>
                <a:lnTo>
                  <a:pt x="121920" y="198120"/>
                </a:lnTo>
                <a:lnTo>
                  <a:pt x="144780" y="198120"/>
                </a:lnTo>
                <a:lnTo>
                  <a:pt x="160020" y="190500"/>
                </a:lnTo>
                <a:lnTo>
                  <a:pt x="182880" y="182880"/>
                </a:lnTo>
                <a:lnTo>
                  <a:pt x="205740" y="182880"/>
                </a:lnTo>
                <a:lnTo>
                  <a:pt x="228600" y="175260"/>
                </a:lnTo>
                <a:lnTo>
                  <a:pt x="243840" y="160020"/>
                </a:lnTo>
                <a:lnTo>
                  <a:pt x="251460" y="152400"/>
                </a:lnTo>
                <a:lnTo>
                  <a:pt x="259080" y="144780"/>
                </a:lnTo>
                <a:lnTo>
                  <a:pt x="259080" y="137160"/>
                </a:lnTo>
                <a:lnTo>
                  <a:pt x="259080" y="129540"/>
                </a:lnTo>
                <a:lnTo>
                  <a:pt x="251460" y="121920"/>
                </a:lnTo>
                <a:lnTo>
                  <a:pt x="243840" y="114300"/>
                </a:lnTo>
                <a:lnTo>
                  <a:pt x="236220" y="114300"/>
                </a:lnTo>
                <a:lnTo>
                  <a:pt x="220980" y="114300"/>
                </a:lnTo>
                <a:lnTo>
                  <a:pt x="205740" y="114300"/>
                </a:lnTo>
                <a:lnTo>
                  <a:pt x="182880" y="114300"/>
                </a:lnTo>
                <a:lnTo>
                  <a:pt x="167640" y="114300"/>
                </a:lnTo>
                <a:lnTo>
                  <a:pt x="144780" y="121920"/>
                </a:lnTo>
                <a:lnTo>
                  <a:pt x="129540" y="129540"/>
                </a:lnTo>
                <a:lnTo>
                  <a:pt x="114300" y="137160"/>
                </a:lnTo>
                <a:lnTo>
                  <a:pt x="99060" y="144780"/>
                </a:lnTo>
                <a:lnTo>
                  <a:pt x="91440" y="152400"/>
                </a:lnTo>
                <a:lnTo>
                  <a:pt x="83820" y="160020"/>
                </a:lnTo>
                <a:lnTo>
                  <a:pt x="83820" y="167640"/>
                </a:lnTo>
                <a:lnTo>
                  <a:pt x="83820" y="175260"/>
                </a:lnTo>
                <a:lnTo>
                  <a:pt x="91440" y="182880"/>
                </a:lnTo>
                <a:lnTo>
                  <a:pt x="99060" y="190500"/>
                </a:lnTo>
                <a:lnTo>
                  <a:pt x="114300" y="190500"/>
                </a:lnTo>
                <a:lnTo>
                  <a:pt x="129540" y="198120"/>
                </a:lnTo>
                <a:lnTo>
                  <a:pt x="144780" y="198120"/>
                </a:lnTo>
                <a:lnTo>
                  <a:pt x="167640" y="198120"/>
                </a:lnTo>
                <a:lnTo>
                  <a:pt x="190500" y="198120"/>
                </a:lnTo>
                <a:lnTo>
                  <a:pt x="213360" y="190500"/>
                </a:lnTo>
                <a:lnTo>
                  <a:pt x="236220" y="182880"/>
                </a:lnTo>
                <a:lnTo>
                  <a:pt x="274320" y="182880"/>
                </a:lnTo>
                <a:lnTo>
                  <a:pt x="274320" y="1828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"/>
          <p:cNvSpPr/>
          <p:nvPr/>
        </p:nvSpPr>
        <p:spPr>
          <a:xfrm>
            <a:off x="4648320" y="2111400"/>
            <a:ext cx="236520" cy="196920"/>
          </a:xfrm>
          <a:custGeom>
            <a:avLst/>
            <a:gdLst>
              <a:gd name="textAreaLeft" fmla="*/ 0 w 236520"/>
              <a:gd name="textAreaRight" fmla="*/ 236880 w 2365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36221" h="198121">
                <a:moveTo>
                  <a:pt x="0" y="45720"/>
                </a:moveTo>
                <a:lnTo>
                  <a:pt x="0" y="45720"/>
                </a:lnTo>
                <a:lnTo>
                  <a:pt x="0" y="38100"/>
                </a:lnTo>
                <a:lnTo>
                  <a:pt x="0" y="30480"/>
                </a:lnTo>
                <a:lnTo>
                  <a:pt x="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7620" y="38100"/>
                </a:lnTo>
                <a:lnTo>
                  <a:pt x="7620" y="38100"/>
                </a:lnTo>
                <a:lnTo>
                  <a:pt x="7620" y="45720"/>
                </a:lnTo>
                <a:lnTo>
                  <a:pt x="15240" y="60960"/>
                </a:lnTo>
                <a:lnTo>
                  <a:pt x="15240" y="68580"/>
                </a:lnTo>
                <a:lnTo>
                  <a:pt x="15240" y="83820"/>
                </a:lnTo>
                <a:lnTo>
                  <a:pt x="22860" y="99060"/>
                </a:lnTo>
                <a:lnTo>
                  <a:pt x="30480" y="114300"/>
                </a:lnTo>
                <a:lnTo>
                  <a:pt x="30480" y="121920"/>
                </a:lnTo>
                <a:lnTo>
                  <a:pt x="38100" y="137160"/>
                </a:lnTo>
                <a:lnTo>
                  <a:pt x="53340" y="152400"/>
                </a:lnTo>
                <a:lnTo>
                  <a:pt x="60960" y="167640"/>
                </a:lnTo>
                <a:lnTo>
                  <a:pt x="83820" y="175260"/>
                </a:lnTo>
                <a:lnTo>
                  <a:pt x="91440" y="182880"/>
                </a:lnTo>
                <a:lnTo>
                  <a:pt x="106680" y="190500"/>
                </a:lnTo>
                <a:lnTo>
                  <a:pt x="129540" y="198120"/>
                </a:lnTo>
                <a:lnTo>
                  <a:pt x="144780" y="198120"/>
                </a:lnTo>
                <a:lnTo>
                  <a:pt x="160020" y="198120"/>
                </a:lnTo>
                <a:lnTo>
                  <a:pt x="182880" y="190500"/>
                </a:lnTo>
                <a:lnTo>
                  <a:pt x="198120" y="182880"/>
                </a:lnTo>
                <a:lnTo>
                  <a:pt x="205740" y="175260"/>
                </a:lnTo>
                <a:lnTo>
                  <a:pt x="220980" y="167640"/>
                </a:lnTo>
                <a:lnTo>
                  <a:pt x="228600" y="152400"/>
                </a:lnTo>
                <a:lnTo>
                  <a:pt x="236220" y="137160"/>
                </a:lnTo>
                <a:lnTo>
                  <a:pt x="236220" y="121920"/>
                </a:lnTo>
                <a:lnTo>
                  <a:pt x="236220" y="99060"/>
                </a:lnTo>
                <a:lnTo>
                  <a:pt x="228600" y="83820"/>
                </a:lnTo>
                <a:lnTo>
                  <a:pt x="220980" y="68580"/>
                </a:lnTo>
                <a:lnTo>
                  <a:pt x="205740" y="53340"/>
                </a:lnTo>
                <a:lnTo>
                  <a:pt x="198120" y="38100"/>
                </a:lnTo>
                <a:lnTo>
                  <a:pt x="182880" y="30480"/>
                </a:lnTo>
                <a:lnTo>
                  <a:pt x="160020" y="15240"/>
                </a:lnTo>
                <a:lnTo>
                  <a:pt x="137160" y="7620"/>
                </a:lnTo>
                <a:lnTo>
                  <a:pt x="121920" y="7620"/>
                </a:lnTo>
                <a:lnTo>
                  <a:pt x="99060" y="0"/>
                </a:lnTo>
                <a:lnTo>
                  <a:pt x="83820" y="7620"/>
                </a:lnTo>
                <a:lnTo>
                  <a:pt x="60960" y="7620"/>
                </a:lnTo>
                <a:lnTo>
                  <a:pt x="45720" y="15240"/>
                </a:lnTo>
                <a:lnTo>
                  <a:pt x="38100" y="15240"/>
                </a:lnTo>
                <a:lnTo>
                  <a:pt x="30480" y="30480"/>
                </a:lnTo>
                <a:lnTo>
                  <a:pt x="22860" y="38100"/>
                </a:lnTo>
                <a:lnTo>
                  <a:pt x="22860" y="53340"/>
                </a:lnTo>
                <a:lnTo>
                  <a:pt x="30480" y="68580"/>
                </a:lnTo>
                <a:lnTo>
                  <a:pt x="30480" y="685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>
            <a:off x="4937040" y="2155680"/>
            <a:ext cx="69840" cy="24120"/>
          </a:xfrm>
          <a:custGeom>
            <a:avLst/>
            <a:gdLst>
              <a:gd name="textAreaLeft" fmla="*/ 0 w 69840"/>
              <a:gd name="textAreaRight" fmla="*/ 70200 w 6984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68581" h="22861">
                <a:moveTo>
                  <a:pt x="0" y="22860"/>
                </a:moveTo>
                <a:lnTo>
                  <a:pt x="0" y="22860"/>
                </a:lnTo>
                <a:lnTo>
                  <a:pt x="7620" y="22860"/>
                </a:lnTo>
                <a:lnTo>
                  <a:pt x="7620" y="15240"/>
                </a:lnTo>
                <a:lnTo>
                  <a:pt x="15240" y="7620"/>
                </a:lnTo>
                <a:lnTo>
                  <a:pt x="15240" y="7620"/>
                </a:lnTo>
                <a:lnTo>
                  <a:pt x="30480" y="7620"/>
                </a:lnTo>
                <a:lnTo>
                  <a:pt x="38100" y="0"/>
                </a:lnTo>
                <a:lnTo>
                  <a:pt x="45720" y="0"/>
                </a:lnTo>
                <a:lnTo>
                  <a:pt x="53340" y="0"/>
                </a:lnTo>
                <a:lnTo>
                  <a:pt x="68580" y="0"/>
                </a:lnTo>
                <a:lnTo>
                  <a:pt x="6858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1"/>
          <p:cNvSpPr/>
          <p:nvPr/>
        </p:nvSpPr>
        <p:spPr>
          <a:xfrm>
            <a:off x="5051520" y="2019240"/>
            <a:ext cx="160200" cy="160560"/>
          </a:xfrm>
          <a:custGeom>
            <a:avLst/>
            <a:gdLst>
              <a:gd name="textAreaLeft" fmla="*/ 0 w 160200"/>
              <a:gd name="textAreaRight" fmla="*/ 160560 w 16020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160021" h="160021">
                <a:moveTo>
                  <a:pt x="0" y="53340"/>
                </a:moveTo>
                <a:lnTo>
                  <a:pt x="0" y="45720"/>
                </a:lnTo>
                <a:lnTo>
                  <a:pt x="0" y="45720"/>
                </a:lnTo>
                <a:lnTo>
                  <a:pt x="0" y="38100"/>
                </a:lnTo>
                <a:lnTo>
                  <a:pt x="0" y="38100"/>
                </a:lnTo>
                <a:lnTo>
                  <a:pt x="7620" y="30480"/>
                </a:lnTo>
                <a:lnTo>
                  <a:pt x="15240" y="22860"/>
                </a:lnTo>
                <a:lnTo>
                  <a:pt x="22860" y="22860"/>
                </a:lnTo>
                <a:lnTo>
                  <a:pt x="30480" y="15240"/>
                </a:lnTo>
                <a:lnTo>
                  <a:pt x="45720" y="15240"/>
                </a:lnTo>
                <a:lnTo>
                  <a:pt x="60960" y="7620"/>
                </a:lnTo>
                <a:lnTo>
                  <a:pt x="76200" y="7620"/>
                </a:lnTo>
                <a:lnTo>
                  <a:pt x="83820" y="7620"/>
                </a:lnTo>
                <a:lnTo>
                  <a:pt x="99060" y="0"/>
                </a:lnTo>
                <a:lnTo>
                  <a:pt x="114300" y="0"/>
                </a:lnTo>
                <a:lnTo>
                  <a:pt x="121920" y="0"/>
                </a:lnTo>
                <a:lnTo>
                  <a:pt x="129540" y="0"/>
                </a:lnTo>
                <a:lnTo>
                  <a:pt x="129540" y="7620"/>
                </a:lnTo>
                <a:lnTo>
                  <a:pt x="137160" y="7620"/>
                </a:lnTo>
                <a:lnTo>
                  <a:pt x="137160" y="7620"/>
                </a:lnTo>
                <a:lnTo>
                  <a:pt x="137160" y="15240"/>
                </a:lnTo>
                <a:lnTo>
                  <a:pt x="137160" y="22860"/>
                </a:lnTo>
                <a:lnTo>
                  <a:pt x="137160" y="30480"/>
                </a:lnTo>
                <a:lnTo>
                  <a:pt x="129540" y="38100"/>
                </a:lnTo>
                <a:lnTo>
                  <a:pt x="129540" y="45720"/>
                </a:lnTo>
                <a:lnTo>
                  <a:pt x="121920" y="53340"/>
                </a:lnTo>
                <a:lnTo>
                  <a:pt x="114300" y="60960"/>
                </a:lnTo>
                <a:lnTo>
                  <a:pt x="99060" y="76200"/>
                </a:lnTo>
                <a:lnTo>
                  <a:pt x="91440" y="83820"/>
                </a:lnTo>
                <a:lnTo>
                  <a:pt x="83820" y="99060"/>
                </a:lnTo>
                <a:lnTo>
                  <a:pt x="76200" y="106680"/>
                </a:lnTo>
                <a:lnTo>
                  <a:pt x="76200" y="114300"/>
                </a:lnTo>
                <a:lnTo>
                  <a:pt x="68580" y="129540"/>
                </a:lnTo>
                <a:lnTo>
                  <a:pt x="68580" y="137160"/>
                </a:lnTo>
                <a:lnTo>
                  <a:pt x="68580" y="144780"/>
                </a:lnTo>
                <a:lnTo>
                  <a:pt x="68580" y="144780"/>
                </a:lnTo>
                <a:lnTo>
                  <a:pt x="76200" y="152400"/>
                </a:lnTo>
                <a:lnTo>
                  <a:pt x="83820" y="160020"/>
                </a:lnTo>
                <a:lnTo>
                  <a:pt x="91440" y="160020"/>
                </a:lnTo>
                <a:lnTo>
                  <a:pt x="106680" y="160020"/>
                </a:lnTo>
                <a:lnTo>
                  <a:pt x="121920" y="160020"/>
                </a:lnTo>
                <a:lnTo>
                  <a:pt x="129540" y="152400"/>
                </a:lnTo>
                <a:lnTo>
                  <a:pt x="160020" y="152400"/>
                </a:lnTo>
                <a:lnTo>
                  <a:pt x="160020" y="1524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2"/>
          <p:cNvSpPr/>
          <p:nvPr/>
        </p:nvSpPr>
        <p:spPr>
          <a:xfrm>
            <a:off x="5303880" y="1981080"/>
            <a:ext cx="114120" cy="160560"/>
          </a:xfrm>
          <a:custGeom>
            <a:avLst/>
            <a:gdLst>
              <a:gd name="textAreaLeft" fmla="*/ 0 w 114120"/>
              <a:gd name="textAreaRight" fmla="*/ 114480 w 11412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114301" h="160021">
                <a:moveTo>
                  <a:pt x="15240" y="0"/>
                </a:moveTo>
                <a:lnTo>
                  <a:pt x="15240" y="0"/>
                </a:lnTo>
                <a:lnTo>
                  <a:pt x="15240" y="0"/>
                </a:lnTo>
                <a:lnTo>
                  <a:pt x="15240" y="0"/>
                </a:lnTo>
                <a:lnTo>
                  <a:pt x="15240" y="7620"/>
                </a:lnTo>
                <a:lnTo>
                  <a:pt x="15240" y="7620"/>
                </a:lnTo>
                <a:lnTo>
                  <a:pt x="15240" y="15240"/>
                </a:lnTo>
                <a:lnTo>
                  <a:pt x="15240" y="22860"/>
                </a:lnTo>
                <a:lnTo>
                  <a:pt x="7620" y="30480"/>
                </a:lnTo>
                <a:lnTo>
                  <a:pt x="7620" y="45720"/>
                </a:lnTo>
                <a:lnTo>
                  <a:pt x="7620" y="53340"/>
                </a:lnTo>
                <a:lnTo>
                  <a:pt x="7620" y="68580"/>
                </a:lnTo>
                <a:lnTo>
                  <a:pt x="0" y="76200"/>
                </a:lnTo>
                <a:lnTo>
                  <a:pt x="0" y="91440"/>
                </a:lnTo>
                <a:lnTo>
                  <a:pt x="0" y="106680"/>
                </a:lnTo>
                <a:lnTo>
                  <a:pt x="7620" y="114300"/>
                </a:lnTo>
                <a:lnTo>
                  <a:pt x="7620" y="129540"/>
                </a:lnTo>
                <a:lnTo>
                  <a:pt x="15240" y="137160"/>
                </a:lnTo>
                <a:lnTo>
                  <a:pt x="15240" y="144780"/>
                </a:lnTo>
                <a:lnTo>
                  <a:pt x="22860" y="152400"/>
                </a:lnTo>
                <a:lnTo>
                  <a:pt x="30480" y="160020"/>
                </a:lnTo>
                <a:lnTo>
                  <a:pt x="38100" y="160020"/>
                </a:lnTo>
                <a:lnTo>
                  <a:pt x="53340" y="160020"/>
                </a:lnTo>
                <a:lnTo>
                  <a:pt x="60960" y="160020"/>
                </a:lnTo>
                <a:lnTo>
                  <a:pt x="68580" y="152400"/>
                </a:lnTo>
                <a:lnTo>
                  <a:pt x="83820" y="144780"/>
                </a:lnTo>
                <a:lnTo>
                  <a:pt x="91440" y="137160"/>
                </a:lnTo>
                <a:lnTo>
                  <a:pt x="99060" y="129540"/>
                </a:lnTo>
                <a:lnTo>
                  <a:pt x="114300" y="114300"/>
                </a:lnTo>
                <a:lnTo>
                  <a:pt x="114300" y="1143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3"/>
          <p:cNvSpPr/>
          <p:nvPr/>
        </p:nvSpPr>
        <p:spPr>
          <a:xfrm>
            <a:off x="5342040" y="2065320"/>
            <a:ext cx="114120" cy="46080"/>
          </a:xfrm>
          <a:custGeom>
            <a:avLst/>
            <a:gdLst>
              <a:gd name="textAreaLeft" fmla="*/ 0 w 114120"/>
              <a:gd name="textAreaRight" fmla="*/ 114480 w 1141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14301" h="45721">
                <a:moveTo>
                  <a:pt x="76200" y="7620"/>
                </a:moveTo>
                <a:lnTo>
                  <a:pt x="68580" y="0"/>
                </a:lnTo>
                <a:lnTo>
                  <a:pt x="60960" y="0"/>
                </a:lnTo>
                <a:lnTo>
                  <a:pt x="53340" y="0"/>
                </a:lnTo>
                <a:lnTo>
                  <a:pt x="38100" y="0"/>
                </a:lnTo>
                <a:lnTo>
                  <a:pt x="30480" y="0"/>
                </a:lnTo>
                <a:lnTo>
                  <a:pt x="22860" y="0"/>
                </a:lnTo>
                <a:lnTo>
                  <a:pt x="15240" y="0"/>
                </a:lnTo>
                <a:lnTo>
                  <a:pt x="7620" y="7620"/>
                </a:lnTo>
                <a:lnTo>
                  <a:pt x="0" y="1524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7620" y="38100"/>
                </a:lnTo>
                <a:lnTo>
                  <a:pt x="15240" y="38100"/>
                </a:lnTo>
                <a:lnTo>
                  <a:pt x="22860" y="45720"/>
                </a:lnTo>
                <a:lnTo>
                  <a:pt x="38100" y="45720"/>
                </a:lnTo>
                <a:lnTo>
                  <a:pt x="53340" y="45720"/>
                </a:lnTo>
                <a:lnTo>
                  <a:pt x="68580" y="45720"/>
                </a:lnTo>
                <a:lnTo>
                  <a:pt x="83820" y="45720"/>
                </a:lnTo>
                <a:lnTo>
                  <a:pt x="114300" y="38100"/>
                </a:lnTo>
                <a:lnTo>
                  <a:pt x="114300" y="381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4"/>
          <p:cNvSpPr/>
          <p:nvPr/>
        </p:nvSpPr>
        <p:spPr>
          <a:xfrm>
            <a:off x="5494320" y="1905120"/>
            <a:ext cx="122400" cy="106200"/>
          </a:xfrm>
          <a:custGeom>
            <a:avLst/>
            <a:gdLst>
              <a:gd name="textAreaLeft" fmla="*/ 0 w 122400"/>
              <a:gd name="textAreaRight" fmla="*/ 122760 w 122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21921" h="106681">
                <a:moveTo>
                  <a:pt x="30480" y="15240"/>
                </a:moveTo>
                <a:lnTo>
                  <a:pt x="30480" y="7620"/>
                </a:lnTo>
                <a:lnTo>
                  <a:pt x="30480" y="762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7620"/>
                </a:lnTo>
                <a:lnTo>
                  <a:pt x="30480" y="15240"/>
                </a:lnTo>
                <a:lnTo>
                  <a:pt x="22860" y="15240"/>
                </a:lnTo>
                <a:lnTo>
                  <a:pt x="15240" y="22860"/>
                </a:lnTo>
                <a:lnTo>
                  <a:pt x="15240" y="30480"/>
                </a:lnTo>
                <a:lnTo>
                  <a:pt x="15240" y="38100"/>
                </a:lnTo>
                <a:lnTo>
                  <a:pt x="7620" y="53340"/>
                </a:lnTo>
                <a:lnTo>
                  <a:pt x="0" y="60960"/>
                </a:lnTo>
                <a:lnTo>
                  <a:pt x="0" y="68580"/>
                </a:lnTo>
                <a:lnTo>
                  <a:pt x="0" y="83820"/>
                </a:lnTo>
                <a:lnTo>
                  <a:pt x="7620" y="91440"/>
                </a:lnTo>
                <a:lnTo>
                  <a:pt x="15240" y="99060"/>
                </a:lnTo>
                <a:lnTo>
                  <a:pt x="15240" y="106680"/>
                </a:lnTo>
                <a:lnTo>
                  <a:pt x="30480" y="106680"/>
                </a:lnTo>
                <a:lnTo>
                  <a:pt x="38100" y="106680"/>
                </a:lnTo>
                <a:lnTo>
                  <a:pt x="45720" y="106680"/>
                </a:lnTo>
                <a:lnTo>
                  <a:pt x="68580" y="106680"/>
                </a:lnTo>
                <a:lnTo>
                  <a:pt x="76200" y="99060"/>
                </a:lnTo>
                <a:lnTo>
                  <a:pt x="91440" y="91440"/>
                </a:lnTo>
                <a:lnTo>
                  <a:pt x="106680" y="83820"/>
                </a:lnTo>
                <a:lnTo>
                  <a:pt x="114300" y="76200"/>
                </a:lnTo>
                <a:lnTo>
                  <a:pt x="114300" y="68580"/>
                </a:lnTo>
                <a:lnTo>
                  <a:pt x="121920" y="53340"/>
                </a:lnTo>
                <a:lnTo>
                  <a:pt x="121920" y="45720"/>
                </a:lnTo>
                <a:lnTo>
                  <a:pt x="114300" y="38100"/>
                </a:lnTo>
                <a:lnTo>
                  <a:pt x="106680" y="30480"/>
                </a:lnTo>
                <a:lnTo>
                  <a:pt x="99060" y="22860"/>
                </a:lnTo>
                <a:lnTo>
                  <a:pt x="83820" y="15240"/>
                </a:lnTo>
                <a:lnTo>
                  <a:pt x="76200" y="15240"/>
                </a:lnTo>
                <a:lnTo>
                  <a:pt x="60960" y="7620"/>
                </a:lnTo>
                <a:lnTo>
                  <a:pt x="53340" y="7620"/>
                </a:lnTo>
                <a:lnTo>
                  <a:pt x="38100" y="15240"/>
                </a:lnTo>
                <a:lnTo>
                  <a:pt x="22860" y="15240"/>
                </a:lnTo>
                <a:lnTo>
                  <a:pt x="15240" y="15240"/>
                </a:lnTo>
                <a:lnTo>
                  <a:pt x="7620" y="22860"/>
                </a:lnTo>
                <a:lnTo>
                  <a:pt x="0" y="30480"/>
                </a:lnTo>
                <a:lnTo>
                  <a:pt x="0" y="38100"/>
                </a:lnTo>
                <a:lnTo>
                  <a:pt x="0" y="45720"/>
                </a:lnTo>
                <a:lnTo>
                  <a:pt x="0" y="53340"/>
                </a:lnTo>
                <a:lnTo>
                  <a:pt x="7620" y="60960"/>
                </a:lnTo>
                <a:lnTo>
                  <a:pt x="15240" y="76200"/>
                </a:lnTo>
                <a:lnTo>
                  <a:pt x="15240" y="7620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5"/>
          <p:cNvSpPr/>
          <p:nvPr/>
        </p:nvSpPr>
        <p:spPr>
          <a:xfrm>
            <a:off x="5508720" y="2019240"/>
            <a:ext cx="137880" cy="84240"/>
          </a:xfrm>
          <a:custGeom>
            <a:avLst/>
            <a:gdLst>
              <a:gd name="textAreaLeft" fmla="*/ 0 w 137880"/>
              <a:gd name="textAreaRight" fmla="*/ 138240 w 1378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37161" h="83821">
                <a:moveTo>
                  <a:pt x="83820" y="0"/>
                </a:moveTo>
                <a:lnTo>
                  <a:pt x="76200" y="0"/>
                </a:lnTo>
                <a:lnTo>
                  <a:pt x="68580" y="0"/>
                </a:lnTo>
                <a:lnTo>
                  <a:pt x="53340" y="0"/>
                </a:lnTo>
                <a:lnTo>
                  <a:pt x="45720" y="0"/>
                </a:lnTo>
                <a:lnTo>
                  <a:pt x="30480" y="7620"/>
                </a:lnTo>
                <a:lnTo>
                  <a:pt x="22860" y="7620"/>
                </a:lnTo>
                <a:lnTo>
                  <a:pt x="15240" y="15240"/>
                </a:lnTo>
                <a:lnTo>
                  <a:pt x="7620" y="22860"/>
                </a:lnTo>
                <a:lnTo>
                  <a:pt x="7620" y="30480"/>
                </a:lnTo>
                <a:lnTo>
                  <a:pt x="0" y="38100"/>
                </a:lnTo>
                <a:lnTo>
                  <a:pt x="0" y="45720"/>
                </a:lnTo>
                <a:lnTo>
                  <a:pt x="7620" y="53340"/>
                </a:lnTo>
                <a:lnTo>
                  <a:pt x="7620" y="60960"/>
                </a:lnTo>
                <a:lnTo>
                  <a:pt x="15240" y="68580"/>
                </a:lnTo>
                <a:lnTo>
                  <a:pt x="22860" y="76200"/>
                </a:lnTo>
                <a:lnTo>
                  <a:pt x="38100" y="76200"/>
                </a:lnTo>
                <a:lnTo>
                  <a:pt x="53340" y="83820"/>
                </a:lnTo>
                <a:lnTo>
                  <a:pt x="60960" y="83820"/>
                </a:lnTo>
                <a:lnTo>
                  <a:pt x="83820" y="83820"/>
                </a:lnTo>
                <a:lnTo>
                  <a:pt x="99060" y="83820"/>
                </a:lnTo>
                <a:lnTo>
                  <a:pt x="114300" y="76200"/>
                </a:lnTo>
                <a:lnTo>
                  <a:pt x="121920" y="68580"/>
                </a:lnTo>
                <a:lnTo>
                  <a:pt x="129540" y="60960"/>
                </a:lnTo>
                <a:lnTo>
                  <a:pt x="137160" y="60960"/>
                </a:lnTo>
                <a:lnTo>
                  <a:pt x="137160" y="53340"/>
                </a:lnTo>
                <a:lnTo>
                  <a:pt x="137160" y="38100"/>
                </a:lnTo>
                <a:lnTo>
                  <a:pt x="129540" y="30480"/>
                </a:lnTo>
                <a:lnTo>
                  <a:pt x="121920" y="22860"/>
                </a:lnTo>
                <a:lnTo>
                  <a:pt x="121920" y="228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6"/>
          <p:cNvSpPr/>
          <p:nvPr/>
        </p:nvSpPr>
        <p:spPr>
          <a:xfrm>
            <a:off x="5638680" y="2111400"/>
            <a:ext cx="2256120" cy="2033640"/>
          </a:xfrm>
          <a:custGeom>
            <a:avLst/>
            <a:gdLst>
              <a:gd name="textAreaLeft" fmla="*/ 0 w 2256120"/>
              <a:gd name="textAreaRight" fmla="*/ 2256480 w 22561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2255521" h="2034541">
                <a:moveTo>
                  <a:pt x="60960" y="701040"/>
                </a:moveTo>
                <a:lnTo>
                  <a:pt x="53340" y="701040"/>
                </a:lnTo>
                <a:lnTo>
                  <a:pt x="53340" y="701040"/>
                </a:lnTo>
                <a:lnTo>
                  <a:pt x="45720" y="701040"/>
                </a:lnTo>
                <a:lnTo>
                  <a:pt x="45720" y="701040"/>
                </a:lnTo>
                <a:lnTo>
                  <a:pt x="45720" y="701040"/>
                </a:lnTo>
                <a:lnTo>
                  <a:pt x="45720" y="701040"/>
                </a:lnTo>
                <a:lnTo>
                  <a:pt x="38100" y="701040"/>
                </a:lnTo>
                <a:lnTo>
                  <a:pt x="38100" y="693420"/>
                </a:lnTo>
                <a:lnTo>
                  <a:pt x="38100" y="693420"/>
                </a:lnTo>
                <a:lnTo>
                  <a:pt x="38100" y="693420"/>
                </a:lnTo>
                <a:lnTo>
                  <a:pt x="38100" y="685800"/>
                </a:lnTo>
                <a:lnTo>
                  <a:pt x="38100" y="685800"/>
                </a:lnTo>
                <a:lnTo>
                  <a:pt x="45720" y="678180"/>
                </a:lnTo>
                <a:lnTo>
                  <a:pt x="45720" y="678180"/>
                </a:lnTo>
                <a:lnTo>
                  <a:pt x="53340" y="678180"/>
                </a:lnTo>
                <a:lnTo>
                  <a:pt x="53340" y="678180"/>
                </a:lnTo>
                <a:lnTo>
                  <a:pt x="60960" y="678180"/>
                </a:lnTo>
                <a:lnTo>
                  <a:pt x="68580" y="678180"/>
                </a:lnTo>
                <a:lnTo>
                  <a:pt x="68580" y="678180"/>
                </a:lnTo>
                <a:lnTo>
                  <a:pt x="76200" y="678180"/>
                </a:lnTo>
                <a:lnTo>
                  <a:pt x="76200" y="678180"/>
                </a:lnTo>
                <a:lnTo>
                  <a:pt x="76200" y="678180"/>
                </a:lnTo>
                <a:lnTo>
                  <a:pt x="76200" y="678180"/>
                </a:lnTo>
                <a:lnTo>
                  <a:pt x="76200" y="678180"/>
                </a:lnTo>
                <a:lnTo>
                  <a:pt x="76200" y="678180"/>
                </a:lnTo>
                <a:lnTo>
                  <a:pt x="76200" y="685800"/>
                </a:lnTo>
                <a:lnTo>
                  <a:pt x="76200" y="685800"/>
                </a:lnTo>
                <a:lnTo>
                  <a:pt x="76200" y="685800"/>
                </a:lnTo>
                <a:lnTo>
                  <a:pt x="68580" y="693420"/>
                </a:lnTo>
                <a:lnTo>
                  <a:pt x="60960" y="693420"/>
                </a:lnTo>
                <a:lnTo>
                  <a:pt x="60960" y="693420"/>
                </a:lnTo>
                <a:lnTo>
                  <a:pt x="53340" y="701040"/>
                </a:lnTo>
                <a:lnTo>
                  <a:pt x="45720" y="701040"/>
                </a:lnTo>
                <a:lnTo>
                  <a:pt x="38100" y="701040"/>
                </a:lnTo>
                <a:lnTo>
                  <a:pt x="3810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85800"/>
                </a:lnTo>
                <a:lnTo>
                  <a:pt x="38100" y="685800"/>
                </a:lnTo>
                <a:lnTo>
                  <a:pt x="38100" y="685800"/>
                </a:lnTo>
                <a:lnTo>
                  <a:pt x="45720" y="685800"/>
                </a:lnTo>
                <a:lnTo>
                  <a:pt x="45720" y="685800"/>
                </a:lnTo>
                <a:lnTo>
                  <a:pt x="53340" y="685800"/>
                </a:lnTo>
                <a:lnTo>
                  <a:pt x="53340" y="685800"/>
                </a:lnTo>
                <a:lnTo>
                  <a:pt x="53340" y="685800"/>
                </a:lnTo>
                <a:lnTo>
                  <a:pt x="60960" y="685800"/>
                </a:lnTo>
                <a:lnTo>
                  <a:pt x="60960" y="685800"/>
                </a:lnTo>
                <a:lnTo>
                  <a:pt x="60960" y="685800"/>
                </a:lnTo>
                <a:lnTo>
                  <a:pt x="60960" y="685800"/>
                </a:lnTo>
                <a:lnTo>
                  <a:pt x="60960" y="693420"/>
                </a:lnTo>
                <a:lnTo>
                  <a:pt x="60960" y="693420"/>
                </a:lnTo>
                <a:lnTo>
                  <a:pt x="60960" y="693420"/>
                </a:lnTo>
                <a:lnTo>
                  <a:pt x="53340" y="693420"/>
                </a:lnTo>
                <a:lnTo>
                  <a:pt x="45720" y="701040"/>
                </a:lnTo>
                <a:lnTo>
                  <a:pt x="45720" y="701040"/>
                </a:lnTo>
                <a:lnTo>
                  <a:pt x="38100" y="701040"/>
                </a:lnTo>
                <a:lnTo>
                  <a:pt x="3810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85800"/>
                </a:lnTo>
                <a:lnTo>
                  <a:pt x="30480" y="68580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69342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701040"/>
                </a:lnTo>
                <a:lnTo>
                  <a:pt x="30480" y="708660"/>
                </a:lnTo>
                <a:lnTo>
                  <a:pt x="22860" y="708660"/>
                </a:lnTo>
                <a:lnTo>
                  <a:pt x="22860" y="716280"/>
                </a:lnTo>
                <a:lnTo>
                  <a:pt x="22860" y="716280"/>
                </a:lnTo>
                <a:lnTo>
                  <a:pt x="22860" y="723900"/>
                </a:lnTo>
                <a:lnTo>
                  <a:pt x="15240" y="731520"/>
                </a:lnTo>
                <a:lnTo>
                  <a:pt x="15240" y="731520"/>
                </a:lnTo>
                <a:lnTo>
                  <a:pt x="15240" y="739140"/>
                </a:lnTo>
                <a:lnTo>
                  <a:pt x="15240" y="746760"/>
                </a:lnTo>
                <a:lnTo>
                  <a:pt x="15240" y="754380"/>
                </a:lnTo>
                <a:lnTo>
                  <a:pt x="15240" y="754380"/>
                </a:lnTo>
                <a:lnTo>
                  <a:pt x="15240" y="762000"/>
                </a:lnTo>
                <a:lnTo>
                  <a:pt x="7620" y="769620"/>
                </a:lnTo>
                <a:lnTo>
                  <a:pt x="7620" y="777240"/>
                </a:lnTo>
                <a:lnTo>
                  <a:pt x="7620" y="784860"/>
                </a:lnTo>
                <a:lnTo>
                  <a:pt x="7620" y="792480"/>
                </a:lnTo>
                <a:lnTo>
                  <a:pt x="7620" y="800100"/>
                </a:lnTo>
                <a:lnTo>
                  <a:pt x="7620" y="807720"/>
                </a:lnTo>
                <a:lnTo>
                  <a:pt x="7620" y="815340"/>
                </a:lnTo>
                <a:lnTo>
                  <a:pt x="7620" y="830580"/>
                </a:lnTo>
                <a:lnTo>
                  <a:pt x="7620" y="838200"/>
                </a:lnTo>
                <a:lnTo>
                  <a:pt x="7620" y="845820"/>
                </a:lnTo>
                <a:lnTo>
                  <a:pt x="7620" y="861060"/>
                </a:lnTo>
                <a:lnTo>
                  <a:pt x="7620" y="868680"/>
                </a:lnTo>
                <a:lnTo>
                  <a:pt x="7620" y="883920"/>
                </a:lnTo>
                <a:lnTo>
                  <a:pt x="7620" y="891540"/>
                </a:lnTo>
                <a:lnTo>
                  <a:pt x="7620" y="906780"/>
                </a:lnTo>
                <a:lnTo>
                  <a:pt x="7620" y="914400"/>
                </a:lnTo>
                <a:lnTo>
                  <a:pt x="7620" y="929640"/>
                </a:lnTo>
                <a:lnTo>
                  <a:pt x="7620" y="944880"/>
                </a:lnTo>
                <a:lnTo>
                  <a:pt x="7620" y="952500"/>
                </a:lnTo>
                <a:lnTo>
                  <a:pt x="0" y="967740"/>
                </a:lnTo>
                <a:lnTo>
                  <a:pt x="0" y="982980"/>
                </a:lnTo>
                <a:lnTo>
                  <a:pt x="0" y="998220"/>
                </a:lnTo>
                <a:lnTo>
                  <a:pt x="0" y="1013460"/>
                </a:lnTo>
                <a:lnTo>
                  <a:pt x="0" y="1021080"/>
                </a:lnTo>
                <a:lnTo>
                  <a:pt x="0" y="1036320"/>
                </a:lnTo>
                <a:lnTo>
                  <a:pt x="0" y="1051560"/>
                </a:lnTo>
                <a:lnTo>
                  <a:pt x="0" y="1066800"/>
                </a:lnTo>
                <a:lnTo>
                  <a:pt x="0" y="1082040"/>
                </a:lnTo>
                <a:lnTo>
                  <a:pt x="0" y="1097280"/>
                </a:lnTo>
                <a:lnTo>
                  <a:pt x="0" y="1112520"/>
                </a:lnTo>
                <a:lnTo>
                  <a:pt x="0" y="1127760"/>
                </a:lnTo>
                <a:lnTo>
                  <a:pt x="7620" y="1143000"/>
                </a:lnTo>
                <a:lnTo>
                  <a:pt x="7620" y="1158240"/>
                </a:lnTo>
                <a:lnTo>
                  <a:pt x="7620" y="1173480"/>
                </a:lnTo>
                <a:lnTo>
                  <a:pt x="15240" y="1188720"/>
                </a:lnTo>
                <a:lnTo>
                  <a:pt x="15240" y="1203960"/>
                </a:lnTo>
                <a:lnTo>
                  <a:pt x="15240" y="1219200"/>
                </a:lnTo>
                <a:lnTo>
                  <a:pt x="22860" y="1234440"/>
                </a:lnTo>
                <a:lnTo>
                  <a:pt x="22860" y="1242060"/>
                </a:lnTo>
                <a:lnTo>
                  <a:pt x="30480" y="1264920"/>
                </a:lnTo>
                <a:lnTo>
                  <a:pt x="30480" y="1272540"/>
                </a:lnTo>
                <a:lnTo>
                  <a:pt x="30480" y="1287780"/>
                </a:lnTo>
                <a:lnTo>
                  <a:pt x="38100" y="1303020"/>
                </a:lnTo>
                <a:lnTo>
                  <a:pt x="38100" y="1318260"/>
                </a:lnTo>
                <a:lnTo>
                  <a:pt x="45720" y="1333500"/>
                </a:lnTo>
                <a:lnTo>
                  <a:pt x="45720" y="1348740"/>
                </a:lnTo>
                <a:lnTo>
                  <a:pt x="53340" y="1363980"/>
                </a:lnTo>
                <a:lnTo>
                  <a:pt x="60960" y="1379220"/>
                </a:lnTo>
                <a:lnTo>
                  <a:pt x="60960" y="1394460"/>
                </a:lnTo>
                <a:lnTo>
                  <a:pt x="68580" y="1402080"/>
                </a:lnTo>
                <a:lnTo>
                  <a:pt x="68580" y="1417320"/>
                </a:lnTo>
                <a:lnTo>
                  <a:pt x="76200" y="1432560"/>
                </a:lnTo>
                <a:lnTo>
                  <a:pt x="83820" y="1447800"/>
                </a:lnTo>
                <a:lnTo>
                  <a:pt x="83820" y="1463040"/>
                </a:lnTo>
                <a:lnTo>
                  <a:pt x="91440" y="1478280"/>
                </a:lnTo>
                <a:lnTo>
                  <a:pt x="99060" y="1485900"/>
                </a:lnTo>
                <a:lnTo>
                  <a:pt x="99060" y="1501140"/>
                </a:lnTo>
                <a:lnTo>
                  <a:pt x="106680" y="1516380"/>
                </a:lnTo>
                <a:lnTo>
                  <a:pt x="114300" y="1531620"/>
                </a:lnTo>
                <a:lnTo>
                  <a:pt x="121920" y="1539240"/>
                </a:lnTo>
                <a:lnTo>
                  <a:pt x="121920" y="1554480"/>
                </a:lnTo>
                <a:lnTo>
                  <a:pt x="129540" y="1562100"/>
                </a:lnTo>
                <a:lnTo>
                  <a:pt x="137160" y="1577340"/>
                </a:lnTo>
                <a:lnTo>
                  <a:pt x="144780" y="1592580"/>
                </a:lnTo>
                <a:lnTo>
                  <a:pt x="144780" y="1600200"/>
                </a:lnTo>
                <a:lnTo>
                  <a:pt x="160020" y="1615440"/>
                </a:lnTo>
                <a:lnTo>
                  <a:pt x="160020" y="1623060"/>
                </a:lnTo>
                <a:lnTo>
                  <a:pt x="167640" y="1630680"/>
                </a:lnTo>
                <a:lnTo>
                  <a:pt x="175260" y="1638300"/>
                </a:lnTo>
                <a:lnTo>
                  <a:pt x="182880" y="1653540"/>
                </a:lnTo>
                <a:lnTo>
                  <a:pt x="190500" y="1661160"/>
                </a:lnTo>
                <a:lnTo>
                  <a:pt x="198120" y="1676400"/>
                </a:lnTo>
                <a:lnTo>
                  <a:pt x="213360" y="1684020"/>
                </a:lnTo>
                <a:lnTo>
                  <a:pt x="220980" y="1691640"/>
                </a:lnTo>
                <a:lnTo>
                  <a:pt x="228600" y="1699260"/>
                </a:lnTo>
                <a:lnTo>
                  <a:pt x="236220" y="1706880"/>
                </a:lnTo>
                <a:lnTo>
                  <a:pt x="243840" y="1714500"/>
                </a:lnTo>
                <a:lnTo>
                  <a:pt x="259080" y="1722120"/>
                </a:lnTo>
                <a:lnTo>
                  <a:pt x="266700" y="1729740"/>
                </a:lnTo>
                <a:lnTo>
                  <a:pt x="281940" y="1737360"/>
                </a:lnTo>
                <a:lnTo>
                  <a:pt x="289560" y="1744980"/>
                </a:lnTo>
                <a:lnTo>
                  <a:pt x="304800" y="1752600"/>
                </a:lnTo>
                <a:lnTo>
                  <a:pt x="312420" y="1760220"/>
                </a:lnTo>
                <a:lnTo>
                  <a:pt x="327660" y="1767840"/>
                </a:lnTo>
                <a:lnTo>
                  <a:pt x="335280" y="1775460"/>
                </a:lnTo>
                <a:lnTo>
                  <a:pt x="350520" y="1783080"/>
                </a:lnTo>
                <a:lnTo>
                  <a:pt x="365760" y="1783080"/>
                </a:lnTo>
                <a:lnTo>
                  <a:pt x="373380" y="1790700"/>
                </a:lnTo>
                <a:lnTo>
                  <a:pt x="388620" y="1798320"/>
                </a:lnTo>
                <a:lnTo>
                  <a:pt x="396240" y="1813560"/>
                </a:lnTo>
                <a:lnTo>
                  <a:pt x="411480" y="1813560"/>
                </a:lnTo>
                <a:lnTo>
                  <a:pt x="419100" y="1828800"/>
                </a:lnTo>
                <a:lnTo>
                  <a:pt x="434340" y="1828800"/>
                </a:lnTo>
                <a:lnTo>
                  <a:pt x="441960" y="1836420"/>
                </a:lnTo>
                <a:lnTo>
                  <a:pt x="457200" y="1844040"/>
                </a:lnTo>
                <a:lnTo>
                  <a:pt x="472440" y="1851660"/>
                </a:lnTo>
                <a:lnTo>
                  <a:pt x="480060" y="1859280"/>
                </a:lnTo>
                <a:lnTo>
                  <a:pt x="495300" y="1866900"/>
                </a:lnTo>
                <a:lnTo>
                  <a:pt x="510540" y="1874520"/>
                </a:lnTo>
                <a:lnTo>
                  <a:pt x="525780" y="1882140"/>
                </a:lnTo>
                <a:lnTo>
                  <a:pt x="533400" y="1889760"/>
                </a:lnTo>
                <a:lnTo>
                  <a:pt x="548640" y="1897380"/>
                </a:lnTo>
                <a:lnTo>
                  <a:pt x="563880" y="1905000"/>
                </a:lnTo>
                <a:lnTo>
                  <a:pt x="579120" y="1912620"/>
                </a:lnTo>
                <a:lnTo>
                  <a:pt x="594360" y="1920240"/>
                </a:lnTo>
                <a:lnTo>
                  <a:pt x="609600" y="1927860"/>
                </a:lnTo>
                <a:lnTo>
                  <a:pt x="624840" y="1935480"/>
                </a:lnTo>
                <a:lnTo>
                  <a:pt x="640080" y="1943100"/>
                </a:lnTo>
                <a:lnTo>
                  <a:pt x="655320" y="1950720"/>
                </a:lnTo>
                <a:lnTo>
                  <a:pt x="670560" y="1958340"/>
                </a:lnTo>
                <a:lnTo>
                  <a:pt x="685800" y="1965960"/>
                </a:lnTo>
                <a:lnTo>
                  <a:pt x="708660" y="1973580"/>
                </a:lnTo>
                <a:lnTo>
                  <a:pt x="723900" y="1973580"/>
                </a:lnTo>
                <a:lnTo>
                  <a:pt x="739140" y="1981200"/>
                </a:lnTo>
                <a:lnTo>
                  <a:pt x="754380" y="1988820"/>
                </a:lnTo>
                <a:lnTo>
                  <a:pt x="769620" y="1988820"/>
                </a:lnTo>
                <a:lnTo>
                  <a:pt x="784860" y="1996440"/>
                </a:lnTo>
                <a:lnTo>
                  <a:pt x="807720" y="2004060"/>
                </a:lnTo>
                <a:lnTo>
                  <a:pt x="822960" y="2011680"/>
                </a:lnTo>
                <a:lnTo>
                  <a:pt x="845820" y="2011680"/>
                </a:lnTo>
                <a:lnTo>
                  <a:pt x="861060" y="2019300"/>
                </a:lnTo>
                <a:lnTo>
                  <a:pt x="876300" y="2019300"/>
                </a:lnTo>
                <a:lnTo>
                  <a:pt x="891540" y="2019300"/>
                </a:lnTo>
                <a:lnTo>
                  <a:pt x="906780" y="2026920"/>
                </a:lnTo>
                <a:lnTo>
                  <a:pt x="922020" y="2026920"/>
                </a:lnTo>
                <a:lnTo>
                  <a:pt x="944880" y="2026920"/>
                </a:lnTo>
                <a:lnTo>
                  <a:pt x="960120" y="2026920"/>
                </a:lnTo>
                <a:lnTo>
                  <a:pt x="975361" y="2026920"/>
                </a:lnTo>
                <a:lnTo>
                  <a:pt x="990600" y="2034540"/>
                </a:lnTo>
                <a:lnTo>
                  <a:pt x="1005840" y="2034540"/>
                </a:lnTo>
                <a:lnTo>
                  <a:pt x="1021080" y="2034540"/>
                </a:lnTo>
                <a:lnTo>
                  <a:pt x="1043940" y="2034540"/>
                </a:lnTo>
                <a:lnTo>
                  <a:pt x="1059180" y="2034540"/>
                </a:lnTo>
                <a:lnTo>
                  <a:pt x="1074420" y="2034540"/>
                </a:lnTo>
                <a:lnTo>
                  <a:pt x="1089661" y="2034540"/>
                </a:lnTo>
                <a:lnTo>
                  <a:pt x="1104900" y="2034540"/>
                </a:lnTo>
                <a:lnTo>
                  <a:pt x="1127761" y="2034540"/>
                </a:lnTo>
                <a:lnTo>
                  <a:pt x="1143000" y="2034540"/>
                </a:lnTo>
                <a:lnTo>
                  <a:pt x="1165861" y="2034540"/>
                </a:lnTo>
                <a:lnTo>
                  <a:pt x="1181100" y="2034540"/>
                </a:lnTo>
                <a:lnTo>
                  <a:pt x="1196340" y="2034540"/>
                </a:lnTo>
                <a:lnTo>
                  <a:pt x="1219200" y="2034540"/>
                </a:lnTo>
                <a:lnTo>
                  <a:pt x="1234440" y="2034540"/>
                </a:lnTo>
                <a:lnTo>
                  <a:pt x="1249680" y="2034540"/>
                </a:lnTo>
                <a:lnTo>
                  <a:pt x="1272540" y="2034540"/>
                </a:lnTo>
                <a:lnTo>
                  <a:pt x="1287780" y="2034540"/>
                </a:lnTo>
                <a:lnTo>
                  <a:pt x="1310640" y="2034540"/>
                </a:lnTo>
                <a:lnTo>
                  <a:pt x="1325880" y="2034540"/>
                </a:lnTo>
                <a:lnTo>
                  <a:pt x="1348740" y="2034540"/>
                </a:lnTo>
                <a:lnTo>
                  <a:pt x="1363980" y="2034540"/>
                </a:lnTo>
                <a:lnTo>
                  <a:pt x="1386840" y="2026920"/>
                </a:lnTo>
                <a:lnTo>
                  <a:pt x="1402080" y="2026920"/>
                </a:lnTo>
                <a:lnTo>
                  <a:pt x="1424940" y="2026920"/>
                </a:lnTo>
                <a:lnTo>
                  <a:pt x="1447800" y="2019300"/>
                </a:lnTo>
                <a:lnTo>
                  <a:pt x="1463040" y="2019300"/>
                </a:lnTo>
                <a:lnTo>
                  <a:pt x="1485900" y="2011680"/>
                </a:lnTo>
                <a:lnTo>
                  <a:pt x="1508761" y="2011680"/>
                </a:lnTo>
                <a:lnTo>
                  <a:pt x="1524000" y="2004060"/>
                </a:lnTo>
                <a:lnTo>
                  <a:pt x="1546861" y="2004060"/>
                </a:lnTo>
                <a:lnTo>
                  <a:pt x="1562100" y="1996440"/>
                </a:lnTo>
                <a:lnTo>
                  <a:pt x="1584961" y="1988820"/>
                </a:lnTo>
                <a:lnTo>
                  <a:pt x="1607820" y="1981200"/>
                </a:lnTo>
                <a:lnTo>
                  <a:pt x="1630680" y="1973580"/>
                </a:lnTo>
                <a:lnTo>
                  <a:pt x="1645920" y="1965960"/>
                </a:lnTo>
                <a:lnTo>
                  <a:pt x="1668780" y="1958340"/>
                </a:lnTo>
                <a:lnTo>
                  <a:pt x="1684020" y="1950720"/>
                </a:lnTo>
                <a:lnTo>
                  <a:pt x="1706880" y="1935480"/>
                </a:lnTo>
                <a:lnTo>
                  <a:pt x="1729740" y="1927860"/>
                </a:lnTo>
                <a:lnTo>
                  <a:pt x="1744980" y="1920240"/>
                </a:lnTo>
                <a:lnTo>
                  <a:pt x="1767840" y="1905000"/>
                </a:lnTo>
                <a:lnTo>
                  <a:pt x="1790700" y="1897380"/>
                </a:lnTo>
                <a:lnTo>
                  <a:pt x="1805940" y="1882140"/>
                </a:lnTo>
                <a:lnTo>
                  <a:pt x="1828800" y="1866900"/>
                </a:lnTo>
                <a:lnTo>
                  <a:pt x="1844040" y="1859280"/>
                </a:lnTo>
                <a:lnTo>
                  <a:pt x="1859280" y="1844040"/>
                </a:lnTo>
                <a:lnTo>
                  <a:pt x="1882140" y="1836420"/>
                </a:lnTo>
                <a:lnTo>
                  <a:pt x="1897380" y="1821180"/>
                </a:lnTo>
                <a:lnTo>
                  <a:pt x="1912620" y="1805940"/>
                </a:lnTo>
                <a:lnTo>
                  <a:pt x="1935480" y="1790700"/>
                </a:lnTo>
                <a:lnTo>
                  <a:pt x="1950720" y="1775460"/>
                </a:lnTo>
                <a:lnTo>
                  <a:pt x="1965961" y="1760220"/>
                </a:lnTo>
                <a:lnTo>
                  <a:pt x="1981200" y="1744980"/>
                </a:lnTo>
                <a:lnTo>
                  <a:pt x="1996440" y="1722120"/>
                </a:lnTo>
                <a:lnTo>
                  <a:pt x="2011680" y="1706880"/>
                </a:lnTo>
                <a:lnTo>
                  <a:pt x="2026920" y="1691640"/>
                </a:lnTo>
                <a:lnTo>
                  <a:pt x="2042161" y="1676400"/>
                </a:lnTo>
                <a:lnTo>
                  <a:pt x="2057400" y="1653540"/>
                </a:lnTo>
                <a:lnTo>
                  <a:pt x="2072640" y="1638300"/>
                </a:lnTo>
                <a:lnTo>
                  <a:pt x="2080261" y="1615440"/>
                </a:lnTo>
                <a:lnTo>
                  <a:pt x="2095500" y="1600200"/>
                </a:lnTo>
                <a:lnTo>
                  <a:pt x="2103120" y="1577340"/>
                </a:lnTo>
                <a:lnTo>
                  <a:pt x="2118361" y="1562100"/>
                </a:lnTo>
                <a:lnTo>
                  <a:pt x="2125980" y="1539240"/>
                </a:lnTo>
                <a:lnTo>
                  <a:pt x="2133600" y="1516380"/>
                </a:lnTo>
                <a:lnTo>
                  <a:pt x="2141220" y="1501140"/>
                </a:lnTo>
                <a:lnTo>
                  <a:pt x="2148840" y="1478280"/>
                </a:lnTo>
                <a:lnTo>
                  <a:pt x="2156461" y="1463040"/>
                </a:lnTo>
                <a:lnTo>
                  <a:pt x="2164080" y="1440180"/>
                </a:lnTo>
                <a:lnTo>
                  <a:pt x="2171700" y="1417320"/>
                </a:lnTo>
                <a:lnTo>
                  <a:pt x="2179320" y="1402080"/>
                </a:lnTo>
                <a:lnTo>
                  <a:pt x="2186940" y="1379220"/>
                </a:lnTo>
                <a:lnTo>
                  <a:pt x="2194561" y="1363980"/>
                </a:lnTo>
                <a:lnTo>
                  <a:pt x="2194561" y="1341120"/>
                </a:lnTo>
                <a:lnTo>
                  <a:pt x="2202180" y="1325880"/>
                </a:lnTo>
                <a:lnTo>
                  <a:pt x="2209800" y="1303020"/>
                </a:lnTo>
                <a:lnTo>
                  <a:pt x="2217420" y="1287780"/>
                </a:lnTo>
                <a:lnTo>
                  <a:pt x="2225040" y="1264920"/>
                </a:lnTo>
                <a:lnTo>
                  <a:pt x="2225040" y="1249680"/>
                </a:lnTo>
                <a:lnTo>
                  <a:pt x="2232661" y="1226820"/>
                </a:lnTo>
                <a:lnTo>
                  <a:pt x="2232661" y="1211580"/>
                </a:lnTo>
                <a:lnTo>
                  <a:pt x="2240280" y="1188720"/>
                </a:lnTo>
                <a:lnTo>
                  <a:pt x="2240280" y="1173480"/>
                </a:lnTo>
                <a:lnTo>
                  <a:pt x="2247900" y="1158240"/>
                </a:lnTo>
                <a:lnTo>
                  <a:pt x="2247900" y="1135380"/>
                </a:lnTo>
                <a:lnTo>
                  <a:pt x="2247900" y="1120140"/>
                </a:lnTo>
                <a:lnTo>
                  <a:pt x="2247900" y="1097280"/>
                </a:lnTo>
                <a:lnTo>
                  <a:pt x="2255520" y="1082040"/>
                </a:lnTo>
                <a:lnTo>
                  <a:pt x="2255520" y="1066800"/>
                </a:lnTo>
                <a:lnTo>
                  <a:pt x="2255520" y="1043940"/>
                </a:lnTo>
                <a:lnTo>
                  <a:pt x="2255520" y="1028700"/>
                </a:lnTo>
                <a:lnTo>
                  <a:pt x="2255520" y="1005840"/>
                </a:lnTo>
                <a:lnTo>
                  <a:pt x="2255520" y="990600"/>
                </a:lnTo>
                <a:lnTo>
                  <a:pt x="2255520" y="967740"/>
                </a:lnTo>
                <a:lnTo>
                  <a:pt x="2255520" y="952500"/>
                </a:lnTo>
                <a:lnTo>
                  <a:pt x="2255520" y="929640"/>
                </a:lnTo>
                <a:lnTo>
                  <a:pt x="2247900" y="914400"/>
                </a:lnTo>
                <a:lnTo>
                  <a:pt x="2247900" y="891540"/>
                </a:lnTo>
                <a:lnTo>
                  <a:pt x="2247900" y="876300"/>
                </a:lnTo>
                <a:lnTo>
                  <a:pt x="2240280" y="861060"/>
                </a:lnTo>
                <a:lnTo>
                  <a:pt x="2240280" y="838200"/>
                </a:lnTo>
                <a:lnTo>
                  <a:pt x="2232661" y="815340"/>
                </a:lnTo>
                <a:lnTo>
                  <a:pt x="2232661" y="800100"/>
                </a:lnTo>
                <a:lnTo>
                  <a:pt x="2225040" y="784860"/>
                </a:lnTo>
                <a:lnTo>
                  <a:pt x="2217420" y="762000"/>
                </a:lnTo>
                <a:lnTo>
                  <a:pt x="2217420" y="746760"/>
                </a:lnTo>
                <a:lnTo>
                  <a:pt x="2209800" y="723900"/>
                </a:lnTo>
                <a:lnTo>
                  <a:pt x="2202180" y="708660"/>
                </a:lnTo>
                <a:lnTo>
                  <a:pt x="2194561" y="685800"/>
                </a:lnTo>
                <a:lnTo>
                  <a:pt x="2186940" y="670560"/>
                </a:lnTo>
                <a:lnTo>
                  <a:pt x="2186940" y="647700"/>
                </a:lnTo>
                <a:lnTo>
                  <a:pt x="2179320" y="632460"/>
                </a:lnTo>
                <a:lnTo>
                  <a:pt x="2171700" y="617220"/>
                </a:lnTo>
                <a:lnTo>
                  <a:pt x="2156461" y="601980"/>
                </a:lnTo>
                <a:lnTo>
                  <a:pt x="2148840" y="579120"/>
                </a:lnTo>
                <a:lnTo>
                  <a:pt x="2141220" y="563880"/>
                </a:lnTo>
                <a:lnTo>
                  <a:pt x="2133600" y="548640"/>
                </a:lnTo>
                <a:lnTo>
                  <a:pt x="2125980" y="533400"/>
                </a:lnTo>
                <a:lnTo>
                  <a:pt x="2118361" y="510540"/>
                </a:lnTo>
                <a:lnTo>
                  <a:pt x="2103120" y="495300"/>
                </a:lnTo>
                <a:lnTo>
                  <a:pt x="2095500" y="480060"/>
                </a:lnTo>
                <a:lnTo>
                  <a:pt x="2087880" y="464820"/>
                </a:lnTo>
                <a:lnTo>
                  <a:pt x="2072640" y="449580"/>
                </a:lnTo>
                <a:lnTo>
                  <a:pt x="2065020" y="434340"/>
                </a:lnTo>
                <a:lnTo>
                  <a:pt x="2049780" y="419100"/>
                </a:lnTo>
                <a:lnTo>
                  <a:pt x="2042161" y="403860"/>
                </a:lnTo>
                <a:lnTo>
                  <a:pt x="2034540" y="388620"/>
                </a:lnTo>
                <a:lnTo>
                  <a:pt x="2019300" y="381000"/>
                </a:lnTo>
                <a:lnTo>
                  <a:pt x="2004061" y="365760"/>
                </a:lnTo>
                <a:lnTo>
                  <a:pt x="1988820" y="350520"/>
                </a:lnTo>
                <a:lnTo>
                  <a:pt x="1981200" y="335280"/>
                </a:lnTo>
                <a:lnTo>
                  <a:pt x="1965961" y="327660"/>
                </a:lnTo>
                <a:lnTo>
                  <a:pt x="1958340" y="312420"/>
                </a:lnTo>
                <a:lnTo>
                  <a:pt x="1943100" y="304800"/>
                </a:lnTo>
                <a:lnTo>
                  <a:pt x="1935480" y="289560"/>
                </a:lnTo>
                <a:lnTo>
                  <a:pt x="1920240" y="274320"/>
                </a:lnTo>
                <a:lnTo>
                  <a:pt x="1912620" y="266700"/>
                </a:lnTo>
                <a:lnTo>
                  <a:pt x="1897380" y="259080"/>
                </a:lnTo>
                <a:lnTo>
                  <a:pt x="1889761" y="251460"/>
                </a:lnTo>
                <a:lnTo>
                  <a:pt x="1882140" y="236220"/>
                </a:lnTo>
                <a:lnTo>
                  <a:pt x="1866900" y="228600"/>
                </a:lnTo>
                <a:lnTo>
                  <a:pt x="1859280" y="220980"/>
                </a:lnTo>
                <a:lnTo>
                  <a:pt x="1844040" y="213360"/>
                </a:lnTo>
                <a:lnTo>
                  <a:pt x="1836420" y="205740"/>
                </a:lnTo>
                <a:lnTo>
                  <a:pt x="1828800" y="198120"/>
                </a:lnTo>
                <a:lnTo>
                  <a:pt x="1813561" y="190500"/>
                </a:lnTo>
                <a:lnTo>
                  <a:pt x="1805940" y="175260"/>
                </a:lnTo>
                <a:lnTo>
                  <a:pt x="1798320" y="167640"/>
                </a:lnTo>
                <a:lnTo>
                  <a:pt x="1790700" y="167640"/>
                </a:lnTo>
                <a:lnTo>
                  <a:pt x="1783080" y="160020"/>
                </a:lnTo>
                <a:lnTo>
                  <a:pt x="1775461" y="152400"/>
                </a:lnTo>
                <a:lnTo>
                  <a:pt x="1760220" y="144780"/>
                </a:lnTo>
                <a:lnTo>
                  <a:pt x="1752600" y="137160"/>
                </a:lnTo>
                <a:lnTo>
                  <a:pt x="1744980" y="137160"/>
                </a:lnTo>
                <a:lnTo>
                  <a:pt x="1737361" y="129540"/>
                </a:lnTo>
                <a:lnTo>
                  <a:pt x="1729740" y="121920"/>
                </a:lnTo>
                <a:lnTo>
                  <a:pt x="1722120" y="121920"/>
                </a:lnTo>
                <a:lnTo>
                  <a:pt x="1706880" y="114300"/>
                </a:lnTo>
                <a:lnTo>
                  <a:pt x="1699261" y="114300"/>
                </a:lnTo>
                <a:lnTo>
                  <a:pt x="1699261" y="106680"/>
                </a:lnTo>
                <a:lnTo>
                  <a:pt x="1691640" y="99060"/>
                </a:lnTo>
                <a:lnTo>
                  <a:pt x="1684020" y="99060"/>
                </a:lnTo>
                <a:lnTo>
                  <a:pt x="1676400" y="91440"/>
                </a:lnTo>
                <a:lnTo>
                  <a:pt x="1668780" y="91440"/>
                </a:lnTo>
                <a:lnTo>
                  <a:pt x="1653540" y="83820"/>
                </a:lnTo>
                <a:lnTo>
                  <a:pt x="1653540" y="83820"/>
                </a:lnTo>
                <a:lnTo>
                  <a:pt x="1645920" y="76200"/>
                </a:lnTo>
                <a:lnTo>
                  <a:pt x="1638300" y="68580"/>
                </a:lnTo>
                <a:lnTo>
                  <a:pt x="1630680" y="68580"/>
                </a:lnTo>
                <a:lnTo>
                  <a:pt x="1623061" y="68580"/>
                </a:lnTo>
                <a:lnTo>
                  <a:pt x="1615440" y="60960"/>
                </a:lnTo>
                <a:lnTo>
                  <a:pt x="1607820" y="53340"/>
                </a:lnTo>
                <a:lnTo>
                  <a:pt x="1600200" y="53340"/>
                </a:lnTo>
                <a:lnTo>
                  <a:pt x="1592580" y="45720"/>
                </a:lnTo>
                <a:lnTo>
                  <a:pt x="1584961" y="45720"/>
                </a:lnTo>
                <a:lnTo>
                  <a:pt x="1577340" y="45720"/>
                </a:lnTo>
                <a:lnTo>
                  <a:pt x="1569720" y="38100"/>
                </a:lnTo>
                <a:lnTo>
                  <a:pt x="1562100" y="30480"/>
                </a:lnTo>
                <a:lnTo>
                  <a:pt x="1562100" y="30480"/>
                </a:lnTo>
                <a:lnTo>
                  <a:pt x="1554480" y="22860"/>
                </a:lnTo>
                <a:lnTo>
                  <a:pt x="1546861" y="22860"/>
                </a:lnTo>
                <a:lnTo>
                  <a:pt x="1539240" y="15240"/>
                </a:lnTo>
                <a:lnTo>
                  <a:pt x="1531620" y="15240"/>
                </a:lnTo>
                <a:lnTo>
                  <a:pt x="1531620" y="15240"/>
                </a:lnTo>
                <a:lnTo>
                  <a:pt x="1524000" y="7620"/>
                </a:lnTo>
                <a:lnTo>
                  <a:pt x="1516380" y="7620"/>
                </a:lnTo>
                <a:lnTo>
                  <a:pt x="1516380" y="7620"/>
                </a:lnTo>
                <a:lnTo>
                  <a:pt x="1508761" y="0"/>
                </a:lnTo>
                <a:lnTo>
                  <a:pt x="1508761" y="0"/>
                </a:lnTo>
                <a:lnTo>
                  <a:pt x="1508761" y="0"/>
                </a:lnTo>
                <a:lnTo>
                  <a:pt x="1501140" y="0"/>
                </a:lnTo>
                <a:lnTo>
                  <a:pt x="1501140" y="0"/>
                </a:lnTo>
                <a:lnTo>
                  <a:pt x="1501140" y="0"/>
                </a:lnTo>
                <a:lnTo>
                  <a:pt x="1501140" y="0"/>
                </a:lnTo>
                <a:lnTo>
                  <a:pt x="1508761" y="0"/>
                </a:lnTo>
                <a:lnTo>
                  <a:pt x="1508761" y="0"/>
                </a:lnTo>
                <a:lnTo>
                  <a:pt x="1508761" y="0"/>
                </a:lnTo>
                <a:lnTo>
                  <a:pt x="1516380" y="0"/>
                </a:lnTo>
                <a:lnTo>
                  <a:pt x="1516380" y="0"/>
                </a:lnTo>
                <a:lnTo>
                  <a:pt x="1524000" y="0"/>
                </a:lnTo>
                <a:lnTo>
                  <a:pt x="1531620" y="7620"/>
                </a:lnTo>
                <a:lnTo>
                  <a:pt x="1539240" y="7620"/>
                </a:lnTo>
                <a:lnTo>
                  <a:pt x="1546861" y="7620"/>
                </a:lnTo>
                <a:lnTo>
                  <a:pt x="1546861" y="7620"/>
                </a:lnTo>
                <a:lnTo>
                  <a:pt x="1554480" y="15240"/>
                </a:lnTo>
                <a:lnTo>
                  <a:pt x="1554480" y="15240"/>
                </a:lnTo>
                <a:lnTo>
                  <a:pt x="1562100" y="15240"/>
                </a:lnTo>
                <a:lnTo>
                  <a:pt x="1562100" y="15240"/>
                </a:lnTo>
                <a:lnTo>
                  <a:pt x="1562100" y="22860"/>
                </a:lnTo>
                <a:lnTo>
                  <a:pt x="1562100" y="22860"/>
                </a:lnTo>
                <a:lnTo>
                  <a:pt x="1562100" y="22860"/>
                </a:lnTo>
                <a:lnTo>
                  <a:pt x="1554480" y="22860"/>
                </a:lnTo>
                <a:lnTo>
                  <a:pt x="1554480" y="22860"/>
                </a:lnTo>
                <a:lnTo>
                  <a:pt x="1539240" y="30480"/>
                </a:lnTo>
                <a:lnTo>
                  <a:pt x="1531620" y="22860"/>
                </a:lnTo>
                <a:lnTo>
                  <a:pt x="1524000" y="22860"/>
                </a:lnTo>
                <a:lnTo>
                  <a:pt x="1508761" y="22860"/>
                </a:lnTo>
                <a:lnTo>
                  <a:pt x="1501140" y="22860"/>
                </a:lnTo>
                <a:lnTo>
                  <a:pt x="1493520" y="22860"/>
                </a:lnTo>
                <a:lnTo>
                  <a:pt x="1485900" y="22860"/>
                </a:lnTo>
                <a:lnTo>
                  <a:pt x="1485900" y="22860"/>
                </a:lnTo>
                <a:lnTo>
                  <a:pt x="1478280" y="22860"/>
                </a:lnTo>
                <a:lnTo>
                  <a:pt x="1470661" y="15240"/>
                </a:lnTo>
                <a:lnTo>
                  <a:pt x="1470661" y="15240"/>
                </a:lnTo>
                <a:lnTo>
                  <a:pt x="1470661" y="15240"/>
                </a:lnTo>
                <a:lnTo>
                  <a:pt x="1478280" y="15240"/>
                </a:lnTo>
                <a:lnTo>
                  <a:pt x="1485900" y="7620"/>
                </a:lnTo>
                <a:lnTo>
                  <a:pt x="1485900" y="7620"/>
                </a:lnTo>
                <a:lnTo>
                  <a:pt x="1493520" y="7620"/>
                </a:lnTo>
                <a:lnTo>
                  <a:pt x="1501140" y="7620"/>
                </a:lnTo>
                <a:lnTo>
                  <a:pt x="1508761" y="7620"/>
                </a:lnTo>
                <a:lnTo>
                  <a:pt x="1516380" y="7620"/>
                </a:lnTo>
                <a:lnTo>
                  <a:pt x="1516380" y="7620"/>
                </a:lnTo>
                <a:lnTo>
                  <a:pt x="1524000" y="7620"/>
                </a:lnTo>
                <a:lnTo>
                  <a:pt x="1531620" y="7620"/>
                </a:lnTo>
                <a:lnTo>
                  <a:pt x="1531620" y="7620"/>
                </a:lnTo>
                <a:lnTo>
                  <a:pt x="1539240" y="7620"/>
                </a:lnTo>
                <a:lnTo>
                  <a:pt x="1539240" y="7620"/>
                </a:lnTo>
                <a:lnTo>
                  <a:pt x="1539240" y="15240"/>
                </a:lnTo>
                <a:lnTo>
                  <a:pt x="1539240" y="15240"/>
                </a:lnTo>
                <a:lnTo>
                  <a:pt x="1531620" y="15240"/>
                </a:lnTo>
                <a:lnTo>
                  <a:pt x="1531620" y="15240"/>
                </a:lnTo>
                <a:lnTo>
                  <a:pt x="1524000" y="15240"/>
                </a:lnTo>
                <a:lnTo>
                  <a:pt x="1516380" y="15240"/>
                </a:lnTo>
                <a:lnTo>
                  <a:pt x="1508761" y="22860"/>
                </a:lnTo>
                <a:lnTo>
                  <a:pt x="1501140" y="22860"/>
                </a:lnTo>
                <a:lnTo>
                  <a:pt x="1493520" y="22860"/>
                </a:lnTo>
                <a:lnTo>
                  <a:pt x="1493520" y="22860"/>
                </a:lnTo>
                <a:lnTo>
                  <a:pt x="1485900" y="22860"/>
                </a:lnTo>
                <a:lnTo>
                  <a:pt x="1478280" y="22860"/>
                </a:lnTo>
                <a:lnTo>
                  <a:pt x="1478280" y="15240"/>
                </a:lnTo>
                <a:lnTo>
                  <a:pt x="1478280" y="15240"/>
                </a:lnTo>
                <a:lnTo>
                  <a:pt x="1470661" y="15240"/>
                </a:lnTo>
                <a:lnTo>
                  <a:pt x="1470661" y="15240"/>
                </a:lnTo>
                <a:lnTo>
                  <a:pt x="1470661" y="15240"/>
                </a:lnTo>
                <a:lnTo>
                  <a:pt x="1478280" y="15240"/>
                </a:lnTo>
                <a:lnTo>
                  <a:pt x="1478280" y="15240"/>
                </a:lnTo>
                <a:lnTo>
                  <a:pt x="1485900" y="7620"/>
                </a:lnTo>
                <a:lnTo>
                  <a:pt x="1485900" y="7620"/>
                </a:lnTo>
                <a:lnTo>
                  <a:pt x="1485900" y="7620"/>
                </a:lnTo>
                <a:lnTo>
                  <a:pt x="1485900" y="7620"/>
                </a:lnTo>
                <a:lnTo>
                  <a:pt x="1485900" y="7620"/>
                </a:lnTo>
                <a:lnTo>
                  <a:pt x="1485900" y="7620"/>
                </a:lnTo>
                <a:lnTo>
                  <a:pt x="1493520" y="7620"/>
                </a:lnTo>
                <a:lnTo>
                  <a:pt x="1493520" y="7620"/>
                </a:lnTo>
                <a:lnTo>
                  <a:pt x="1485900" y="7620"/>
                </a:lnTo>
                <a:lnTo>
                  <a:pt x="1485900" y="7620"/>
                </a:lnTo>
                <a:lnTo>
                  <a:pt x="1485900" y="7620"/>
                </a:lnTo>
                <a:lnTo>
                  <a:pt x="1478280" y="15240"/>
                </a:lnTo>
                <a:lnTo>
                  <a:pt x="1478280" y="15240"/>
                </a:lnTo>
                <a:lnTo>
                  <a:pt x="1470661" y="15240"/>
                </a:lnTo>
                <a:lnTo>
                  <a:pt x="1470661" y="1524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7"/>
          <p:cNvSpPr/>
          <p:nvPr/>
        </p:nvSpPr>
        <p:spPr>
          <a:xfrm>
            <a:off x="7102440" y="2125800"/>
            <a:ext cx="6480" cy="7920"/>
          </a:xfrm>
          <a:custGeom>
            <a:avLst/>
            <a:gdLst>
              <a:gd name="textAreaLeft" fmla="*/ 0 w 6480"/>
              <a:gd name="textAreaRight" fmla="*/ 6840 w 64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622" h="7621">
                <a:moveTo>
                  <a:pt x="762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8"/>
          <p:cNvSpPr/>
          <p:nvPr/>
        </p:nvSpPr>
        <p:spPr>
          <a:xfrm>
            <a:off x="5699160" y="2019240"/>
            <a:ext cx="1471680" cy="754200"/>
          </a:xfrm>
          <a:custGeom>
            <a:avLst/>
            <a:gdLst>
              <a:gd name="textAreaLeft" fmla="*/ 0 w 1471680"/>
              <a:gd name="textAreaRight" fmla="*/ 1472040 w 147168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1470661" h="754381">
                <a:moveTo>
                  <a:pt x="7620" y="754380"/>
                </a:moveTo>
                <a:lnTo>
                  <a:pt x="7620" y="754380"/>
                </a:lnTo>
                <a:lnTo>
                  <a:pt x="7620" y="754380"/>
                </a:lnTo>
                <a:lnTo>
                  <a:pt x="762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0" y="754380"/>
                </a:lnTo>
                <a:lnTo>
                  <a:pt x="7620" y="746760"/>
                </a:lnTo>
                <a:lnTo>
                  <a:pt x="7620" y="746760"/>
                </a:lnTo>
                <a:lnTo>
                  <a:pt x="7620" y="739140"/>
                </a:lnTo>
                <a:lnTo>
                  <a:pt x="7620" y="739140"/>
                </a:lnTo>
                <a:lnTo>
                  <a:pt x="7620" y="739140"/>
                </a:lnTo>
                <a:lnTo>
                  <a:pt x="7620" y="731520"/>
                </a:lnTo>
                <a:lnTo>
                  <a:pt x="7620" y="731520"/>
                </a:lnTo>
                <a:lnTo>
                  <a:pt x="15240" y="723900"/>
                </a:lnTo>
                <a:lnTo>
                  <a:pt x="15240" y="716280"/>
                </a:lnTo>
                <a:lnTo>
                  <a:pt x="15240" y="716280"/>
                </a:lnTo>
                <a:lnTo>
                  <a:pt x="15240" y="708660"/>
                </a:lnTo>
                <a:lnTo>
                  <a:pt x="15240" y="701040"/>
                </a:lnTo>
                <a:lnTo>
                  <a:pt x="22860" y="693420"/>
                </a:lnTo>
                <a:lnTo>
                  <a:pt x="22860" y="685800"/>
                </a:lnTo>
                <a:lnTo>
                  <a:pt x="22860" y="678180"/>
                </a:lnTo>
                <a:lnTo>
                  <a:pt x="22860" y="678180"/>
                </a:lnTo>
                <a:lnTo>
                  <a:pt x="30480" y="670560"/>
                </a:lnTo>
                <a:lnTo>
                  <a:pt x="30480" y="662940"/>
                </a:lnTo>
                <a:lnTo>
                  <a:pt x="30480" y="655320"/>
                </a:lnTo>
                <a:lnTo>
                  <a:pt x="30480" y="647700"/>
                </a:lnTo>
                <a:lnTo>
                  <a:pt x="38100" y="640080"/>
                </a:lnTo>
                <a:lnTo>
                  <a:pt x="38100" y="632460"/>
                </a:lnTo>
                <a:lnTo>
                  <a:pt x="38100" y="624840"/>
                </a:lnTo>
                <a:lnTo>
                  <a:pt x="45720" y="617220"/>
                </a:lnTo>
                <a:lnTo>
                  <a:pt x="45720" y="609600"/>
                </a:lnTo>
                <a:lnTo>
                  <a:pt x="53340" y="594360"/>
                </a:lnTo>
                <a:lnTo>
                  <a:pt x="53340" y="586740"/>
                </a:lnTo>
                <a:lnTo>
                  <a:pt x="53340" y="579120"/>
                </a:lnTo>
                <a:lnTo>
                  <a:pt x="60960" y="571500"/>
                </a:lnTo>
                <a:lnTo>
                  <a:pt x="60960" y="563880"/>
                </a:lnTo>
                <a:lnTo>
                  <a:pt x="68580" y="556260"/>
                </a:lnTo>
                <a:lnTo>
                  <a:pt x="68580" y="548640"/>
                </a:lnTo>
                <a:lnTo>
                  <a:pt x="76200" y="533400"/>
                </a:lnTo>
                <a:lnTo>
                  <a:pt x="76200" y="525780"/>
                </a:lnTo>
                <a:lnTo>
                  <a:pt x="83820" y="518160"/>
                </a:lnTo>
                <a:lnTo>
                  <a:pt x="83820" y="510540"/>
                </a:lnTo>
                <a:lnTo>
                  <a:pt x="91440" y="495300"/>
                </a:lnTo>
                <a:lnTo>
                  <a:pt x="99060" y="487680"/>
                </a:lnTo>
                <a:lnTo>
                  <a:pt x="99060" y="480060"/>
                </a:lnTo>
                <a:lnTo>
                  <a:pt x="106680" y="472440"/>
                </a:lnTo>
                <a:lnTo>
                  <a:pt x="114300" y="464820"/>
                </a:lnTo>
                <a:lnTo>
                  <a:pt x="114300" y="449580"/>
                </a:lnTo>
                <a:lnTo>
                  <a:pt x="121920" y="441960"/>
                </a:lnTo>
                <a:lnTo>
                  <a:pt x="129540" y="434340"/>
                </a:lnTo>
                <a:lnTo>
                  <a:pt x="137160" y="426720"/>
                </a:lnTo>
                <a:lnTo>
                  <a:pt x="144780" y="411480"/>
                </a:lnTo>
                <a:lnTo>
                  <a:pt x="152400" y="403860"/>
                </a:lnTo>
                <a:lnTo>
                  <a:pt x="160020" y="396240"/>
                </a:lnTo>
                <a:lnTo>
                  <a:pt x="160020" y="388620"/>
                </a:lnTo>
                <a:lnTo>
                  <a:pt x="167640" y="381000"/>
                </a:lnTo>
                <a:lnTo>
                  <a:pt x="175260" y="365760"/>
                </a:lnTo>
                <a:lnTo>
                  <a:pt x="182880" y="358140"/>
                </a:lnTo>
                <a:lnTo>
                  <a:pt x="198120" y="350520"/>
                </a:lnTo>
                <a:lnTo>
                  <a:pt x="205740" y="342900"/>
                </a:lnTo>
                <a:lnTo>
                  <a:pt x="213360" y="335280"/>
                </a:lnTo>
                <a:lnTo>
                  <a:pt x="220980" y="327660"/>
                </a:lnTo>
                <a:lnTo>
                  <a:pt x="228600" y="320040"/>
                </a:lnTo>
                <a:lnTo>
                  <a:pt x="236220" y="312420"/>
                </a:lnTo>
                <a:lnTo>
                  <a:pt x="243840" y="304800"/>
                </a:lnTo>
                <a:lnTo>
                  <a:pt x="251460" y="297180"/>
                </a:lnTo>
                <a:lnTo>
                  <a:pt x="259080" y="289560"/>
                </a:lnTo>
                <a:lnTo>
                  <a:pt x="266700" y="281940"/>
                </a:lnTo>
                <a:lnTo>
                  <a:pt x="274320" y="274320"/>
                </a:lnTo>
                <a:lnTo>
                  <a:pt x="281940" y="266700"/>
                </a:lnTo>
                <a:lnTo>
                  <a:pt x="297180" y="259080"/>
                </a:lnTo>
                <a:lnTo>
                  <a:pt x="304800" y="251460"/>
                </a:lnTo>
                <a:lnTo>
                  <a:pt x="312420" y="243840"/>
                </a:lnTo>
                <a:lnTo>
                  <a:pt x="312420" y="243840"/>
                </a:lnTo>
                <a:lnTo>
                  <a:pt x="320040" y="236220"/>
                </a:lnTo>
                <a:lnTo>
                  <a:pt x="335280" y="228600"/>
                </a:lnTo>
                <a:lnTo>
                  <a:pt x="342900" y="220980"/>
                </a:lnTo>
                <a:lnTo>
                  <a:pt x="350520" y="213360"/>
                </a:lnTo>
                <a:lnTo>
                  <a:pt x="358140" y="205740"/>
                </a:lnTo>
                <a:lnTo>
                  <a:pt x="373380" y="198120"/>
                </a:lnTo>
                <a:lnTo>
                  <a:pt x="381000" y="198120"/>
                </a:lnTo>
                <a:lnTo>
                  <a:pt x="388620" y="190500"/>
                </a:lnTo>
                <a:lnTo>
                  <a:pt x="396240" y="182880"/>
                </a:lnTo>
                <a:lnTo>
                  <a:pt x="411480" y="175260"/>
                </a:lnTo>
                <a:lnTo>
                  <a:pt x="419100" y="175260"/>
                </a:lnTo>
                <a:lnTo>
                  <a:pt x="426720" y="167640"/>
                </a:lnTo>
                <a:lnTo>
                  <a:pt x="434340" y="160020"/>
                </a:lnTo>
                <a:lnTo>
                  <a:pt x="449580" y="160020"/>
                </a:lnTo>
                <a:lnTo>
                  <a:pt x="457200" y="144780"/>
                </a:lnTo>
                <a:lnTo>
                  <a:pt x="464820" y="144780"/>
                </a:lnTo>
                <a:lnTo>
                  <a:pt x="472440" y="137160"/>
                </a:lnTo>
                <a:lnTo>
                  <a:pt x="480060" y="137160"/>
                </a:lnTo>
                <a:lnTo>
                  <a:pt x="495300" y="129540"/>
                </a:lnTo>
                <a:lnTo>
                  <a:pt x="502920" y="121920"/>
                </a:lnTo>
                <a:lnTo>
                  <a:pt x="510540" y="121920"/>
                </a:lnTo>
                <a:lnTo>
                  <a:pt x="525780" y="114300"/>
                </a:lnTo>
                <a:lnTo>
                  <a:pt x="533400" y="114300"/>
                </a:lnTo>
                <a:lnTo>
                  <a:pt x="541020" y="106680"/>
                </a:lnTo>
                <a:lnTo>
                  <a:pt x="556260" y="106680"/>
                </a:lnTo>
                <a:lnTo>
                  <a:pt x="563880" y="99060"/>
                </a:lnTo>
                <a:lnTo>
                  <a:pt x="571500" y="91440"/>
                </a:lnTo>
                <a:lnTo>
                  <a:pt x="586740" y="91440"/>
                </a:lnTo>
                <a:lnTo>
                  <a:pt x="594360" y="83820"/>
                </a:lnTo>
                <a:lnTo>
                  <a:pt x="601980" y="83820"/>
                </a:lnTo>
                <a:lnTo>
                  <a:pt x="609600" y="76200"/>
                </a:lnTo>
                <a:lnTo>
                  <a:pt x="624840" y="76200"/>
                </a:lnTo>
                <a:lnTo>
                  <a:pt x="632460" y="68580"/>
                </a:lnTo>
                <a:lnTo>
                  <a:pt x="640080" y="68580"/>
                </a:lnTo>
                <a:lnTo>
                  <a:pt x="655320" y="60960"/>
                </a:lnTo>
                <a:lnTo>
                  <a:pt x="662940" y="60960"/>
                </a:lnTo>
                <a:lnTo>
                  <a:pt x="670560" y="53340"/>
                </a:lnTo>
                <a:lnTo>
                  <a:pt x="685800" y="53340"/>
                </a:lnTo>
                <a:lnTo>
                  <a:pt x="693420" y="53340"/>
                </a:lnTo>
                <a:lnTo>
                  <a:pt x="701040" y="45720"/>
                </a:lnTo>
                <a:lnTo>
                  <a:pt x="716280" y="45720"/>
                </a:lnTo>
                <a:lnTo>
                  <a:pt x="723900" y="38100"/>
                </a:lnTo>
                <a:lnTo>
                  <a:pt x="731520" y="38100"/>
                </a:lnTo>
                <a:lnTo>
                  <a:pt x="739140" y="38100"/>
                </a:lnTo>
                <a:lnTo>
                  <a:pt x="746760" y="30480"/>
                </a:lnTo>
                <a:lnTo>
                  <a:pt x="762000" y="30480"/>
                </a:lnTo>
                <a:lnTo>
                  <a:pt x="769620" y="22860"/>
                </a:lnTo>
                <a:lnTo>
                  <a:pt x="777240" y="22860"/>
                </a:lnTo>
                <a:lnTo>
                  <a:pt x="784860" y="22860"/>
                </a:lnTo>
                <a:lnTo>
                  <a:pt x="800100" y="15240"/>
                </a:lnTo>
                <a:lnTo>
                  <a:pt x="807720" y="15240"/>
                </a:lnTo>
                <a:lnTo>
                  <a:pt x="815340" y="15240"/>
                </a:lnTo>
                <a:lnTo>
                  <a:pt x="822960" y="7620"/>
                </a:lnTo>
                <a:lnTo>
                  <a:pt x="830580" y="7620"/>
                </a:lnTo>
                <a:lnTo>
                  <a:pt x="838201" y="7620"/>
                </a:lnTo>
                <a:lnTo>
                  <a:pt x="845820" y="7620"/>
                </a:lnTo>
                <a:lnTo>
                  <a:pt x="853440" y="7620"/>
                </a:lnTo>
                <a:lnTo>
                  <a:pt x="861060" y="0"/>
                </a:lnTo>
                <a:lnTo>
                  <a:pt x="868680" y="0"/>
                </a:lnTo>
                <a:lnTo>
                  <a:pt x="876301" y="0"/>
                </a:lnTo>
                <a:lnTo>
                  <a:pt x="883920" y="0"/>
                </a:lnTo>
                <a:lnTo>
                  <a:pt x="899160" y="0"/>
                </a:lnTo>
                <a:lnTo>
                  <a:pt x="906780" y="0"/>
                </a:lnTo>
                <a:lnTo>
                  <a:pt x="906780" y="0"/>
                </a:lnTo>
                <a:lnTo>
                  <a:pt x="922020" y="0"/>
                </a:lnTo>
                <a:lnTo>
                  <a:pt x="929640" y="0"/>
                </a:lnTo>
                <a:lnTo>
                  <a:pt x="937260" y="0"/>
                </a:lnTo>
                <a:lnTo>
                  <a:pt x="944880" y="0"/>
                </a:lnTo>
                <a:lnTo>
                  <a:pt x="952501" y="0"/>
                </a:lnTo>
                <a:lnTo>
                  <a:pt x="960120" y="0"/>
                </a:lnTo>
                <a:lnTo>
                  <a:pt x="967740" y="0"/>
                </a:lnTo>
                <a:lnTo>
                  <a:pt x="975360" y="0"/>
                </a:lnTo>
                <a:lnTo>
                  <a:pt x="982980" y="0"/>
                </a:lnTo>
                <a:lnTo>
                  <a:pt x="990601" y="0"/>
                </a:lnTo>
                <a:lnTo>
                  <a:pt x="998220" y="0"/>
                </a:lnTo>
                <a:lnTo>
                  <a:pt x="1005840" y="0"/>
                </a:lnTo>
                <a:lnTo>
                  <a:pt x="1013460" y="0"/>
                </a:lnTo>
                <a:lnTo>
                  <a:pt x="1021080" y="0"/>
                </a:lnTo>
                <a:lnTo>
                  <a:pt x="1028701" y="7620"/>
                </a:lnTo>
                <a:lnTo>
                  <a:pt x="1036320" y="7620"/>
                </a:lnTo>
                <a:lnTo>
                  <a:pt x="1043940" y="7620"/>
                </a:lnTo>
                <a:lnTo>
                  <a:pt x="1051560" y="7620"/>
                </a:lnTo>
                <a:lnTo>
                  <a:pt x="1059180" y="7620"/>
                </a:lnTo>
                <a:lnTo>
                  <a:pt x="1059180" y="7620"/>
                </a:lnTo>
                <a:lnTo>
                  <a:pt x="1066801" y="15240"/>
                </a:lnTo>
                <a:lnTo>
                  <a:pt x="1074420" y="15240"/>
                </a:lnTo>
                <a:lnTo>
                  <a:pt x="1082040" y="15240"/>
                </a:lnTo>
                <a:lnTo>
                  <a:pt x="1089660" y="15240"/>
                </a:lnTo>
                <a:lnTo>
                  <a:pt x="1089660" y="22860"/>
                </a:lnTo>
                <a:lnTo>
                  <a:pt x="1097280" y="22860"/>
                </a:lnTo>
                <a:lnTo>
                  <a:pt x="1104901" y="22860"/>
                </a:lnTo>
                <a:lnTo>
                  <a:pt x="1104901" y="22860"/>
                </a:lnTo>
                <a:lnTo>
                  <a:pt x="1112520" y="22860"/>
                </a:lnTo>
                <a:lnTo>
                  <a:pt x="1120140" y="30480"/>
                </a:lnTo>
                <a:lnTo>
                  <a:pt x="1127760" y="30480"/>
                </a:lnTo>
                <a:lnTo>
                  <a:pt x="1127760" y="30480"/>
                </a:lnTo>
                <a:lnTo>
                  <a:pt x="1135380" y="38100"/>
                </a:lnTo>
                <a:lnTo>
                  <a:pt x="1143001" y="38100"/>
                </a:lnTo>
                <a:lnTo>
                  <a:pt x="1143001" y="38100"/>
                </a:lnTo>
                <a:lnTo>
                  <a:pt x="1150620" y="38100"/>
                </a:lnTo>
                <a:lnTo>
                  <a:pt x="1158240" y="45720"/>
                </a:lnTo>
                <a:lnTo>
                  <a:pt x="1158240" y="45720"/>
                </a:lnTo>
                <a:lnTo>
                  <a:pt x="1165860" y="45720"/>
                </a:lnTo>
                <a:lnTo>
                  <a:pt x="1173480" y="45720"/>
                </a:lnTo>
                <a:lnTo>
                  <a:pt x="1181101" y="53340"/>
                </a:lnTo>
                <a:lnTo>
                  <a:pt x="1181101" y="53340"/>
                </a:lnTo>
                <a:lnTo>
                  <a:pt x="1188720" y="53340"/>
                </a:lnTo>
                <a:lnTo>
                  <a:pt x="1196340" y="53340"/>
                </a:lnTo>
                <a:lnTo>
                  <a:pt x="1196340" y="53340"/>
                </a:lnTo>
                <a:lnTo>
                  <a:pt x="1203960" y="60960"/>
                </a:lnTo>
                <a:lnTo>
                  <a:pt x="1211580" y="60960"/>
                </a:lnTo>
                <a:lnTo>
                  <a:pt x="1211580" y="60960"/>
                </a:lnTo>
                <a:lnTo>
                  <a:pt x="1219201" y="60960"/>
                </a:lnTo>
                <a:lnTo>
                  <a:pt x="1226820" y="68580"/>
                </a:lnTo>
                <a:lnTo>
                  <a:pt x="1234440" y="68580"/>
                </a:lnTo>
                <a:lnTo>
                  <a:pt x="1234440" y="68580"/>
                </a:lnTo>
                <a:lnTo>
                  <a:pt x="1242060" y="68580"/>
                </a:lnTo>
                <a:lnTo>
                  <a:pt x="1249680" y="76200"/>
                </a:lnTo>
                <a:lnTo>
                  <a:pt x="1257301" y="76200"/>
                </a:lnTo>
                <a:lnTo>
                  <a:pt x="1257301" y="76200"/>
                </a:lnTo>
                <a:lnTo>
                  <a:pt x="1264920" y="76200"/>
                </a:lnTo>
                <a:lnTo>
                  <a:pt x="1272540" y="83820"/>
                </a:lnTo>
                <a:lnTo>
                  <a:pt x="1280160" y="83820"/>
                </a:lnTo>
                <a:lnTo>
                  <a:pt x="1287780" y="83820"/>
                </a:lnTo>
                <a:lnTo>
                  <a:pt x="1295401" y="91440"/>
                </a:lnTo>
                <a:lnTo>
                  <a:pt x="1303020" y="91440"/>
                </a:lnTo>
                <a:lnTo>
                  <a:pt x="1310640" y="91440"/>
                </a:lnTo>
                <a:lnTo>
                  <a:pt x="1318260" y="99060"/>
                </a:lnTo>
                <a:lnTo>
                  <a:pt x="1325880" y="99060"/>
                </a:lnTo>
                <a:lnTo>
                  <a:pt x="1333501" y="99060"/>
                </a:lnTo>
                <a:lnTo>
                  <a:pt x="1341120" y="106680"/>
                </a:lnTo>
                <a:lnTo>
                  <a:pt x="1348740" y="106680"/>
                </a:lnTo>
                <a:lnTo>
                  <a:pt x="1356360" y="106680"/>
                </a:lnTo>
                <a:lnTo>
                  <a:pt x="1363980" y="114300"/>
                </a:lnTo>
                <a:lnTo>
                  <a:pt x="1371601" y="114300"/>
                </a:lnTo>
                <a:lnTo>
                  <a:pt x="1386840" y="114300"/>
                </a:lnTo>
                <a:lnTo>
                  <a:pt x="1394460" y="121920"/>
                </a:lnTo>
                <a:lnTo>
                  <a:pt x="1394460" y="121920"/>
                </a:lnTo>
                <a:lnTo>
                  <a:pt x="1409701" y="121920"/>
                </a:lnTo>
                <a:lnTo>
                  <a:pt x="1417320" y="129540"/>
                </a:lnTo>
                <a:lnTo>
                  <a:pt x="1424940" y="129540"/>
                </a:lnTo>
                <a:lnTo>
                  <a:pt x="1432560" y="129540"/>
                </a:lnTo>
                <a:lnTo>
                  <a:pt x="1440180" y="137160"/>
                </a:lnTo>
                <a:lnTo>
                  <a:pt x="1440180" y="137160"/>
                </a:lnTo>
                <a:lnTo>
                  <a:pt x="1447801" y="137160"/>
                </a:lnTo>
                <a:lnTo>
                  <a:pt x="1455420" y="144780"/>
                </a:lnTo>
                <a:lnTo>
                  <a:pt x="1463040" y="144780"/>
                </a:lnTo>
                <a:lnTo>
                  <a:pt x="1470660" y="152400"/>
                </a:lnTo>
                <a:lnTo>
                  <a:pt x="1470660" y="15240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9"/>
          <p:cNvSpPr/>
          <p:nvPr/>
        </p:nvSpPr>
        <p:spPr>
          <a:xfrm>
            <a:off x="6172200" y="2217600"/>
            <a:ext cx="152280" cy="2127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52401" h="213361">
                <a:moveTo>
                  <a:pt x="137160" y="15240"/>
                </a:moveTo>
                <a:lnTo>
                  <a:pt x="129540" y="15240"/>
                </a:lnTo>
                <a:lnTo>
                  <a:pt x="129540" y="7620"/>
                </a:lnTo>
                <a:lnTo>
                  <a:pt x="129540" y="7620"/>
                </a:lnTo>
                <a:lnTo>
                  <a:pt x="121920" y="0"/>
                </a:lnTo>
                <a:lnTo>
                  <a:pt x="121920" y="0"/>
                </a:lnTo>
                <a:lnTo>
                  <a:pt x="114300" y="0"/>
                </a:lnTo>
                <a:lnTo>
                  <a:pt x="114300" y="0"/>
                </a:lnTo>
                <a:lnTo>
                  <a:pt x="99060" y="0"/>
                </a:lnTo>
                <a:lnTo>
                  <a:pt x="91440" y="7620"/>
                </a:lnTo>
                <a:lnTo>
                  <a:pt x="83820" y="7620"/>
                </a:lnTo>
                <a:lnTo>
                  <a:pt x="76200" y="7620"/>
                </a:lnTo>
                <a:lnTo>
                  <a:pt x="68580" y="15240"/>
                </a:lnTo>
                <a:lnTo>
                  <a:pt x="53340" y="22860"/>
                </a:lnTo>
                <a:lnTo>
                  <a:pt x="45720" y="30480"/>
                </a:lnTo>
                <a:lnTo>
                  <a:pt x="30480" y="45720"/>
                </a:lnTo>
                <a:lnTo>
                  <a:pt x="22860" y="53340"/>
                </a:lnTo>
                <a:lnTo>
                  <a:pt x="15240" y="68580"/>
                </a:lnTo>
                <a:lnTo>
                  <a:pt x="7620" y="76200"/>
                </a:lnTo>
                <a:lnTo>
                  <a:pt x="7620" y="91440"/>
                </a:lnTo>
                <a:lnTo>
                  <a:pt x="0" y="99060"/>
                </a:lnTo>
                <a:lnTo>
                  <a:pt x="0" y="114300"/>
                </a:lnTo>
                <a:lnTo>
                  <a:pt x="0" y="121920"/>
                </a:lnTo>
                <a:lnTo>
                  <a:pt x="7620" y="129540"/>
                </a:lnTo>
                <a:lnTo>
                  <a:pt x="7620" y="129540"/>
                </a:lnTo>
                <a:lnTo>
                  <a:pt x="15240" y="137160"/>
                </a:lnTo>
                <a:lnTo>
                  <a:pt x="22860" y="137160"/>
                </a:lnTo>
                <a:lnTo>
                  <a:pt x="30480" y="137160"/>
                </a:lnTo>
                <a:lnTo>
                  <a:pt x="38100" y="129540"/>
                </a:lnTo>
                <a:lnTo>
                  <a:pt x="53340" y="121920"/>
                </a:lnTo>
                <a:lnTo>
                  <a:pt x="60960" y="114300"/>
                </a:lnTo>
                <a:lnTo>
                  <a:pt x="68580" y="114300"/>
                </a:lnTo>
                <a:lnTo>
                  <a:pt x="76200" y="99060"/>
                </a:lnTo>
                <a:lnTo>
                  <a:pt x="83820" y="91440"/>
                </a:lnTo>
                <a:lnTo>
                  <a:pt x="91440" y="83820"/>
                </a:lnTo>
                <a:lnTo>
                  <a:pt x="91440" y="76200"/>
                </a:lnTo>
                <a:lnTo>
                  <a:pt x="91440" y="60960"/>
                </a:lnTo>
                <a:lnTo>
                  <a:pt x="99060" y="53340"/>
                </a:lnTo>
                <a:lnTo>
                  <a:pt x="99060" y="45720"/>
                </a:lnTo>
                <a:lnTo>
                  <a:pt x="99060" y="38100"/>
                </a:lnTo>
                <a:lnTo>
                  <a:pt x="99060" y="30480"/>
                </a:lnTo>
                <a:lnTo>
                  <a:pt x="91440" y="30480"/>
                </a:lnTo>
                <a:lnTo>
                  <a:pt x="91440" y="30480"/>
                </a:lnTo>
                <a:lnTo>
                  <a:pt x="91440" y="30480"/>
                </a:lnTo>
                <a:lnTo>
                  <a:pt x="91440" y="30480"/>
                </a:lnTo>
                <a:lnTo>
                  <a:pt x="91440" y="30480"/>
                </a:lnTo>
                <a:lnTo>
                  <a:pt x="91440" y="38100"/>
                </a:lnTo>
                <a:lnTo>
                  <a:pt x="91440" y="38100"/>
                </a:lnTo>
                <a:lnTo>
                  <a:pt x="91440" y="45720"/>
                </a:lnTo>
                <a:lnTo>
                  <a:pt x="91440" y="53340"/>
                </a:lnTo>
                <a:lnTo>
                  <a:pt x="91440" y="60960"/>
                </a:lnTo>
                <a:lnTo>
                  <a:pt x="99060" y="76200"/>
                </a:lnTo>
                <a:lnTo>
                  <a:pt x="99060" y="91440"/>
                </a:lnTo>
                <a:lnTo>
                  <a:pt x="99060" y="99060"/>
                </a:lnTo>
                <a:lnTo>
                  <a:pt x="106680" y="114300"/>
                </a:lnTo>
                <a:lnTo>
                  <a:pt x="106680" y="129540"/>
                </a:lnTo>
                <a:lnTo>
                  <a:pt x="114300" y="144780"/>
                </a:lnTo>
                <a:lnTo>
                  <a:pt x="121920" y="160020"/>
                </a:lnTo>
                <a:lnTo>
                  <a:pt x="121920" y="167640"/>
                </a:lnTo>
                <a:lnTo>
                  <a:pt x="129540" y="182880"/>
                </a:lnTo>
                <a:lnTo>
                  <a:pt x="129540" y="190500"/>
                </a:lnTo>
                <a:lnTo>
                  <a:pt x="137160" y="198120"/>
                </a:lnTo>
                <a:lnTo>
                  <a:pt x="137160" y="205740"/>
                </a:lnTo>
                <a:lnTo>
                  <a:pt x="144780" y="213360"/>
                </a:lnTo>
                <a:lnTo>
                  <a:pt x="144780" y="213360"/>
                </a:lnTo>
                <a:lnTo>
                  <a:pt x="152400" y="213360"/>
                </a:lnTo>
                <a:lnTo>
                  <a:pt x="152400" y="21336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0"/>
          <p:cNvSpPr/>
          <p:nvPr/>
        </p:nvSpPr>
        <p:spPr>
          <a:xfrm>
            <a:off x="6370560" y="2193840"/>
            <a:ext cx="128520" cy="168480"/>
          </a:xfrm>
          <a:custGeom>
            <a:avLst/>
            <a:gdLst>
              <a:gd name="textAreaLeft" fmla="*/ 0 w 128520"/>
              <a:gd name="textAreaRight" fmla="*/ 128880 w 128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9541" h="167641">
                <a:moveTo>
                  <a:pt x="0" y="60960"/>
                </a:moveTo>
                <a:lnTo>
                  <a:pt x="0" y="53340"/>
                </a:lnTo>
                <a:lnTo>
                  <a:pt x="0" y="45720"/>
                </a:lnTo>
                <a:lnTo>
                  <a:pt x="0" y="38100"/>
                </a:lnTo>
                <a:lnTo>
                  <a:pt x="0" y="30480"/>
                </a:lnTo>
                <a:lnTo>
                  <a:pt x="0" y="30480"/>
                </a:lnTo>
                <a:lnTo>
                  <a:pt x="0" y="22860"/>
                </a:lnTo>
                <a:lnTo>
                  <a:pt x="7620" y="22860"/>
                </a:lnTo>
                <a:lnTo>
                  <a:pt x="15240" y="15240"/>
                </a:lnTo>
                <a:lnTo>
                  <a:pt x="22860" y="15240"/>
                </a:lnTo>
                <a:lnTo>
                  <a:pt x="3048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53340" y="0"/>
                </a:lnTo>
                <a:lnTo>
                  <a:pt x="68580" y="0"/>
                </a:lnTo>
                <a:lnTo>
                  <a:pt x="76200" y="0"/>
                </a:lnTo>
                <a:lnTo>
                  <a:pt x="76200" y="7620"/>
                </a:lnTo>
                <a:lnTo>
                  <a:pt x="83820" y="7620"/>
                </a:lnTo>
                <a:lnTo>
                  <a:pt x="91440" y="7620"/>
                </a:lnTo>
                <a:lnTo>
                  <a:pt x="91440" y="15240"/>
                </a:lnTo>
                <a:lnTo>
                  <a:pt x="91440" y="22860"/>
                </a:lnTo>
                <a:lnTo>
                  <a:pt x="91440" y="30480"/>
                </a:lnTo>
                <a:lnTo>
                  <a:pt x="91440" y="38100"/>
                </a:lnTo>
                <a:lnTo>
                  <a:pt x="91440" y="45720"/>
                </a:lnTo>
                <a:lnTo>
                  <a:pt x="83820" y="60960"/>
                </a:lnTo>
                <a:lnTo>
                  <a:pt x="76200" y="68580"/>
                </a:lnTo>
                <a:lnTo>
                  <a:pt x="68580" y="83820"/>
                </a:lnTo>
                <a:lnTo>
                  <a:pt x="53340" y="91440"/>
                </a:lnTo>
                <a:lnTo>
                  <a:pt x="45720" y="106680"/>
                </a:lnTo>
                <a:lnTo>
                  <a:pt x="38100" y="114300"/>
                </a:lnTo>
                <a:lnTo>
                  <a:pt x="30480" y="129540"/>
                </a:lnTo>
                <a:lnTo>
                  <a:pt x="22860" y="137160"/>
                </a:lnTo>
                <a:lnTo>
                  <a:pt x="15240" y="144780"/>
                </a:lnTo>
                <a:lnTo>
                  <a:pt x="15240" y="152400"/>
                </a:lnTo>
                <a:lnTo>
                  <a:pt x="15240" y="160020"/>
                </a:lnTo>
                <a:lnTo>
                  <a:pt x="15240" y="167640"/>
                </a:lnTo>
                <a:lnTo>
                  <a:pt x="22860" y="167640"/>
                </a:lnTo>
                <a:lnTo>
                  <a:pt x="30480" y="167640"/>
                </a:lnTo>
                <a:lnTo>
                  <a:pt x="38100" y="167640"/>
                </a:lnTo>
                <a:lnTo>
                  <a:pt x="45720" y="167640"/>
                </a:lnTo>
                <a:lnTo>
                  <a:pt x="60960" y="167640"/>
                </a:lnTo>
                <a:lnTo>
                  <a:pt x="76200" y="167640"/>
                </a:lnTo>
                <a:lnTo>
                  <a:pt x="91440" y="167640"/>
                </a:lnTo>
                <a:lnTo>
                  <a:pt x="106680" y="160020"/>
                </a:lnTo>
                <a:lnTo>
                  <a:pt x="129540" y="160020"/>
                </a:lnTo>
                <a:lnTo>
                  <a:pt x="129540" y="16002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m (11 – 12) Lengths of Secants, Tangents, &amp; Ch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228600" y="228600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6629400" y="236232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3505320" y="220968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7696080" y="35053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4648320" y="335268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1371600" y="34290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457200" y="1676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h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990720" y="2362320"/>
            <a:ext cx="14475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 flipH="1">
            <a:off x="1523880" y="2438280"/>
            <a:ext cx="4572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143000" y="26668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1828800" y="26668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2057400" y="31845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371600" y="37339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152280" y="4800600"/>
            <a:ext cx="23623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304920" y="4876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b = c•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3809880" y="1600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ec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"/>
          <p:cNvSpPr/>
          <p:nvPr/>
        </p:nvSpPr>
        <p:spPr>
          <a:xfrm flipV="1">
            <a:off x="3886200" y="2057040"/>
            <a:ext cx="53352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2"/>
          <p:cNvSpPr/>
          <p:nvPr/>
        </p:nvSpPr>
        <p:spPr>
          <a:xfrm flipV="1">
            <a:off x="3886200" y="2437920"/>
            <a:ext cx="19051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3962520" y="29718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3657600" y="43434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4876920" y="3429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4038480" y="45561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7"/>
          <p:cNvSpPr/>
          <p:nvPr/>
        </p:nvSpPr>
        <p:spPr>
          <a:xfrm>
            <a:off x="3276720" y="5410080"/>
            <a:ext cx="297180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3200400" y="54864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(w + x) = y(y + 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6477120" y="1752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gent &amp; Se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0"/>
          <p:cNvSpPr/>
          <p:nvPr/>
        </p:nvSpPr>
        <p:spPr>
          <a:xfrm>
            <a:off x="6477120" y="2438280"/>
            <a:ext cx="1522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1"/>
          <p:cNvSpPr/>
          <p:nvPr/>
        </p:nvSpPr>
        <p:spPr>
          <a:xfrm>
            <a:off x="6477120" y="2438280"/>
            <a:ext cx="26668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6324480" y="28195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6705720" y="2286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77724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6"/>
          <p:cNvSpPr/>
          <p:nvPr/>
        </p:nvSpPr>
        <p:spPr>
          <a:xfrm>
            <a:off x="6705720" y="4876920"/>
            <a:ext cx="236196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6781680" y="4876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y(y + 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"/>
          <p:cNvSpPr/>
          <p:nvPr/>
        </p:nvSpPr>
        <p:spPr>
          <a:xfrm>
            <a:off x="3635280" y="4213080"/>
            <a:ext cx="381240" cy="328680"/>
          </a:xfrm>
          <a:custGeom>
            <a:avLst/>
            <a:gdLst>
              <a:gd name="textAreaLeft" fmla="*/ 0 w 381240"/>
              <a:gd name="textAreaRight" fmla="*/ 381600 w 38124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381001" h="327661">
                <a:moveTo>
                  <a:pt x="381000" y="68580"/>
                </a:moveTo>
                <a:lnTo>
                  <a:pt x="381000" y="68580"/>
                </a:lnTo>
                <a:lnTo>
                  <a:pt x="381000" y="60960"/>
                </a:lnTo>
                <a:lnTo>
                  <a:pt x="381000" y="60960"/>
                </a:lnTo>
                <a:lnTo>
                  <a:pt x="381000" y="60960"/>
                </a:lnTo>
                <a:lnTo>
                  <a:pt x="381000" y="53340"/>
                </a:lnTo>
                <a:lnTo>
                  <a:pt x="381000" y="53340"/>
                </a:lnTo>
                <a:lnTo>
                  <a:pt x="373380" y="53340"/>
                </a:lnTo>
                <a:lnTo>
                  <a:pt x="373380" y="45720"/>
                </a:lnTo>
                <a:lnTo>
                  <a:pt x="373380" y="45720"/>
                </a:lnTo>
                <a:lnTo>
                  <a:pt x="365760" y="45720"/>
                </a:lnTo>
                <a:lnTo>
                  <a:pt x="358140" y="38100"/>
                </a:lnTo>
                <a:lnTo>
                  <a:pt x="350520" y="38100"/>
                </a:lnTo>
                <a:lnTo>
                  <a:pt x="350520" y="30480"/>
                </a:lnTo>
                <a:lnTo>
                  <a:pt x="335280" y="30480"/>
                </a:lnTo>
                <a:lnTo>
                  <a:pt x="327660" y="30480"/>
                </a:lnTo>
                <a:lnTo>
                  <a:pt x="320040" y="22860"/>
                </a:lnTo>
                <a:lnTo>
                  <a:pt x="312420" y="22860"/>
                </a:lnTo>
                <a:lnTo>
                  <a:pt x="297180" y="15240"/>
                </a:lnTo>
                <a:lnTo>
                  <a:pt x="289560" y="15240"/>
                </a:lnTo>
                <a:lnTo>
                  <a:pt x="274320" y="7620"/>
                </a:lnTo>
                <a:lnTo>
                  <a:pt x="266700" y="7620"/>
                </a:lnTo>
                <a:lnTo>
                  <a:pt x="251460" y="7620"/>
                </a:lnTo>
                <a:lnTo>
                  <a:pt x="236220" y="0"/>
                </a:lnTo>
                <a:lnTo>
                  <a:pt x="220980" y="0"/>
                </a:lnTo>
                <a:lnTo>
                  <a:pt x="205740" y="0"/>
                </a:lnTo>
                <a:lnTo>
                  <a:pt x="190500" y="0"/>
                </a:lnTo>
                <a:lnTo>
                  <a:pt x="175260" y="0"/>
                </a:lnTo>
                <a:lnTo>
                  <a:pt x="160020" y="7620"/>
                </a:lnTo>
                <a:lnTo>
                  <a:pt x="144780" y="7620"/>
                </a:lnTo>
                <a:lnTo>
                  <a:pt x="129540" y="7620"/>
                </a:lnTo>
                <a:lnTo>
                  <a:pt x="114300" y="15240"/>
                </a:lnTo>
                <a:lnTo>
                  <a:pt x="106680" y="15240"/>
                </a:lnTo>
                <a:lnTo>
                  <a:pt x="91440" y="22860"/>
                </a:lnTo>
                <a:lnTo>
                  <a:pt x="76200" y="30480"/>
                </a:lnTo>
                <a:lnTo>
                  <a:pt x="60960" y="38100"/>
                </a:lnTo>
                <a:lnTo>
                  <a:pt x="53340" y="45720"/>
                </a:lnTo>
                <a:lnTo>
                  <a:pt x="38100" y="53340"/>
                </a:lnTo>
                <a:lnTo>
                  <a:pt x="30480" y="60960"/>
                </a:lnTo>
                <a:lnTo>
                  <a:pt x="22860" y="68580"/>
                </a:lnTo>
                <a:lnTo>
                  <a:pt x="15240" y="83820"/>
                </a:lnTo>
                <a:lnTo>
                  <a:pt x="7620" y="91440"/>
                </a:lnTo>
                <a:lnTo>
                  <a:pt x="0" y="99060"/>
                </a:lnTo>
                <a:lnTo>
                  <a:pt x="0" y="106680"/>
                </a:lnTo>
                <a:lnTo>
                  <a:pt x="0" y="121920"/>
                </a:lnTo>
                <a:lnTo>
                  <a:pt x="0" y="129540"/>
                </a:lnTo>
                <a:lnTo>
                  <a:pt x="7620" y="144780"/>
                </a:lnTo>
                <a:lnTo>
                  <a:pt x="15240" y="152400"/>
                </a:lnTo>
                <a:lnTo>
                  <a:pt x="22860" y="167640"/>
                </a:lnTo>
                <a:lnTo>
                  <a:pt x="30480" y="175260"/>
                </a:lnTo>
                <a:lnTo>
                  <a:pt x="45720" y="190500"/>
                </a:lnTo>
                <a:lnTo>
                  <a:pt x="68580" y="205740"/>
                </a:lnTo>
                <a:lnTo>
                  <a:pt x="83820" y="213360"/>
                </a:lnTo>
                <a:lnTo>
                  <a:pt x="106680" y="220980"/>
                </a:lnTo>
                <a:lnTo>
                  <a:pt x="121920" y="236220"/>
                </a:lnTo>
                <a:lnTo>
                  <a:pt x="137160" y="243840"/>
                </a:lnTo>
                <a:lnTo>
                  <a:pt x="152400" y="259080"/>
                </a:lnTo>
                <a:lnTo>
                  <a:pt x="167640" y="266700"/>
                </a:lnTo>
                <a:lnTo>
                  <a:pt x="175260" y="274320"/>
                </a:lnTo>
                <a:lnTo>
                  <a:pt x="182880" y="281940"/>
                </a:lnTo>
                <a:lnTo>
                  <a:pt x="182880" y="289560"/>
                </a:lnTo>
                <a:lnTo>
                  <a:pt x="190500" y="289560"/>
                </a:lnTo>
                <a:lnTo>
                  <a:pt x="182880" y="297180"/>
                </a:lnTo>
                <a:lnTo>
                  <a:pt x="182880" y="297180"/>
                </a:lnTo>
                <a:lnTo>
                  <a:pt x="175260" y="297180"/>
                </a:lnTo>
                <a:lnTo>
                  <a:pt x="167640" y="304800"/>
                </a:lnTo>
                <a:lnTo>
                  <a:pt x="160020" y="304800"/>
                </a:lnTo>
                <a:lnTo>
                  <a:pt x="144780" y="304800"/>
                </a:lnTo>
                <a:lnTo>
                  <a:pt x="129540" y="304800"/>
                </a:lnTo>
                <a:lnTo>
                  <a:pt x="121920" y="312420"/>
                </a:lnTo>
                <a:lnTo>
                  <a:pt x="106680" y="312420"/>
                </a:lnTo>
                <a:lnTo>
                  <a:pt x="91440" y="312420"/>
                </a:lnTo>
                <a:lnTo>
                  <a:pt x="83820" y="312420"/>
                </a:lnTo>
                <a:lnTo>
                  <a:pt x="68580" y="320040"/>
                </a:lnTo>
                <a:lnTo>
                  <a:pt x="60960" y="320040"/>
                </a:lnTo>
                <a:lnTo>
                  <a:pt x="45720" y="320040"/>
                </a:lnTo>
                <a:lnTo>
                  <a:pt x="30480" y="327660"/>
                </a:lnTo>
                <a:lnTo>
                  <a:pt x="30480" y="3276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"/>
          <p:cNvSpPr/>
          <p:nvPr/>
        </p:nvSpPr>
        <p:spPr>
          <a:xfrm>
            <a:off x="3641760" y="4533840"/>
            <a:ext cx="282600" cy="434880"/>
          </a:xfrm>
          <a:custGeom>
            <a:avLst/>
            <a:gdLst>
              <a:gd name="textAreaLeft" fmla="*/ 0 w 282600"/>
              <a:gd name="textAreaRight" fmla="*/ 282960 w 28260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281941" h="434341">
                <a:moveTo>
                  <a:pt x="281940" y="403860"/>
                </a:moveTo>
                <a:lnTo>
                  <a:pt x="281940" y="403860"/>
                </a:lnTo>
                <a:lnTo>
                  <a:pt x="281940" y="411480"/>
                </a:lnTo>
                <a:lnTo>
                  <a:pt x="281940" y="419100"/>
                </a:lnTo>
                <a:lnTo>
                  <a:pt x="281940" y="419100"/>
                </a:lnTo>
                <a:lnTo>
                  <a:pt x="281940" y="426720"/>
                </a:lnTo>
                <a:lnTo>
                  <a:pt x="281940" y="426720"/>
                </a:lnTo>
                <a:lnTo>
                  <a:pt x="281940" y="426720"/>
                </a:lnTo>
                <a:lnTo>
                  <a:pt x="281940" y="434340"/>
                </a:lnTo>
                <a:lnTo>
                  <a:pt x="274320" y="434340"/>
                </a:lnTo>
                <a:lnTo>
                  <a:pt x="274320" y="434340"/>
                </a:lnTo>
                <a:lnTo>
                  <a:pt x="266700" y="434340"/>
                </a:lnTo>
                <a:lnTo>
                  <a:pt x="266700" y="434340"/>
                </a:lnTo>
                <a:lnTo>
                  <a:pt x="259080" y="434340"/>
                </a:lnTo>
                <a:lnTo>
                  <a:pt x="251460" y="434340"/>
                </a:lnTo>
                <a:lnTo>
                  <a:pt x="243840" y="426720"/>
                </a:lnTo>
                <a:lnTo>
                  <a:pt x="228600" y="426720"/>
                </a:lnTo>
                <a:lnTo>
                  <a:pt x="220980" y="419100"/>
                </a:lnTo>
                <a:lnTo>
                  <a:pt x="213360" y="411480"/>
                </a:lnTo>
                <a:lnTo>
                  <a:pt x="198120" y="403860"/>
                </a:lnTo>
                <a:lnTo>
                  <a:pt x="182880" y="396240"/>
                </a:lnTo>
                <a:lnTo>
                  <a:pt x="175260" y="388620"/>
                </a:lnTo>
                <a:lnTo>
                  <a:pt x="160020" y="381000"/>
                </a:lnTo>
                <a:lnTo>
                  <a:pt x="152400" y="365760"/>
                </a:lnTo>
                <a:lnTo>
                  <a:pt x="137160" y="358140"/>
                </a:lnTo>
                <a:lnTo>
                  <a:pt x="129540" y="342900"/>
                </a:lnTo>
                <a:lnTo>
                  <a:pt x="121920" y="327660"/>
                </a:lnTo>
                <a:lnTo>
                  <a:pt x="114300" y="320040"/>
                </a:lnTo>
                <a:lnTo>
                  <a:pt x="114300" y="304800"/>
                </a:lnTo>
                <a:lnTo>
                  <a:pt x="106680" y="297180"/>
                </a:lnTo>
                <a:lnTo>
                  <a:pt x="99060" y="281940"/>
                </a:lnTo>
                <a:lnTo>
                  <a:pt x="99060" y="266700"/>
                </a:lnTo>
                <a:lnTo>
                  <a:pt x="99060" y="259080"/>
                </a:lnTo>
                <a:lnTo>
                  <a:pt x="99060" y="243840"/>
                </a:lnTo>
                <a:lnTo>
                  <a:pt x="99060" y="228600"/>
                </a:lnTo>
                <a:lnTo>
                  <a:pt x="99060" y="220980"/>
                </a:lnTo>
                <a:lnTo>
                  <a:pt x="106680" y="205740"/>
                </a:lnTo>
                <a:lnTo>
                  <a:pt x="106680" y="198120"/>
                </a:lnTo>
                <a:lnTo>
                  <a:pt x="114300" y="190500"/>
                </a:lnTo>
                <a:lnTo>
                  <a:pt x="121920" y="182880"/>
                </a:lnTo>
                <a:lnTo>
                  <a:pt x="129540" y="175260"/>
                </a:lnTo>
                <a:lnTo>
                  <a:pt x="137160" y="167640"/>
                </a:lnTo>
                <a:lnTo>
                  <a:pt x="144780" y="160020"/>
                </a:lnTo>
                <a:lnTo>
                  <a:pt x="152400" y="152400"/>
                </a:lnTo>
                <a:lnTo>
                  <a:pt x="160020" y="144780"/>
                </a:lnTo>
                <a:lnTo>
                  <a:pt x="167640" y="144780"/>
                </a:lnTo>
                <a:lnTo>
                  <a:pt x="175260" y="137160"/>
                </a:lnTo>
                <a:lnTo>
                  <a:pt x="175260" y="129540"/>
                </a:lnTo>
                <a:lnTo>
                  <a:pt x="175260" y="121920"/>
                </a:lnTo>
                <a:lnTo>
                  <a:pt x="175260" y="121920"/>
                </a:lnTo>
                <a:lnTo>
                  <a:pt x="175260" y="106680"/>
                </a:lnTo>
                <a:lnTo>
                  <a:pt x="167640" y="99060"/>
                </a:lnTo>
                <a:lnTo>
                  <a:pt x="160020" y="91440"/>
                </a:lnTo>
                <a:lnTo>
                  <a:pt x="152400" y="83820"/>
                </a:lnTo>
                <a:lnTo>
                  <a:pt x="137160" y="68580"/>
                </a:lnTo>
                <a:lnTo>
                  <a:pt x="121920" y="60960"/>
                </a:lnTo>
                <a:lnTo>
                  <a:pt x="106680" y="45720"/>
                </a:lnTo>
                <a:lnTo>
                  <a:pt x="83820" y="38100"/>
                </a:lnTo>
                <a:lnTo>
                  <a:pt x="68580" y="30480"/>
                </a:lnTo>
                <a:lnTo>
                  <a:pt x="53340" y="22860"/>
                </a:lnTo>
                <a:lnTo>
                  <a:pt x="38100" y="15240"/>
                </a:lnTo>
                <a:lnTo>
                  <a:pt x="22860" y="7620"/>
                </a:lnTo>
                <a:lnTo>
                  <a:pt x="15240" y="762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4"/>
          <p:cNvSpPr/>
          <p:nvPr/>
        </p:nvSpPr>
        <p:spPr>
          <a:xfrm>
            <a:off x="2917800" y="4267080"/>
            <a:ext cx="190440" cy="144720"/>
          </a:xfrm>
          <a:custGeom>
            <a:avLst/>
            <a:gdLst>
              <a:gd name="textAreaLeft" fmla="*/ 0 w 190440"/>
              <a:gd name="textAreaRight" fmla="*/ 190800 w 190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90501" h="144781">
                <a:moveTo>
                  <a:pt x="190500" y="0"/>
                </a:moveTo>
                <a:lnTo>
                  <a:pt x="190500" y="0"/>
                </a:lnTo>
                <a:lnTo>
                  <a:pt x="190500" y="0"/>
                </a:lnTo>
                <a:lnTo>
                  <a:pt x="190500" y="0"/>
                </a:lnTo>
                <a:lnTo>
                  <a:pt x="182880" y="0"/>
                </a:lnTo>
                <a:lnTo>
                  <a:pt x="175260" y="0"/>
                </a:lnTo>
                <a:lnTo>
                  <a:pt x="167640" y="7620"/>
                </a:lnTo>
                <a:lnTo>
                  <a:pt x="160020" y="7620"/>
                </a:lnTo>
                <a:lnTo>
                  <a:pt x="152400" y="15240"/>
                </a:lnTo>
                <a:lnTo>
                  <a:pt x="137160" y="15240"/>
                </a:lnTo>
                <a:lnTo>
                  <a:pt x="129540" y="22860"/>
                </a:lnTo>
                <a:lnTo>
                  <a:pt x="114300" y="22860"/>
                </a:lnTo>
                <a:lnTo>
                  <a:pt x="106680" y="30480"/>
                </a:lnTo>
                <a:lnTo>
                  <a:pt x="91440" y="30480"/>
                </a:lnTo>
                <a:lnTo>
                  <a:pt x="83820" y="38100"/>
                </a:lnTo>
                <a:lnTo>
                  <a:pt x="76200" y="38100"/>
                </a:lnTo>
                <a:lnTo>
                  <a:pt x="68580" y="45720"/>
                </a:lnTo>
                <a:lnTo>
                  <a:pt x="68580" y="45720"/>
                </a:lnTo>
                <a:lnTo>
                  <a:pt x="68580" y="53340"/>
                </a:lnTo>
                <a:lnTo>
                  <a:pt x="68580" y="53340"/>
                </a:lnTo>
                <a:lnTo>
                  <a:pt x="76200" y="53340"/>
                </a:lnTo>
                <a:lnTo>
                  <a:pt x="76200" y="53340"/>
                </a:lnTo>
                <a:lnTo>
                  <a:pt x="91440" y="60960"/>
                </a:lnTo>
                <a:lnTo>
                  <a:pt x="99060" y="60960"/>
                </a:lnTo>
                <a:lnTo>
                  <a:pt x="106680" y="60960"/>
                </a:lnTo>
                <a:lnTo>
                  <a:pt x="121920" y="60960"/>
                </a:lnTo>
                <a:lnTo>
                  <a:pt x="137160" y="68580"/>
                </a:lnTo>
                <a:lnTo>
                  <a:pt x="144780" y="68580"/>
                </a:lnTo>
                <a:lnTo>
                  <a:pt x="152400" y="76200"/>
                </a:lnTo>
                <a:lnTo>
                  <a:pt x="160020" y="76200"/>
                </a:lnTo>
                <a:lnTo>
                  <a:pt x="167640" y="83820"/>
                </a:lnTo>
                <a:lnTo>
                  <a:pt x="167640" y="83820"/>
                </a:lnTo>
                <a:lnTo>
                  <a:pt x="167640" y="83820"/>
                </a:lnTo>
                <a:lnTo>
                  <a:pt x="167640" y="91440"/>
                </a:lnTo>
                <a:lnTo>
                  <a:pt x="167640" y="99060"/>
                </a:lnTo>
                <a:lnTo>
                  <a:pt x="160020" y="99060"/>
                </a:lnTo>
                <a:lnTo>
                  <a:pt x="152400" y="106680"/>
                </a:lnTo>
                <a:lnTo>
                  <a:pt x="144780" y="106680"/>
                </a:lnTo>
                <a:lnTo>
                  <a:pt x="129540" y="114300"/>
                </a:lnTo>
                <a:lnTo>
                  <a:pt x="114300" y="121920"/>
                </a:lnTo>
                <a:lnTo>
                  <a:pt x="99060" y="121920"/>
                </a:lnTo>
                <a:lnTo>
                  <a:pt x="83820" y="129540"/>
                </a:lnTo>
                <a:lnTo>
                  <a:pt x="68580" y="137160"/>
                </a:lnTo>
                <a:lnTo>
                  <a:pt x="53340" y="137160"/>
                </a:lnTo>
                <a:lnTo>
                  <a:pt x="38100" y="144780"/>
                </a:lnTo>
                <a:lnTo>
                  <a:pt x="22860" y="144780"/>
                </a:lnTo>
                <a:lnTo>
                  <a:pt x="15240" y="144780"/>
                </a:lnTo>
                <a:lnTo>
                  <a:pt x="7620" y="144780"/>
                </a:lnTo>
                <a:lnTo>
                  <a:pt x="7620" y="144780"/>
                </a:lnTo>
                <a:lnTo>
                  <a:pt x="0" y="144780"/>
                </a:lnTo>
                <a:lnTo>
                  <a:pt x="0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"/>
          <p:cNvSpPr/>
          <p:nvPr/>
        </p:nvSpPr>
        <p:spPr>
          <a:xfrm>
            <a:off x="3154320" y="4251240"/>
            <a:ext cx="152280" cy="108000"/>
          </a:xfrm>
          <a:custGeom>
            <a:avLst/>
            <a:gdLst>
              <a:gd name="textAreaLeft" fmla="*/ 0 w 152280"/>
              <a:gd name="textAreaRight" fmla="*/ 152640 w 1522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52401" h="106681">
                <a:moveTo>
                  <a:pt x="38100" y="0"/>
                </a:moveTo>
                <a:lnTo>
                  <a:pt x="38100" y="0"/>
                </a:lnTo>
                <a:lnTo>
                  <a:pt x="38100" y="0"/>
                </a:lnTo>
                <a:lnTo>
                  <a:pt x="38100" y="0"/>
                </a:lnTo>
                <a:lnTo>
                  <a:pt x="38100" y="0"/>
                </a:lnTo>
                <a:lnTo>
                  <a:pt x="38100" y="0"/>
                </a:lnTo>
                <a:lnTo>
                  <a:pt x="38100" y="7620"/>
                </a:lnTo>
                <a:lnTo>
                  <a:pt x="38100" y="7620"/>
                </a:lnTo>
                <a:lnTo>
                  <a:pt x="38100" y="15240"/>
                </a:lnTo>
                <a:lnTo>
                  <a:pt x="38100" y="15240"/>
                </a:lnTo>
                <a:lnTo>
                  <a:pt x="30480" y="22860"/>
                </a:lnTo>
                <a:lnTo>
                  <a:pt x="30480" y="30480"/>
                </a:lnTo>
                <a:lnTo>
                  <a:pt x="30480" y="38100"/>
                </a:lnTo>
                <a:lnTo>
                  <a:pt x="22860" y="45720"/>
                </a:lnTo>
                <a:lnTo>
                  <a:pt x="22860" y="53340"/>
                </a:lnTo>
                <a:lnTo>
                  <a:pt x="22860" y="60960"/>
                </a:lnTo>
                <a:lnTo>
                  <a:pt x="15240" y="68580"/>
                </a:lnTo>
                <a:lnTo>
                  <a:pt x="15240" y="76200"/>
                </a:lnTo>
                <a:lnTo>
                  <a:pt x="7620" y="83820"/>
                </a:lnTo>
                <a:lnTo>
                  <a:pt x="7620" y="91440"/>
                </a:lnTo>
                <a:lnTo>
                  <a:pt x="7620" y="99060"/>
                </a:lnTo>
                <a:lnTo>
                  <a:pt x="0" y="9906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106680"/>
                </a:lnTo>
                <a:lnTo>
                  <a:pt x="0" y="99060"/>
                </a:lnTo>
                <a:lnTo>
                  <a:pt x="0" y="99060"/>
                </a:lnTo>
                <a:lnTo>
                  <a:pt x="7620" y="91440"/>
                </a:lnTo>
                <a:lnTo>
                  <a:pt x="7620" y="76200"/>
                </a:lnTo>
                <a:lnTo>
                  <a:pt x="7620" y="68580"/>
                </a:lnTo>
                <a:lnTo>
                  <a:pt x="15240" y="60960"/>
                </a:lnTo>
                <a:lnTo>
                  <a:pt x="15240" y="53340"/>
                </a:lnTo>
                <a:lnTo>
                  <a:pt x="22860" y="45720"/>
                </a:lnTo>
                <a:lnTo>
                  <a:pt x="22860" y="38100"/>
                </a:lnTo>
                <a:lnTo>
                  <a:pt x="30480" y="30480"/>
                </a:lnTo>
                <a:lnTo>
                  <a:pt x="38100" y="30480"/>
                </a:lnTo>
                <a:lnTo>
                  <a:pt x="45720" y="22860"/>
                </a:lnTo>
                <a:lnTo>
                  <a:pt x="4572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7620"/>
                </a:lnTo>
                <a:lnTo>
                  <a:pt x="60960" y="7620"/>
                </a:lnTo>
                <a:lnTo>
                  <a:pt x="60960" y="7620"/>
                </a:lnTo>
                <a:lnTo>
                  <a:pt x="60960" y="15240"/>
                </a:lnTo>
                <a:lnTo>
                  <a:pt x="60960" y="15240"/>
                </a:lnTo>
                <a:lnTo>
                  <a:pt x="68580" y="15240"/>
                </a:lnTo>
                <a:lnTo>
                  <a:pt x="68580" y="22860"/>
                </a:lnTo>
                <a:lnTo>
                  <a:pt x="68580" y="30480"/>
                </a:lnTo>
                <a:lnTo>
                  <a:pt x="68580" y="30480"/>
                </a:lnTo>
                <a:lnTo>
                  <a:pt x="76200" y="38100"/>
                </a:lnTo>
                <a:lnTo>
                  <a:pt x="76200" y="45720"/>
                </a:lnTo>
                <a:lnTo>
                  <a:pt x="76200" y="53340"/>
                </a:lnTo>
                <a:lnTo>
                  <a:pt x="76200" y="60960"/>
                </a:lnTo>
                <a:lnTo>
                  <a:pt x="76200" y="68580"/>
                </a:lnTo>
                <a:lnTo>
                  <a:pt x="76200" y="68580"/>
                </a:lnTo>
                <a:lnTo>
                  <a:pt x="76200" y="76200"/>
                </a:lnTo>
                <a:lnTo>
                  <a:pt x="76200" y="76200"/>
                </a:lnTo>
                <a:lnTo>
                  <a:pt x="76200" y="76200"/>
                </a:lnTo>
                <a:lnTo>
                  <a:pt x="76200" y="76200"/>
                </a:lnTo>
                <a:lnTo>
                  <a:pt x="76200" y="76200"/>
                </a:lnTo>
                <a:lnTo>
                  <a:pt x="76200" y="76200"/>
                </a:lnTo>
                <a:lnTo>
                  <a:pt x="76200" y="76200"/>
                </a:lnTo>
                <a:lnTo>
                  <a:pt x="76200" y="68580"/>
                </a:lnTo>
                <a:lnTo>
                  <a:pt x="76200" y="60960"/>
                </a:lnTo>
                <a:lnTo>
                  <a:pt x="76200" y="53340"/>
                </a:lnTo>
                <a:lnTo>
                  <a:pt x="83820" y="45720"/>
                </a:lnTo>
                <a:lnTo>
                  <a:pt x="83820" y="45720"/>
                </a:lnTo>
                <a:lnTo>
                  <a:pt x="83820" y="30480"/>
                </a:lnTo>
                <a:lnTo>
                  <a:pt x="91440" y="30480"/>
                </a:lnTo>
                <a:lnTo>
                  <a:pt x="99060" y="15240"/>
                </a:lnTo>
                <a:lnTo>
                  <a:pt x="99060" y="15240"/>
                </a:lnTo>
                <a:lnTo>
                  <a:pt x="106680" y="7620"/>
                </a:lnTo>
                <a:lnTo>
                  <a:pt x="106680" y="0"/>
                </a:lnTo>
                <a:lnTo>
                  <a:pt x="114300" y="0"/>
                </a:lnTo>
                <a:lnTo>
                  <a:pt x="114300" y="0"/>
                </a:lnTo>
                <a:lnTo>
                  <a:pt x="121920" y="0"/>
                </a:lnTo>
                <a:lnTo>
                  <a:pt x="121920" y="0"/>
                </a:lnTo>
                <a:lnTo>
                  <a:pt x="121920" y="0"/>
                </a:lnTo>
                <a:lnTo>
                  <a:pt x="121920" y="0"/>
                </a:lnTo>
                <a:lnTo>
                  <a:pt x="121920" y="0"/>
                </a:lnTo>
                <a:lnTo>
                  <a:pt x="121920" y="7620"/>
                </a:lnTo>
                <a:lnTo>
                  <a:pt x="121920" y="7620"/>
                </a:lnTo>
                <a:lnTo>
                  <a:pt x="121920" y="15240"/>
                </a:lnTo>
                <a:lnTo>
                  <a:pt x="121920" y="22860"/>
                </a:lnTo>
                <a:lnTo>
                  <a:pt x="121920" y="30480"/>
                </a:lnTo>
                <a:lnTo>
                  <a:pt x="121920" y="45720"/>
                </a:lnTo>
                <a:lnTo>
                  <a:pt x="121920" y="53340"/>
                </a:lnTo>
                <a:lnTo>
                  <a:pt x="121920" y="60960"/>
                </a:lnTo>
                <a:lnTo>
                  <a:pt x="129540" y="68580"/>
                </a:lnTo>
                <a:lnTo>
                  <a:pt x="129540" y="76200"/>
                </a:lnTo>
                <a:lnTo>
                  <a:pt x="129540" y="83820"/>
                </a:lnTo>
                <a:lnTo>
                  <a:pt x="129540" y="91440"/>
                </a:lnTo>
                <a:lnTo>
                  <a:pt x="137160" y="91440"/>
                </a:lnTo>
                <a:lnTo>
                  <a:pt x="137160" y="99060"/>
                </a:lnTo>
                <a:lnTo>
                  <a:pt x="144780" y="99060"/>
                </a:lnTo>
                <a:lnTo>
                  <a:pt x="144780" y="99060"/>
                </a:lnTo>
                <a:lnTo>
                  <a:pt x="144780" y="99060"/>
                </a:lnTo>
                <a:lnTo>
                  <a:pt x="152400" y="99060"/>
                </a:lnTo>
                <a:lnTo>
                  <a:pt x="152400" y="990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3322800" y="4251240"/>
            <a:ext cx="128520" cy="76320"/>
          </a:xfrm>
          <a:custGeom>
            <a:avLst/>
            <a:gdLst>
              <a:gd name="textAreaLeft" fmla="*/ 0 w 128520"/>
              <a:gd name="textAreaRight" fmla="*/ 128880 w 12852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129541" h="76201">
                <a:moveTo>
                  <a:pt x="7620" y="15240"/>
                </a:moveTo>
                <a:lnTo>
                  <a:pt x="762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15240" y="0"/>
                </a:lnTo>
                <a:lnTo>
                  <a:pt x="15240" y="0"/>
                </a:lnTo>
                <a:lnTo>
                  <a:pt x="1524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0"/>
                </a:lnTo>
                <a:lnTo>
                  <a:pt x="53340" y="0"/>
                </a:lnTo>
                <a:lnTo>
                  <a:pt x="60960" y="0"/>
                </a:lnTo>
                <a:lnTo>
                  <a:pt x="60960" y="0"/>
                </a:lnTo>
                <a:lnTo>
                  <a:pt x="68580" y="0"/>
                </a:lnTo>
                <a:lnTo>
                  <a:pt x="76200" y="0"/>
                </a:lnTo>
                <a:lnTo>
                  <a:pt x="83820" y="0"/>
                </a:lnTo>
                <a:lnTo>
                  <a:pt x="91440" y="0"/>
                </a:lnTo>
                <a:lnTo>
                  <a:pt x="91440" y="7620"/>
                </a:lnTo>
                <a:lnTo>
                  <a:pt x="99060" y="7620"/>
                </a:lnTo>
                <a:lnTo>
                  <a:pt x="99060" y="7620"/>
                </a:lnTo>
                <a:lnTo>
                  <a:pt x="106680" y="15240"/>
                </a:lnTo>
                <a:lnTo>
                  <a:pt x="106680" y="15240"/>
                </a:lnTo>
                <a:lnTo>
                  <a:pt x="106680" y="22860"/>
                </a:lnTo>
                <a:lnTo>
                  <a:pt x="106680" y="30480"/>
                </a:lnTo>
                <a:lnTo>
                  <a:pt x="114300" y="30480"/>
                </a:lnTo>
                <a:lnTo>
                  <a:pt x="114300" y="38100"/>
                </a:lnTo>
                <a:lnTo>
                  <a:pt x="114300" y="38100"/>
                </a:lnTo>
                <a:lnTo>
                  <a:pt x="114300" y="45720"/>
                </a:lnTo>
                <a:lnTo>
                  <a:pt x="106680" y="45720"/>
                </a:lnTo>
                <a:lnTo>
                  <a:pt x="106680" y="53340"/>
                </a:lnTo>
                <a:lnTo>
                  <a:pt x="99060" y="53340"/>
                </a:lnTo>
                <a:lnTo>
                  <a:pt x="99060" y="53340"/>
                </a:lnTo>
                <a:lnTo>
                  <a:pt x="91440" y="60960"/>
                </a:lnTo>
                <a:lnTo>
                  <a:pt x="83820" y="60960"/>
                </a:lnTo>
                <a:lnTo>
                  <a:pt x="76200" y="60960"/>
                </a:lnTo>
                <a:lnTo>
                  <a:pt x="68580" y="60960"/>
                </a:lnTo>
                <a:lnTo>
                  <a:pt x="60960" y="60960"/>
                </a:lnTo>
                <a:lnTo>
                  <a:pt x="45720" y="60960"/>
                </a:lnTo>
                <a:lnTo>
                  <a:pt x="38100" y="60960"/>
                </a:lnTo>
                <a:lnTo>
                  <a:pt x="30480" y="60960"/>
                </a:lnTo>
                <a:lnTo>
                  <a:pt x="15240" y="60960"/>
                </a:lnTo>
                <a:lnTo>
                  <a:pt x="15240" y="60960"/>
                </a:lnTo>
                <a:lnTo>
                  <a:pt x="7620" y="60960"/>
                </a:lnTo>
                <a:lnTo>
                  <a:pt x="7620" y="60960"/>
                </a:lnTo>
                <a:lnTo>
                  <a:pt x="0" y="60960"/>
                </a:lnTo>
                <a:lnTo>
                  <a:pt x="0" y="60960"/>
                </a:lnTo>
                <a:lnTo>
                  <a:pt x="0" y="60960"/>
                </a:lnTo>
                <a:lnTo>
                  <a:pt x="7620" y="60960"/>
                </a:lnTo>
                <a:lnTo>
                  <a:pt x="15240" y="68580"/>
                </a:lnTo>
                <a:lnTo>
                  <a:pt x="15240" y="68580"/>
                </a:lnTo>
                <a:lnTo>
                  <a:pt x="30480" y="68580"/>
                </a:lnTo>
                <a:lnTo>
                  <a:pt x="38100" y="68580"/>
                </a:lnTo>
                <a:lnTo>
                  <a:pt x="45720" y="68580"/>
                </a:lnTo>
                <a:lnTo>
                  <a:pt x="60960" y="76200"/>
                </a:lnTo>
                <a:lnTo>
                  <a:pt x="76200" y="76200"/>
                </a:lnTo>
                <a:lnTo>
                  <a:pt x="83820" y="76200"/>
                </a:lnTo>
                <a:lnTo>
                  <a:pt x="91440" y="76200"/>
                </a:lnTo>
                <a:lnTo>
                  <a:pt x="99060" y="68580"/>
                </a:lnTo>
                <a:lnTo>
                  <a:pt x="106680" y="68580"/>
                </a:lnTo>
                <a:lnTo>
                  <a:pt x="129540" y="68580"/>
                </a:lnTo>
                <a:lnTo>
                  <a:pt x="129540" y="685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8"/>
          <p:cNvSpPr/>
          <p:nvPr/>
        </p:nvSpPr>
        <p:spPr>
          <a:xfrm>
            <a:off x="3483000" y="4168800"/>
            <a:ext cx="82440" cy="196920"/>
          </a:xfrm>
          <a:custGeom>
            <a:avLst/>
            <a:gdLst>
              <a:gd name="textAreaLeft" fmla="*/ 0 w 82440"/>
              <a:gd name="textAreaRight" fmla="*/ 82440 w 824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83821" h="198121">
                <a:moveTo>
                  <a:pt x="30480" y="0"/>
                </a:move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7620"/>
                </a:lnTo>
                <a:lnTo>
                  <a:pt x="30480" y="15240"/>
                </a:lnTo>
                <a:lnTo>
                  <a:pt x="30480" y="22860"/>
                </a:lnTo>
                <a:lnTo>
                  <a:pt x="22860" y="30480"/>
                </a:lnTo>
                <a:lnTo>
                  <a:pt x="22860" y="45720"/>
                </a:lnTo>
                <a:lnTo>
                  <a:pt x="15240" y="60960"/>
                </a:lnTo>
                <a:lnTo>
                  <a:pt x="7620" y="76200"/>
                </a:lnTo>
                <a:lnTo>
                  <a:pt x="7620" y="91440"/>
                </a:lnTo>
                <a:lnTo>
                  <a:pt x="0" y="106680"/>
                </a:lnTo>
                <a:lnTo>
                  <a:pt x="0" y="121920"/>
                </a:lnTo>
                <a:lnTo>
                  <a:pt x="0" y="137160"/>
                </a:lnTo>
                <a:lnTo>
                  <a:pt x="0" y="152400"/>
                </a:lnTo>
                <a:lnTo>
                  <a:pt x="0" y="167640"/>
                </a:lnTo>
                <a:lnTo>
                  <a:pt x="7620" y="182880"/>
                </a:lnTo>
                <a:lnTo>
                  <a:pt x="15240" y="190500"/>
                </a:lnTo>
                <a:lnTo>
                  <a:pt x="15240" y="190500"/>
                </a:lnTo>
                <a:lnTo>
                  <a:pt x="22860" y="198120"/>
                </a:lnTo>
                <a:lnTo>
                  <a:pt x="30480" y="198120"/>
                </a:lnTo>
                <a:lnTo>
                  <a:pt x="38100" y="198120"/>
                </a:lnTo>
                <a:lnTo>
                  <a:pt x="45720" y="198120"/>
                </a:lnTo>
                <a:lnTo>
                  <a:pt x="60960" y="190500"/>
                </a:lnTo>
                <a:lnTo>
                  <a:pt x="68580" y="182880"/>
                </a:lnTo>
                <a:lnTo>
                  <a:pt x="83820" y="167640"/>
                </a:lnTo>
                <a:lnTo>
                  <a:pt x="83820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9"/>
          <p:cNvSpPr/>
          <p:nvPr/>
        </p:nvSpPr>
        <p:spPr>
          <a:xfrm>
            <a:off x="3559320" y="4137120"/>
            <a:ext cx="68040" cy="260280"/>
          </a:xfrm>
          <a:custGeom>
            <a:avLst/>
            <a:gdLst>
              <a:gd name="textAreaLeft" fmla="*/ 0 w 68040"/>
              <a:gd name="textAreaRight" fmla="*/ 68400 w 6804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68581" h="259081">
                <a:moveTo>
                  <a:pt x="60960" y="45720"/>
                </a:moveTo>
                <a:lnTo>
                  <a:pt x="60960" y="30480"/>
                </a:lnTo>
                <a:lnTo>
                  <a:pt x="53340" y="22860"/>
                </a:lnTo>
                <a:lnTo>
                  <a:pt x="53340" y="7620"/>
                </a:lnTo>
                <a:lnTo>
                  <a:pt x="45720" y="0"/>
                </a:lnTo>
                <a:lnTo>
                  <a:pt x="45720" y="0"/>
                </a:lnTo>
                <a:lnTo>
                  <a:pt x="38100" y="0"/>
                </a:lnTo>
                <a:lnTo>
                  <a:pt x="38100" y="0"/>
                </a:lnTo>
                <a:lnTo>
                  <a:pt x="22860" y="0"/>
                </a:lnTo>
                <a:lnTo>
                  <a:pt x="22860" y="7620"/>
                </a:lnTo>
                <a:lnTo>
                  <a:pt x="15240" y="15240"/>
                </a:lnTo>
                <a:lnTo>
                  <a:pt x="7620" y="30480"/>
                </a:lnTo>
                <a:lnTo>
                  <a:pt x="7620" y="45720"/>
                </a:lnTo>
                <a:lnTo>
                  <a:pt x="0" y="60960"/>
                </a:lnTo>
                <a:lnTo>
                  <a:pt x="0" y="76200"/>
                </a:lnTo>
                <a:lnTo>
                  <a:pt x="0" y="99060"/>
                </a:lnTo>
                <a:lnTo>
                  <a:pt x="0" y="114300"/>
                </a:lnTo>
                <a:lnTo>
                  <a:pt x="0" y="137160"/>
                </a:lnTo>
                <a:lnTo>
                  <a:pt x="7620" y="152400"/>
                </a:lnTo>
                <a:lnTo>
                  <a:pt x="7620" y="175260"/>
                </a:lnTo>
                <a:lnTo>
                  <a:pt x="15240" y="190500"/>
                </a:lnTo>
                <a:lnTo>
                  <a:pt x="22860" y="205740"/>
                </a:lnTo>
                <a:lnTo>
                  <a:pt x="38100" y="220980"/>
                </a:lnTo>
                <a:lnTo>
                  <a:pt x="45720" y="236220"/>
                </a:lnTo>
                <a:lnTo>
                  <a:pt x="53340" y="243840"/>
                </a:lnTo>
                <a:lnTo>
                  <a:pt x="68580" y="259080"/>
                </a:lnTo>
                <a:lnTo>
                  <a:pt x="68580" y="2590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0"/>
          <p:cNvSpPr/>
          <p:nvPr/>
        </p:nvSpPr>
        <p:spPr>
          <a:xfrm>
            <a:off x="4145040" y="2232000"/>
            <a:ext cx="579240" cy="1608120"/>
          </a:xfrm>
          <a:custGeom>
            <a:avLst/>
            <a:gdLst>
              <a:gd name="textAreaLeft" fmla="*/ 0 w 579240"/>
              <a:gd name="textAreaRight" fmla="*/ 579600 w 579240"/>
              <a:gd name="textAreaTop" fmla="*/ 0 h 1608120"/>
              <a:gd name="textAreaBottom" fmla="*/ 1608480 h 1608120"/>
            </a:gdLst>
            <a:ahLst/>
            <a:rect l="textAreaLeft" t="textAreaTop" r="textAreaRight" b="textAreaBottom"/>
            <a:pathLst>
              <a:path w="579121" h="1607821">
                <a:moveTo>
                  <a:pt x="220980" y="0"/>
                </a:moveTo>
                <a:lnTo>
                  <a:pt x="220980" y="0"/>
                </a:lnTo>
                <a:lnTo>
                  <a:pt x="228600" y="0"/>
                </a:lnTo>
                <a:lnTo>
                  <a:pt x="236220" y="0"/>
                </a:lnTo>
                <a:lnTo>
                  <a:pt x="236220" y="0"/>
                </a:lnTo>
                <a:lnTo>
                  <a:pt x="243840" y="0"/>
                </a:lnTo>
                <a:lnTo>
                  <a:pt x="251460" y="0"/>
                </a:lnTo>
                <a:lnTo>
                  <a:pt x="259080" y="0"/>
                </a:lnTo>
                <a:lnTo>
                  <a:pt x="259080" y="0"/>
                </a:lnTo>
                <a:lnTo>
                  <a:pt x="266700" y="7620"/>
                </a:lnTo>
                <a:lnTo>
                  <a:pt x="281940" y="7620"/>
                </a:lnTo>
                <a:lnTo>
                  <a:pt x="289560" y="15240"/>
                </a:lnTo>
                <a:lnTo>
                  <a:pt x="297180" y="22860"/>
                </a:lnTo>
                <a:lnTo>
                  <a:pt x="304800" y="22860"/>
                </a:lnTo>
                <a:lnTo>
                  <a:pt x="312420" y="30480"/>
                </a:lnTo>
                <a:lnTo>
                  <a:pt x="320040" y="38100"/>
                </a:lnTo>
                <a:lnTo>
                  <a:pt x="335280" y="45720"/>
                </a:lnTo>
                <a:lnTo>
                  <a:pt x="342900" y="45720"/>
                </a:lnTo>
                <a:lnTo>
                  <a:pt x="350520" y="60960"/>
                </a:lnTo>
                <a:lnTo>
                  <a:pt x="365760" y="60960"/>
                </a:lnTo>
                <a:lnTo>
                  <a:pt x="373380" y="76200"/>
                </a:lnTo>
                <a:lnTo>
                  <a:pt x="381000" y="83820"/>
                </a:lnTo>
                <a:lnTo>
                  <a:pt x="396240" y="91440"/>
                </a:lnTo>
                <a:lnTo>
                  <a:pt x="403860" y="99060"/>
                </a:lnTo>
                <a:lnTo>
                  <a:pt x="411480" y="114300"/>
                </a:lnTo>
                <a:lnTo>
                  <a:pt x="426720" y="121920"/>
                </a:lnTo>
                <a:lnTo>
                  <a:pt x="434340" y="137160"/>
                </a:lnTo>
                <a:lnTo>
                  <a:pt x="441960" y="144780"/>
                </a:lnTo>
                <a:lnTo>
                  <a:pt x="449580" y="160020"/>
                </a:lnTo>
                <a:lnTo>
                  <a:pt x="464820" y="167640"/>
                </a:lnTo>
                <a:lnTo>
                  <a:pt x="472440" y="182880"/>
                </a:lnTo>
                <a:lnTo>
                  <a:pt x="480060" y="198120"/>
                </a:lnTo>
                <a:lnTo>
                  <a:pt x="487680" y="213360"/>
                </a:lnTo>
                <a:lnTo>
                  <a:pt x="495300" y="228600"/>
                </a:lnTo>
                <a:lnTo>
                  <a:pt x="502920" y="243840"/>
                </a:lnTo>
                <a:lnTo>
                  <a:pt x="510540" y="259080"/>
                </a:lnTo>
                <a:lnTo>
                  <a:pt x="525780" y="274320"/>
                </a:lnTo>
                <a:lnTo>
                  <a:pt x="533400" y="289560"/>
                </a:lnTo>
                <a:lnTo>
                  <a:pt x="533400" y="304800"/>
                </a:lnTo>
                <a:lnTo>
                  <a:pt x="541020" y="320040"/>
                </a:lnTo>
                <a:lnTo>
                  <a:pt x="548640" y="335280"/>
                </a:lnTo>
                <a:lnTo>
                  <a:pt x="556260" y="350520"/>
                </a:lnTo>
                <a:lnTo>
                  <a:pt x="556260" y="365760"/>
                </a:lnTo>
                <a:lnTo>
                  <a:pt x="563880" y="381000"/>
                </a:lnTo>
                <a:lnTo>
                  <a:pt x="563880" y="403860"/>
                </a:lnTo>
                <a:lnTo>
                  <a:pt x="571500" y="419100"/>
                </a:lnTo>
                <a:lnTo>
                  <a:pt x="579120" y="434340"/>
                </a:lnTo>
                <a:lnTo>
                  <a:pt x="579120" y="449580"/>
                </a:lnTo>
                <a:lnTo>
                  <a:pt x="579120" y="464820"/>
                </a:lnTo>
                <a:lnTo>
                  <a:pt x="579120" y="487680"/>
                </a:lnTo>
                <a:lnTo>
                  <a:pt x="579120" y="502920"/>
                </a:lnTo>
                <a:lnTo>
                  <a:pt x="579120" y="518160"/>
                </a:lnTo>
                <a:lnTo>
                  <a:pt x="579120" y="533400"/>
                </a:lnTo>
                <a:lnTo>
                  <a:pt x="579120" y="548640"/>
                </a:lnTo>
                <a:lnTo>
                  <a:pt x="571500" y="571500"/>
                </a:lnTo>
                <a:lnTo>
                  <a:pt x="563880" y="586740"/>
                </a:lnTo>
                <a:lnTo>
                  <a:pt x="563880" y="601980"/>
                </a:lnTo>
                <a:lnTo>
                  <a:pt x="556260" y="617220"/>
                </a:lnTo>
                <a:lnTo>
                  <a:pt x="556260" y="632460"/>
                </a:lnTo>
                <a:lnTo>
                  <a:pt x="548640" y="655320"/>
                </a:lnTo>
                <a:lnTo>
                  <a:pt x="541020" y="670560"/>
                </a:lnTo>
                <a:lnTo>
                  <a:pt x="533400" y="685800"/>
                </a:lnTo>
                <a:lnTo>
                  <a:pt x="525780" y="701040"/>
                </a:lnTo>
                <a:lnTo>
                  <a:pt x="518160" y="716280"/>
                </a:lnTo>
                <a:lnTo>
                  <a:pt x="502920" y="731520"/>
                </a:lnTo>
                <a:lnTo>
                  <a:pt x="495300" y="746760"/>
                </a:lnTo>
                <a:lnTo>
                  <a:pt x="487680" y="762000"/>
                </a:lnTo>
                <a:lnTo>
                  <a:pt x="472440" y="784860"/>
                </a:lnTo>
                <a:lnTo>
                  <a:pt x="464820" y="800100"/>
                </a:lnTo>
                <a:lnTo>
                  <a:pt x="449580" y="815340"/>
                </a:lnTo>
                <a:lnTo>
                  <a:pt x="441960" y="830580"/>
                </a:lnTo>
                <a:lnTo>
                  <a:pt x="426720" y="845820"/>
                </a:lnTo>
                <a:lnTo>
                  <a:pt x="411480" y="861060"/>
                </a:lnTo>
                <a:lnTo>
                  <a:pt x="396240" y="876300"/>
                </a:lnTo>
                <a:lnTo>
                  <a:pt x="388620" y="891540"/>
                </a:lnTo>
                <a:lnTo>
                  <a:pt x="373380" y="906780"/>
                </a:lnTo>
                <a:lnTo>
                  <a:pt x="358140" y="929640"/>
                </a:lnTo>
                <a:lnTo>
                  <a:pt x="342900" y="944880"/>
                </a:lnTo>
                <a:lnTo>
                  <a:pt x="327660" y="960120"/>
                </a:lnTo>
                <a:lnTo>
                  <a:pt x="312420" y="982980"/>
                </a:lnTo>
                <a:lnTo>
                  <a:pt x="297180" y="998220"/>
                </a:lnTo>
                <a:lnTo>
                  <a:pt x="281940" y="1013460"/>
                </a:lnTo>
                <a:lnTo>
                  <a:pt x="266700" y="1028700"/>
                </a:lnTo>
                <a:lnTo>
                  <a:pt x="251460" y="1043940"/>
                </a:lnTo>
                <a:lnTo>
                  <a:pt x="236220" y="1066800"/>
                </a:lnTo>
                <a:lnTo>
                  <a:pt x="220980" y="1082040"/>
                </a:lnTo>
                <a:lnTo>
                  <a:pt x="205740" y="1097280"/>
                </a:lnTo>
                <a:lnTo>
                  <a:pt x="182880" y="1120140"/>
                </a:lnTo>
                <a:lnTo>
                  <a:pt x="167640" y="1135380"/>
                </a:lnTo>
                <a:lnTo>
                  <a:pt x="152400" y="1150620"/>
                </a:lnTo>
                <a:lnTo>
                  <a:pt x="137160" y="1165860"/>
                </a:lnTo>
                <a:lnTo>
                  <a:pt x="114300" y="1188720"/>
                </a:lnTo>
                <a:lnTo>
                  <a:pt x="99060" y="1203960"/>
                </a:lnTo>
                <a:lnTo>
                  <a:pt x="91440" y="1226820"/>
                </a:lnTo>
                <a:lnTo>
                  <a:pt x="76200" y="1242060"/>
                </a:lnTo>
                <a:lnTo>
                  <a:pt x="60960" y="1264920"/>
                </a:lnTo>
                <a:lnTo>
                  <a:pt x="53340" y="1287780"/>
                </a:lnTo>
                <a:lnTo>
                  <a:pt x="38100" y="1303020"/>
                </a:lnTo>
                <a:lnTo>
                  <a:pt x="30480" y="1325880"/>
                </a:lnTo>
                <a:lnTo>
                  <a:pt x="22860" y="1341120"/>
                </a:lnTo>
                <a:lnTo>
                  <a:pt x="15240" y="1363980"/>
                </a:lnTo>
                <a:lnTo>
                  <a:pt x="7620" y="1386840"/>
                </a:lnTo>
                <a:lnTo>
                  <a:pt x="7620" y="1409700"/>
                </a:lnTo>
                <a:lnTo>
                  <a:pt x="7620" y="1424940"/>
                </a:lnTo>
                <a:lnTo>
                  <a:pt x="0" y="1447800"/>
                </a:lnTo>
                <a:lnTo>
                  <a:pt x="0" y="1463040"/>
                </a:lnTo>
                <a:lnTo>
                  <a:pt x="0" y="1485900"/>
                </a:lnTo>
                <a:lnTo>
                  <a:pt x="0" y="1508760"/>
                </a:lnTo>
                <a:lnTo>
                  <a:pt x="0" y="1524000"/>
                </a:lnTo>
                <a:lnTo>
                  <a:pt x="7620" y="1539240"/>
                </a:lnTo>
                <a:lnTo>
                  <a:pt x="7620" y="1562100"/>
                </a:lnTo>
                <a:lnTo>
                  <a:pt x="7620" y="1577340"/>
                </a:lnTo>
                <a:lnTo>
                  <a:pt x="15240" y="1607820"/>
                </a:lnTo>
                <a:lnTo>
                  <a:pt x="15240" y="160782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1"/>
          <p:cNvSpPr/>
          <p:nvPr/>
        </p:nvSpPr>
        <p:spPr>
          <a:xfrm>
            <a:off x="3902040" y="3801960"/>
            <a:ext cx="273240" cy="1104840"/>
          </a:xfrm>
          <a:custGeom>
            <a:avLst/>
            <a:gdLst>
              <a:gd name="textAreaLeft" fmla="*/ 0 w 273240"/>
              <a:gd name="textAreaRight" fmla="*/ 273600 w 27324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274321" h="1104901">
                <a:moveTo>
                  <a:pt x="0" y="1074420"/>
                </a:moveTo>
                <a:lnTo>
                  <a:pt x="0" y="1074420"/>
                </a:lnTo>
                <a:lnTo>
                  <a:pt x="0" y="1074420"/>
                </a:lnTo>
                <a:lnTo>
                  <a:pt x="0" y="1074420"/>
                </a:lnTo>
                <a:lnTo>
                  <a:pt x="0" y="1082040"/>
                </a:lnTo>
                <a:lnTo>
                  <a:pt x="7620" y="1082040"/>
                </a:lnTo>
                <a:lnTo>
                  <a:pt x="7620" y="1089660"/>
                </a:lnTo>
                <a:lnTo>
                  <a:pt x="15240" y="1089660"/>
                </a:lnTo>
                <a:lnTo>
                  <a:pt x="15240" y="1089660"/>
                </a:lnTo>
                <a:lnTo>
                  <a:pt x="22860" y="1097280"/>
                </a:lnTo>
                <a:lnTo>
                  <a:pt x="30480" y="1097280"/>
                </a:lnTo>
                <a:lnTo>
                  <a:pt x="38100" y="1097280"/>
                </a:lnTo>
                <a:lnTo>
                  <a:pt x="45720" y="1104900"/>
                </a:lnTo>
                <a:lnTo>
                  <a:pt x="53340" y="1104900"/>
                </a:lnTo>
                <a:lnTo>
                  <a:pt x="60960" y="1104900"/>
                </a:lnTo>
                <a:lnTo>
                  <a:pt x="68580" y="1104900"/>
                </a:lnTo>
                <a:lnTo>
                  <a:pt x="76200" y="1104900"/>
                </a:lnTo>
                <a:lnTo>
                  <a:pt x="83820" y="1104900"/>
                </a:lnTo>
                <a:lnTo>
                  <a:pt x="91440" y="1104900"/>
                </a:lnTo>
                <a:lnTo>
                  <a:pt x="99060" y="1104900"/>
                </a:lnTo>
                <a:lnTo>
                  <a:pt x="106680" y="1097280"/>
                </a:lnTo>
                <a:lnTo>
                  <a:pt x="106680" y="1097280"/>
                </a:lnTo>
                <a:lnTo>
                  <a:pt x="114300" y="1089660"/>
                </a:lnTo>
                <a:lnTo>
                  <a:pt x="121920" y="1082040"/>
                </a:lnTo>
                <a:lnTo>
                  <a:pt x="129540" y="1074420"/>
                </a:lnTo>
                <a:lnTo>
                  <a:pt x="137160" y="1066800"/>
                </a:lnTo>
                <a:lnTo>
                  <a:pt x="144780" y="1059180"/>
                </a:lnTo>
                <a:lnTo>
                  <a:pt x="144780" y="1043940"/>
                </a:lnTo>
                <a:lnTo>
                  <a:pt x="152400" y="1036320"/>
                </a:lnTo>
                <a:lnTo>
                  <a:pt x="152400" y="1021080"/>
                </a:lnTo>
                <a:lnTo>
                  <a:pt x="160020" y="1005840"/>
                </a:lnTo>
                <a:lnTo>
                  <a:pt x="160020" y="998220"/>
                </a:lnTo>
                <a:lnTo>
                  <a:pt x="167640" y="982980"/>
                </a:lnTo>
                <a:lnTo>
                  <a:pt x="167640" y="967740"/>
                </a:lnTo>
                <a:lnTo>
                  <a:pt x="175260" y="944880"/>
                </a:lnTo>
                <a:lnTo>
                  <a:pt x="175260" y="929640"/>
                </a:lnTo>
                <a:lnTo>
                  <a:pt x="182880" y="906780"/>
                </a:lnTo>
                <a:lnTo>
                  <a:pt x="182880" y="891540"/>
                </a:lnTo>
                <a:lnTo>
                  <a:pt x="182880" y="868680"/>
                </a:lnTo>
                <a:lnTo>
                  <a:pt x="190500" y="845820"/>
                </a:lnTo>
                <a:lnTo>
                  <a:pt x="190500" y="830580"/>
                </a:lnTo>
                <a:lnTo>
                  <a:pt x="190500" y="807720"/>
                </a:lnTo>
                <a:lnTo>
                  <a:pt x="190500" y="784860"/>
                </a:lnTo>
                <a:lnTo>
                  <a:pt x="198120" y="762000"/>
                </a:lnTo>
                <a:lnTo>
                  <a:pt x="198120" y="739140"/>
                </a:lnTo>
                <a:lnTo>
                  <a:pt x="198120" y="723900"/>
                </a:lnTo>
                <a:lnTo>
                  <a:pt x="205740" y="701040"/>
                </a:lnTo>
                <a:lnTo>
                  <a:pt x="205740" y="678180"/>
                </a:lnTo>
                <a:lnTo>
                  <a:pt x="205740" y="655320"/>
                </a:lnTo>
                <a:lnTo>
                  <a:pt x="213360" y="632460"/>
                </a:lnTo>
                <a:lnTo>
                  <a:pt x="213360" y="609600"/>
                </a:lnTo>
                <a:lnTo>
                  <a:pt x="213360" y="586740"/>
                </a:lnTo>
                <a:lnTo>
                  <a:pt x="220980" y="571500"/>
                </a:lnTo>
                <a:lnTo>
                  <a:pt x="220980" y="548640"/>
                </a:lnTo>
                <a:lnTo>
                  <a:pt x="220980" y="525780"/>
                </a:lnTo>
                <a:lnTo>
                  <a:pt x="228600" y="502920"/>
                </a:lnTo>
                <a:lnTo>
                  <a:pt x="236220" y="480060"/>
                </a:lnTo>
                <a:lnTo>
                  <a:pt x="236220" y="464820"/>
                </a:lnTo>
                <a:lnTo>
                  <a:pt x="243840" y="441960"/>
                </a:lnTo>
                <a:lnTo>
                  <a:pt x="243840" y="426720"/>
                </a:lnTo>
                <a:lnTo>
                  <a:pt x="251460" y="403860"/>
                </a:lnTo>
                <a:lnTo>
                  <a:pt x="251460" y="388620"/>
                </a:lnTo>
                <a:lnTo>
                  <a:pt x="259080" y="365760"/>
                </a:lnTo>
                <a:lnTo>
                  <a:pt x="259080" y="350520"/>
                </a:lnTo>
                <a:lnTo>
                  <a:pt x="259080" y="335280"/>
                </a:lnTo>
                <a:lnTo>
                  <a:pt x="266700" y="320040"/>
                </a:lnTo>
                <a:lnTo>
                  <a:pt x="266700" y="297180"/>
                </a:lnTo>
                <a:lnTo>
                  <a:pt x="266700" y="281940"/>
                </a:lnTo>
                <a:lnTo>
                  <a:pt x="266700" y="266700"/>
                </a:lnTo>
                <a:lnTo>
                  <a:pt x="266700" y="251460"/>
                </a:lnTo>
                <a:lnTo>
                  <a:pt x="266700" y="236220"/>
                </a:lnTo>
                <a:lnTo>
                  <a:pt x="266700" y="220980"/>
                </a:lnTo>
                <a:lnTo>
                  <a:pt x="259080" y="205740"/>
                </a:lnTo>
                <a:lnTo>
                  <a:pt x="259080" y="198120"/>
                </a:lnTo>
                <a:lnTo>
                  <a:pt x="251460" y="182880"/>
                </a:lnTo>
                <a:lnTo>
                  <a:pt x="243840" y="167640"/>
                </a:lnTo>
                <a:lnTo>
                  <a:pt x="236220" y="160020"/>
                </a:lnTo>
                <a:lnTo>
                  <a:pt x="236220" y="144780"/>
                </a:lnTo>
                <a:lnTo>
                  <a:pt x="228600" y="129540"/>
                </a:lnTo>
                <a:lnTo>
                  <a:pt x="220980" y="121920"/>
                </a:lnTo>
                <a:lnTo>
                  <a:pt x="213360" y="114300"/>
                </a:lnTo>
                <a:lnTo>
                  <a:pt x="213360" y="99060"/>
                </a:lnTo>
                <a:lnTo>
                  <a:pt x="213360" y="91440"/>
                </a:lnTo>
                <a:lnTo>
                  <a:pt x="205740" y="83820"/>
                </a:lnTo>
                <a:lnTo>
                  <a:pt x="205740" y="76200"/>
                </a:lnTo>
                <a:lnTo>
                  <a:pt x="205740" y="68580"/>
                </a:lnTo>
                <a:lnTo>
                  <a:pt x="213360" y="60960"/>
                </a:lnTo>
                <a:lnTo>
                  <a:pt x="213360" y="53340"/>
                </a:lnTo>
                <a:lnTo>
                  <a:pt x="213360" y="38100"/>
                </a:lnTo>
                <a:lnTo>
                  <a:pt x="220980" y="38100"/>
                </a:lnTo>
                <a:lnTo>
                  <a:pt x="228600" y="30480"/>
                </a:lnTo>
                <a:lnTo>
                  <a:pt x="236220" y="22860"/>
                </a:lnTo>
                <a:lnTo>
                  <a:pt x="243840" y="22860"/>
                </a:lnTo>
                <a:lnTo>
                  <a:pt x="251460" y="15240"/>
                </a:lnTo>
                <a:lnTo>
                  <a:pt x="259080" y="7620"/>
                </a:lnTo>
                <a:lnTo>
                  <a:pt x="259080" y="7620"/>
                </a:lnTo>
                <a:lnTo>
                  <a:pt x="274320" y="0"/>
                </a:lnTo>
                <a:lnTo>
                  <a:pt x="274320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2"/>
          <p:cNvSpPr/>
          <p:nvPr/>
        </p:nvSpPr>
        <p:spPr>
          <a:xfrm>
            <a:off x="7551720" y="5630760"/>
            <a:ext cx="220680" cy="397080"/>
          </a:xfrm>
          <a:custGeom>
            <a:avLst/>
            <a:gdLst>
              <a:gd name="textAreaLeft" fmla="*/ 0 w 220680"/>
              <a:gd name="textAreaRight" fmla="*/ 221040 w 2206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20981" h="396241">
                <a:moveTo>
                  <a:pt x="15241" y="0"/>
                </a:moveTo>
                <a:lnTo>
                  <a:pt x="15241" y="0"/>
                </a:lnTo>
                <a:lnTo>
                  <a:pt x="15241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7620"/>
                </a:lnTo>
                <a:lnTo>
                  <a:pt x="762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22860"/>
                </a:lnTo>
                <a:lnTo>
                  <a:pt x="0" y="30480"/>
                </a:lnTo>
                <a:lnTo>
                  <a:pt x="0" y="38100"/>
                </a:lnTo>
                <a:lnTo>
                  <a:pt x="7620" y="45720"/>
                </a:lnTo>
                <a:lnTo>
                  <a:pt x="7620" y="53340"/>
                </a:lnTo>
                <a:lnTo>
                  <a:pt x="7620" y="60960"/>
                </a:lnTo>
                <a:lnTo>
                  <a:pt x="15241" y="68580"/>
                </a:lnTo>
                <a:lnTo>
                  <a:pt x="15241" y="83820"/>
                </a:lnTo>
                <a:lnTo>
                  <a:pt x="22860" y="91440"/>
                </a:lnTo>
                <a:lnTo>
                  <a:pt x="30480" y="99060"/>
                </a:lnTo>
                <a:lnTo>
                  <a:pt x="38100" y="106680"/>
                </a:lnTo>
                <a:lnTo>
                  <a:pt x="45720" y="114300"/>
                </a:lnTo>
                <a:lnTo>
                  <a:pt x="60960" y="121920"/>
                </a:lnTo>
                <a:lnTo>
                  <a:pt x="68580" y="121920"/>
                </a:lnTo>
                <a:lnTo>
                  <a:pt x="76200" y="121920"/>
                </a:lnTo>
                <a:lnTo>
                  <a:pt x="91441" y="129540"/>
                </a:lnTo>
                <a:lnTo>
                  <a:pt x="99060" y="129540"/>
                </a:lnTo>
                <a:lnTo>
                  <a:pt x="114300" y="121920"/>
                </a:lnTo>
                <a:lnTo>
                  <a:pt x="121920" y="121920"/>
                </a:lnTo>
                <a:lnTo>
                  <a:pt x="129541" y="114300"/>
                </a:lnTo>
                <a:lnTo>
                  <a:pt x="137160" y="106680"/>
                </a:lnTo>
                <a:lnTo>
                  <a:pt x="152400" y="99060"/>
                </a:lnTo>
                <a:lnTo>
                  <a:pt x="160020" y="83820"/>
                </a:lnTo>
                <a:lnTo>
                  <a:pt x="167641" y="76200"/>
                </a:lnTo>
                <a:lnTo>
                  <a:pt x="167641" y="60960"/>
                </a:lnTo>
                <a:lnTo>
                  <a:pt x="175260" y="53340"/>
                </a:lnTo>
                <a:lnTo>
                  <a:pt x="175260" y="38100"/>
                </a:lnTo>
                <a:lnTo>
                  <a:pt x="182880" y="30480"/>
                </a:lnTo>
                <a:lnTo>
                  <a:pt x="182880" y="22860"/>
                </a:lnTo>
                <a:lnTo>
                  <a:pt x="182880" y="15240"/>
                </a:lnTo>
                <a:lnTo>
                  <a:pt x="182880" y="7620"/>
                </a:lnTo>
                <a:lnTo>
                  <a:pt x="182880" y="7620"/>
                </a:lnTo>
                <a:lnTo>
                  <a:pt x="182880" y="0"/>
                </a:lnTo>
                <a:lnTo>
                  <a:pt x="182880" y="0"/>
                </a:lnTo>
                <a:lnTo>
                  <a:pt x="182880" y="0"/>
                </a:lnTo>
                <a:lnTo>
                  <a:pt x="182880" y="0"/>
                </a:lnTo>
                <a:lnTo>
                  <a:pt x="182880" y="0"/>
                </a:lnTo>
                <a:lnTo>
                  <a:pt x="182880" y="7620"/>
                </a:lnTo>
                <a:lnTo>
                  <a:pt x="182880" y="15240"/>
                </a:lnTo>
                <a:lnTo>
                  <a:pt x="190500" y="22860"/>
                </a:lnTo>
                <a:lnTo>
                  <a:pt x="190500" y="30480"/>
                </a:lnTo>
                <a:lnTo>
                  <a:pt x="190500" y="45720"/>
                </a:lnTo>
                <a:lnTo>
                  <a:pt x="190500" y="60960"/>
                </a:lnTo>
                <a:lnTo>
                  <a:pt x="198120" y="76200"/>
                </a:lnTo>
                <a:lnTo>
                  <a:pt x="205741" y="91440"/>
                </a:lnTo>
                <a:lnTo>
                  <a:pt x="205741" y="114300"/>
                </a:lnTo>
                <a:lnTo>
                  <a:pt x="213360" y="129540"/>
                </a:lnTo>
                <a:lnTo>
                  <a:pt x="213360" y="152400"/>
                </a:lnTo>
                <a:lnTo>
                  <a:pt x="220980" y="175260"/>
                </a:lnTo>
                <a:lnTo>
                  <a:pt x="220980" y="198120"/>
                </a:lnTo>
                <a:lnTo>
                  <a:pt x="220980" y="228600"/>
                </a:lnTo>
                <a:lnTo>
                  <a:pt x="220980" y="251460"/>
                </a:lnTo>
                <a:lnTo>
                  <a:pt x="220980" y="274320"/>
                </a:lnTo>
                <a:lnTo>
                  <a:pt x="220980" y="297180"/>
                </a:lnTo>
                <a:lnTo>
                  <a:pt x="213360" y="312420"/>
                </a:lnTo>
                <a:lnTo>
                  <a:pt x="205741" y="335280"/>
                </a:lnTo>
                <a:lnTo>
                  <a:pt x="198120" y="350520"/>
                </a:lnTo>
                <a:lnTo>
                  <a:pt x="190500" y="365760"/>
                </a:lnTo>
                <a:lnTo>
                  <a:pt x="175260" y="381000"/>
                </a:lnTo>
                <a:lnTo>
                  <a:pt x="167641" y="388620"/>
                </a:lnTo>
                <a:lnTo>
                  <a:pt x="152400" y="396240"/>
                </a:lnTo>
                <a:lnTo>
                  <a:pt x="137160" y="396240"/>
                </a:lnTo>
                <a:lnTo>
                  <a:pt x="121920" y="396240"/>
                </a:lnTo>
                <a:lnTo>
                  <a:pt x="106680" y="388620"/>
                </a:lnTo>
                <a:lnTo>
                  <a:pt x="83820" y="388620"/>
                </a:lnTo>
                <a:lnTo>
                  <a:pt x="68580" y="381000"/>
                </a:lnTo>
                <a:lnTo>
                  <a:pt x="53341" y="365760"/>
                </a:lnTo>
                <a:lnTo>
                  <a:pt x="38100" y="350520"/>
                </a:lnTo>
                <a:lnTo>
                  <a:pt x="22860" y="335280"/>
                </a:lnTo>
                <a:lnTo>
                  <a:pt x="0" y="312420"/>
                </a:lnTo>
                <a:lnTo>
                  <a:pt x="0" y="3124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3"/>
          <p:cNvSpPr/>
          <p:nvPr/>
        </p:nvSpPr>
        <p:spPr>
          <a:xfrm>
            <a:off x="7772400" y="5494320"/>
            <a:ext cx="130320" cy="198360"/>
          </a:xfrm>
          <a:custGeom>
            <a:avLst/>
            <a:gdLst>
              <a:gd name="textAreaLeft" fmla="*/ 0 w 130320"/>
              <a:gd name="textAreaRight" fmla="*/ 130680 w 1303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29541" h="198121">
                <a:moveTo>
                  <a:pt x="30480" y="0"/>
                </a:move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7620"/>
                </a:lnTo>
                <a:lnTo>
                  <a:pt x="45720" y="7620"/>
                </a:lnTo>
                <a:lnTo>
                  <a:pt x="53340" y="7620"/>
                </a:lnTo>
                <a:lnTo>
                  <a:pt x="60961" y="15240"/>
                </a:lnTo>
                <a:lnTo>
                  <a:pt x="68580" y="15240"/>
                </a:lnTo>
                <a:lnTo>
                  <a:pt x="83820" y="22860"/>
                </a:lnTo>
                <a:lnTo>
                  <a:pt x="91440" y="22860"/>
                </a:lnTo>
                <a:lnTo>
                  <a:pt x="99061" y="30480"/>
                </a:lnTo>
                <a:lnTo>
                  <a:pt x="106680" y="38100"/>
                </a:lnTo>
                <a:lnTo>
                  <a:pt x="114300" y="45720"/>
                </a:lnTo>
                <a:lnTo>
                  <a:pt x="121920" y="45720"/>
                </a:lnTo>
                <a:lnTo>
                  <a:pt x="121920" y="53340"/>
                </a:lnTo>
                <a:lnTo>
                  <a:pt x="129540" y="60960"/>
                </a:lnTo>
                <a:lnTo>
                  <a:pt x="129540" y="60960"/>
                </a:lnTo>
                <a:lnTo>
                  <a:pt x="129540" y="68580"/>
                </a:lnTo>
                <a:lnTo>
                  <a:pt x="121920" y="76200"/>
                </a:lnTo>
                <a:lnTo>
                  <a:pt x="121920" y="76200"/>
                </a:lnTo>
                <a:lnTo>
                  <a:pt x="114300" y="83820"/>
                </a:lnTo>
                <a:lnTo>
                  <a:pt x="106680" y="83820"/>
                </a:lnTo>
                <a:lnTo>
                  <a:pt x="99061" y="91440"/>
                </a:lnTo>
                <a:lnTo>
                  <a:pt x="91440" y="91440"/>
                </a:lnTo>
                <a:lnTo>
                  <a:pt x="76200" y="91440"/>
                </a:lnTo>
                <a:lnTo>
                  <a:pt x="60961" y="99060"/>
                </a:lnTo>
                <a:lnTo>
                  <a:pt x="53340" y="99060"/>
                </a:lnTo>
                <a:lnTo>
                  <a:pt x="38100" y="114300"/>
                </a:lnTo>
                <a:lnTo>
                  <a:pt x="30480" y="114300"/>
                </a:lnTo>
                <a:lnTo>
                  <a:pt x="15240" y="121920"/>
                </a:lnTo>
                <a:lnTo>
                  <a:pt x="7620" y="129540"/>
                </a:lnTo>
                <a:lnTo>
                  <a:pt x="7620" y="137160"/>
                </a:lnTo>
                <a:lnTo>
                  <a:pt x="0" y="144780"/>
                </a:lnTo>
                <a:lnTo>
                  <a:pt x="0" y="152400"/>
                </a:lnTo>
                <a:lnTo>
                  <a:pt x="0" y="160020"/>
                </a:lnTo>
                <a:lnTo>
                  <a:pt x="0" y="167640"/>
                </a:lnTo>
                <a:lnTo>
                  <a:pt x="7620" y="175260"/>
                </a:lnTo>
                <a:lnTo>
                  <a:pt x="15240" y="182880"/>
                </a:lnTo>
                <a:lnTo>
                  <a:pt x="22861" y="190500"/>
                </a:lnTo>
                <a:lnTo>
                  <a:pt x="30480" y="190500"/>
                </a:lnTo>
                <a:lnTo>
                  <a:pt x="45720" y="198120"/>
                </a:lnTo>
                <a:lnTo>
                  <a:pt x="53340" y="198120"/>
                </a:lnTo>
                <a:lnTo>
                  <a:pt x="68580" y="198120"/>
                </a:lnTo>
                <a:lnTo>
                  <a:pt x="91440" y="198120"/>
                </a:lnTo>
                <a:lnTo>
                  <a:pt x="91440" y="1981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4"/>
          <p:cNvSpPr/>
          <p:nvPr/>
        </p:nvSpPr>
        <p:spPr>
          <a:xfrm>
            <a:off x="7985160" y="5570640"/>
            <a:ext cx="31680" cy="160200"/>
          </a:xfrm>
          <a:custGeom>
            <a:avLst/>
            <a:gdLst>
              <a:gd name="textAreaLeft" fmla="*/ 0 w 31680"/>
              <a:gd name="textAreaRight" fmla="*/ 32040 w 31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0480" h="160021">
                <a:moveTo>
                  <a:pt x="30479" y="0"/>
                </a:moveTo>
                <a:lnTo>
                  <a:pt x="30479" y="0"/>
                </a:lnTo>
                <a:lnTo>
                  <a:pt x="30479" y="0"/>
                </a:lnTo>
                <a:lnTo>
                  <a:pt x="30479" y="7620"/>
                </a:lnTo>
                <a:lnTo>
                  <a:pt x="22859" y="15240"/>
                </a:lnTo>
                <a:lnTo>
                  <a:pt x="22859" y="15240"/>
                </a:lnTo>
                <a:lnTo>
                  <a:pt x="22859" y="22860"/>
                </a:lnTo>
                <a:lnTo>
                  <a:pt x="15239" y="38100"/>
                </a:lnTo>
                <a:lnTo>
                  <a:pt x="15239" y="45720"/>
                </a:lnTo>
                <a:lnTo>
                  <a:pt x="15239" y="53340"/>
                </a:lnTo>
                <a:lnTo>
                  <a:pt x="7619" y="68580"/>
                </a:lnTo>
                <a:lnTo>
                  <a:pt x="7619" y="76200"/>
                </a:lnTo>
                <a:lnTo>
                  <a:pt x="0" y="91440"/>
                </a:lnTo>
                <a:lnTo>
                  <a:pt x="0" y="106680"/>
                </a:lnTo>
                <a:lnTo>
                  <a:pt x="0" y="114300"/>
                </a:lnTo>
                <a:lnTo>
                  <a:pt x="0" y="129540"/>
                </a:lnTo>
                <a:lnTo>
                  <a:pt x="0" y="137160"/>
                </a:lnTo>
                <a:lnTo>
                  <a:pt x="0" y="144780"/>
                </a:lnTo>
                <a:lnTo>
                  <a:pt x="0" y="160020"/>
                </a:lnTo>
                <a:lnTo>
                  <a:pt x="0" y="16002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5"/>
          <p:cNvSpPr/>
          <p:nvPr/>
        </p:nvSpPr>
        <p:spPr>
          <a:xfrm>
            <a:off x="7932600" y="5616720"/>
            <a:ext cx="136800" cy="2196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37161" h="22861">
                <a:moveTo>
                  <a:pt x="0" y="0"/>
                </a:moveTo>
                <a:lnTo>
                  <a:pt x="7620" y="0"/>
                </a:lnTo>
                <a:lnTo>
                  <a:pt x="15241" y="0"/>
                </a:lnTo>
                <a:lnTo>
                  <a:pt x="30480" y="0"/>
                </a:lnTo>
                <a:lnTo>
                  <a:pt x="38100" y="0"/>
                </a:lnTo>
                <a:lnTo>
                  <a:pt x="53341" y="0"/>
                </a:lnTo>
                <a:lnTo>
                  <a:pt x="68580" y="7620"/>
                </a:lnTo>
                <a:lnTo>
                  <a:pt x="83820" y="7620"/>
                </a:lnTo>
                <a:lnTo>
                  <a:pt x="99060" y="7620"/>
                </a:lnTo>
                <a:lnTo>
                  <a:pt x="114300" y="15240"/>
                </a:lnTo>
                <a:lnTo>
                  <a:pt x="137160" y="22860"/>
                </a:lnTo>
                <a:lnTo>
                  <a:pt x="137160" y="2286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6"/>
          <p:cNvSpPr/>
          <p:nvPr/>
        </p:nvSpPr>
        <p:spPr>
          <a:xfrm>
            <a:off x="8161200" y="5592600"/>
            <a:ext cx="182880" cy="290520"/>
          </a:xfrm>
          <a:custGeom>
            <a:avLst/>
            <a:gdLst>
              <a:gd name="textAreaLeft" fmla="*/ 0 w 182880"/>
              <a:gd name="textAreaRight" fmla="*/ 183240 w 1828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82881" h="289561">
                <a:moveTo>
                  <a:pt x="7620" y="0"/>
                </a:moveTo>
                <a:lnTo>
                  <a:pt x="7620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0"/>
                </a:lnTo>
                <a:lnTo>
                  <a:pt x="7620" y="7620"/>
                </a:lnTo>
                <a:lnTo>
                  <a:pt x="0" y="7620"/>
                </a:lnTo>
                <a:lnTo>
                  <a:pt x="0" y="15240"/>
                </a:lnTo>
                <a:lnTo>
                  <a:pt x="0" y="22860"/>
                </a:lnTo>
                <a:lnTo>
                  <a:pt x="0" y="30480"/>
                </a:lnTo>
                <a:lnTo>
                  <a:pt x="0" y="38100"/>
                </a:lnTo>
                <a:lnTo>
                  <a:pt x="0" y="45720"/>
                </a:lnTo>
                <a:lnTo>
                  <a:pt x="0" y="53340"/>
                </a:lnTo>
                <a:lnTo>
                  <a:pt x="0" y="60960"/>
                </a:lnTo>
                <a:lnTo>
                  <a:pt x="0" y="68580"/>
                </a:lnTo>
                <a:lnTo>
                  <a:pt x="0" y="83820"/>
                </a:lnTo>
                <a:lnTo>
                  <a:pt x="7620" y="91440"/>
                </a:lnTo>
                <a:lnTo>
                  <a:pt x="7620" y="99060"/>
                </a:lnTo>
                <a:lnTo>
                  <a:pt x="22860" y="106680"/>
                </a:lnTo>
                <a:lnTo>
                  <a:pt x="30480" y="114300"/>
                </a:lnTo>
                <a:lnTo>
                  <a:pt x="38100" y="121920"/>
                </a:lnTo>
                <a:lnTo>
                  <a:pt x="45720" y="121920"/>
                </a:lnTo>
                <a:lnTo>
                  <a:pt x="60960" y="121920"/>
                </a:lnTo>
                <a:lnTo>
                  <a:pt x="68580" y="121920"/>
                </a:lnTo>
                <a:lnTo>
                  <a:pt x="76200" y="121920"/>
                </a:lnTo>
                <a:lnTo>
                  <a:pt x="91441" y="114300"/>
                </a:lnTo>
                <a:lnTo>
                  <a:pt x="99060" y="114300"/>
                </a:lnTo>
                <a:lnTo>
                  <a:pt x="106680" y="106680"/>
                </a:lnTo>
                <a:lnTo>
                  <a:pt x="114300" y="99060"/>
                </a:lnTo>
                <a:lnTo>
                  <a:pt x="121920" y="83820"/>
                </a:lnTo>
                <a:lnTo>
                  <a:pt x="129541" y="76200"/>
                </a:lnTo>
                <a:lnTo>
                  <a:pt x="137160" y="60960"/>
                </a:lnTo>
                <a:lnTo>
                  <a:pt x="137160" y="53340"/>
                </a:lnTo>
                <a:lnTo>
                  <a:pt x="137160" y="45720"/>
                </a:lnTo>
                <a:lnTo>
                  <a:pt x="144780" y="30480"/>
                </a:lnTo>
                <a:lnTo>
                  <a:pt x="144780" y="22860"/>
                </a:lnTo>
                <a:lnTo>
                  <a:pt x="144780" y="15240"/>
                </a:lnTo>
                <a:lnTo>
                  <a:pt x="144780" y="7620"/>
                </a:lnTo>
                <a:lnTo>
                  <a:pt x="144780" y="0"/>
                </a:lnTo>
                <a:lnTo>
                  <a:pt x="152400" y="0"/>
                </a:lnTo>
                <a:lnTo>
                  <a:pt x="152400" y="0"/>
                </a:lnTo>
                <a:lnTo>
                  <a:pt x="152400" y="0"/>
                </a:lnTo>
                <a:lnTo>
                  <a:pt x="152400" y="0"/>
                </a:lnTo>
                <a:lnTo>
                  <a:pt x="152400" y="7620"/>
                </a:lnTo>
                <a:lnTo>
                  <a:pt x="160020" y="15240"/>
                </a:lnTo>
                <a:lnTo>
                  <a:pt x="160020" y="22860"/>
                </a:lnTo>
                <a:lnTo>
                  <a:pt x="160020" y="30480"/>
                </a:lnTo>
                <a:lnTo>
                  <a:pt x="167641" y="53340"/>
                </a:lnTo>
                <a:lnTo>
                  <a:pt x="167641" y="60960"/>
                </a:lnTo>
                <a:lnTo>
                  <a:pt x="167641" y="76200"/>
                </a:lnTo>
                <a:lnTo>
                  <a:pt x="175260" y="99060"/>
                </a:lnTo>
                <a:lnTo>
                  <a:pt x="175260" y="114300"/>
                </a:lnTo>
                <a:lnTo>
                  <a:pt x="182880" y="129540"/>
                </a:lnTo>
                <a:lnTo>
                  <a:pt x="182880" y="152400"/>
                </a:lnTo>
                <a:lnTo>
                  <a:pt x="182880" y="167640"/>
                </a:lnTo>
                <a:lnTo>
                  <a:pt x="182880" y="190500"/>
                </a:lnTo>
                <a:lnTo>
                  <a:pt x="182880" y="205740"/>
                </a:lnTo>
                <a:lnTo>
                  <a:pt x="175260" y="220980"/>
                </a:lnTo>
                <a:lnTo>
                  <a:pt x="175260" y="236220"/>
                </a:lnTo>
                <a:lnTo>
                  <a:pt x="167641" y="251460"/>
                </a:lnTo>
                <a:lnTo>
                  <a:pt x="160020" y="259080"/>
                </a:lnTo>
                <a:lnTo>
                  <a:pt x="152400" y="266700"/>
                </a:lnTo>
                <a:lnTo>
                  <a:pt x="144780" y="274320"/>
                </a:lnTo>
                <a:lnTo>
                  <a:pt x="137160" y="281940"/>
                </a:lnTo>
                <a:lnTo>
                  <a:pt x="129541" y="289560"/>
                </a:lnTo>
                <a:lnTo>
                  <a:pt x="121920" y="289560"/>
                </a:lnTo>
                <a:lnTo>
                  <a:pt x="106680" y="289560"/>
                </a:lnTo>
                <a:lnTo>
                  <a:pt x="99060" y="289560"/>
                </a:lnTo>
                <a:lnTo>
                  <a:pt x="91441" y="281940"/>
                </a:lnTo>
                <a:lnTo>
                  <a:pt x="76200" y="274320"/>
                </a:lnTo>
                <a:lnTo>
                  <a:pt x="68580" y="266700"/>
                </a:lnTo>
                <a:lnTo>
                  <a:pt x="53341" y="259080"/>
                </a:lnTo>
                <a:lnTo>
                  <a:pt x="45720" y="243840"/>
                </a:lnTo>
                <a:lnTo>
                  <a:pt x="38100" y="236220"/>
                </a:lnTo>
                <a:lnTo>
                  <a:pt x="22860" y="220980"/>
                </a:lnTo>
                <a:lnTo>
                  <a:pt x="15241" y="213360"/>
                </a:lnTo>
                <a:lnTo>
                  <a:pt x="15241" y="198120"/>
                </a:lnTo>
                <a:lnTo>
                  <a:pt x="7620" y="182880"/>
                </a:lnTo>
                <a:lnTo>
                  <a:pt x="7620" y="1828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7"/>
          <p:cNvSpPr/>
          <p:nvPr/>
        </p:nvSpPr>
        <p:spPr>
          <a:xfrm>
            <a:off x="8450280" y="5570640"/>
            <a:ext cx="122400" cy="182520"/>
          </a:xfrm>
          <a:custGeom>
            <a:avLst/>
            <a:gdLst>
              <a:gd name="textAreaLeft" fmla="*/ 0 w 122400"/>
              <a:gd name="textAreaRight" fmla="*/ 122760 w 1224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1921" h="182881">
                <a:moveTo>
                  <a:pt x="15240" y="22860"/>
                </a:moveTo>
                <a:lnTo>
                  <a:pt x="15240" y="15240"/>
                </a:lnTo>
                <a:lnTo>
                  <a:pt x="15240" y="15240"/>
                </a:lnTo>
                <a:lnTo>
                  <a:pt x="22860" y="15240"/>
                </a:lnTo>
                <a:lnTo>
                  <a:pt x="22860" y="7620"/>
                </a:lnTo>
                <a:lnTo>
                  <a:pt x="22860" y="7620"/>
                </a:lnTo>
                <a:lnTo>
                  <a:pt x="30481" y="7620"/>
                </a:lnTo>
                <a:lnTo>
                  <a:pt x="38100" y="7620"/>
                </a:lnTo>
                <a:lnTo>
                  <a:pt x="45720" y="0"/>
                </a:lnTo>
                <a:lnTo>
                  <a:pt x="53340" y="0"/>
                </a:lnTo>
                <a:lnTo>
                  <a:pt x="60960" y="0"/>
                </a:lnTo>
                <a:lnTo>
                  <a:pt x="68581" y="0"/>
                </a:lnTo>
                <a:lnTo>
                  <a:pt x="83820" y="0"/>
                </a:lnTo>
                <a:lnTo>
                  <a:pt x="91440" y="7620"/>
                </a:lnTo>
                <a:lnTo>
                  <a:pt x="99060" y="7620"/>
                </a:lnTo>
                <a:lnTo>
                  <a:pt x="99060" y="7620"/>
                </a:lnTo>
                <a:lnTo>
                  <a:pt x="106681" y="7620"/>
                </a:lnTo>
                <a:lnTo>
                  <a:pt x="114300" y="15240"/>
                </a:lnTo>
                <a:lnTo>
                  <a:pt x="114300" y="15240"/>
                </a:lnTo>
                <a:lnTo>
                  <a:pt x="121920" y="15240"/>
                </a:lnTo>
                <a:lnTo>
                  <a:pt x="121920" y="15240"/>
                </a:lnTo>
                <a:lnTo>
                  <a:pt x="121920" y="22860"/>
                </a:lnTo>
                <a:lnTo>
                  <a:pt x="121920" y="22860"/>
                </a:lnTo>
                <a:lnTo>
                  <a:pt x="121920" y="30480"/>
                </a:lnTo>
                <a:lnTo>
                  <a:pt x="121920" y="30480"/>
                </a:lnTo>
                <a:lnTo>
                  <a:pt x="121920" y="38100"/>
                </a:lnTo>
                <a:lnTo>
                  <a:pt x="121920" y="38100"/>
                </a:lnTo>
                <a:lnTo>
                  <a:pt x="114300" y="45720"/>
                </a:lnTo>
                <a:lnTo>
                  <a:pt x="114300" y="53340"/>
                </a:lnTo>
                <a:lnTo>
                  <a:pt x="106681" y="53340"/>
                </a:lnTo>
                <a:lnTo>
                  <a:pt x="99060" y="60960"/>
                </a:lnTo>
                <a:lnTo>
                  <a:pt x="91440" y="68580"/>
                </a:lnTo>
                <a:lnTo>
                  <a:pt x="83820" y="68580"/>
                </a:lnTo>
                <a:lnTo>
                  <a:pt x="76200" y="76200"/>
                </a:lnTo>
                <a:lnTo>
                  <a:pt x="68581" y="83820"/>
                </a:lnTo>
                <a:lnTo>
                  <a:pt x="53340" y="91440"/>
                </a:lnTo>
                <a:lnTo>
                  <a:pt x="45720" y="99060"/>
                </a:lnTo>
                <a:lnTo>
                  <a:pt x="38100" y="106680"/>
                </a:lnTo>
                <a:lnTo>
                  <a:pt x="22860" y="114300"/>
                </a:lnTo>
                <a:lnTo>
                  <a:pt x="15240" y="121920"/>
                </a:lnTo>
                <a:lnTo>
                  <a:pt x="15240" y="129540"/>
                </a:lnTo>
                <a:lnTo>
                  <a:pt x="7620" y="137160"/>
                </a:lnTo>
                <a:lnTo>
                  <a:pt x="0" y="144780"/>
                </a:lnTo>
                <a:lnTo>
                  <a:pt x="0" y="152400"/>
                </a:lnTo>
                <a:lnTo>
                  <a:pt x="0" y="152400"/>
                </a:lnTo>
                <a:lnTo>
                  <a:pt x="0" y="160020"/>
                </a:lnTo>
                <a:lnTo>
                  <a:pt x="0" y="167640"/>
                </a:lnTo>
                <a:lnTo>
                  <a:pt x="7620" y="167640"/>
                </a:lnTo>
                <a:lnTo>
                  <a:pt x="7620" y="175260"/>
                </a:lnTo>
                <a:lnTo>
                  <a:pt x="15240" y="175260"/>
                </a:lnTo>
                <a:lnTo>
                  <a:pt x="22860" y="182880"/>
                </a:lnTo>
                <a:lnTo>
                  <a:pt x="30481" y="182880"/>
                </a:lnTo>
                <a:lnTo>
                  <a:pt x="45720" y="182880"/>
                </a:lnTo>
                <a:lnTo>
                  <a:pt x="60960" y="182880"/>
                </a:lnTo>
                <a:lnTo>
                  <a:pt x="68581" y="182880"/>
                </a:lnTo>
                <a:lnTo>
                  <a:pt x="91440" y="182880"/>
                </a:lnTo>
                <a:lnTo>
                  <a:pt x="91440" y="18288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8"/>
          <p:cNvSpPr/>
          <p:nvPr/>
        </p:nvSpPr>
        <p:spPr>
          <a:xfrm>
            <a:off x="8420040" y="5630760"/>
            <a:ext cx="144360" cy="15840"/>
          </a:xfrm>
          <a:custGeom>
            <a:avLst/>
            <a:gdLst>
              <a:gd name="textAreaLeft" fmla="*/ 0 w 144360"/>
              <a:gd name="textAreaRight" fmla="*/ 144720 w 1443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44781" h="15241">
                <a:moveTo>
                  <a:pt x="0" y="7620"/>
                </a:move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15240" y="0"/>
                </a:lnTo>
                <a:lnTo>
                  <a:pt x="30480" y="0"/>
                </a:lnTo>
                <a:lnTo>
                  <a:pt x="38100" y="0"/>
                </a:lnTo>
                <a:lnTo>
                  <a:pt x="53340" y="0"/>
                </a:lnTo>
                <a:lnTo>
                  <a:pt x="76200" y="7620"/>
                </a:lnTo>
                <a:lnTo>
                  <a:pt x="91440" y="7620"/>
                </a:lnTo>
                <a:lnTo>
                  <a:pt x="114300" y="7620"/>
                </a:lnTo>
                <a:lnTo>
                  <a:pt x="144780" y="15240"/>
                </a:lnTo>
                <a:lnTo>
                  <a:pt x="144780" y="1524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28954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. 3 &amp;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1426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length of 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761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the length of 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685800" y="190512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8"/>
          <p:cNvSpPr/>
          <p:nvPr/>
        </p:nvSpPr>
        <p:spPr>
          <a:xfrm>
            <a:off x="1828800" y="30481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9"/>
          <p:cNvSpPr/>
          <p:nvPr/>
        </p:nvSpPr>
        <p:spPr>
          <a:xfrm>
            <a:off x="1447920" y="1981080"/>
            <a:ext cx="14475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0"/>
          <p:cNvSpPr/>
          <p:nvPr/>
        </p:nvSpPr>
        <p:spPr>
          <a:xfrm flipH="1">
            <a:off x="1981080" y="2057400"/>
            <a:ext cx="4572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1600200" y="2286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2286000" y="2286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2514600" y="28036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1828800" y="33526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533520" y="4419720"/>
            <a:ext cx="2514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b = c•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3)•(7) = (x)•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1 = 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2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5562720" y="167652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7"/>
          <p:cNvSpPr/>
          <p:nvPr/>
        </p:nvSpPr>
        <p:spPr>
          <a:xfrm>
            <a:off x="6629400" y="28195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8"/>
          <p:cNvSpPr/>
          <p:nvPr/>
        </p:nvSpPr>
        <p:spPr>
          <a:xfrm>
            <a:off x="5410080" y="1752480"/>
            <a:ext cx="152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9"/>
          <p:cNvSpPr/>
          <p:nvPr/>
        </p:nvSpPr>
        <p:spPr>
          <a:xfrm>
            <a:off x="5410080" y="1752480"/>
            <a:ext cx="26672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4952880" y="2133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1"/>
          <p:cNvSpPr/>
          <p:nvPr/>
        </p:nvSpPr>
        <p:spPr>
          <a:xfrm>
            <a:off x="5638680" y="16002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6705720" y="21337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257800" y="411480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y(y +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(8 +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5 = 64 + 8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1 = 8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.125 =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"/>
          <p:cNvSpPr/>
          <p:nvPr/>
        </p:nvSpPr>
        <p:spPr>
          <a:xfrm>
            <a:off x="6180120" y="4626000"/>
            <a:ext cx="326880" cy="144360"/>
          </a:xfrm>
          <a:custGeom>
            <a:avLst/>
            <a:gdLst>
              <a:gd name="textAreaLeft" fmla="*/ 0 w 326880"/>
              <a:gd name="textAreaRight" fmla="*/ 327240 w 32688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327661" h="144781">
                <a:moveTo>
                  <a:pt x="7620" y="144780"/>
                </a:moveTo>
                <a:lnTo>
                  <a:pt x="0" y="144780"/>
                </a:lnTo>
                <a:lnTo>
                  <a:pt x="0" y="137160"/>
                </a:lnTo>
                <a:lnTo>
                  <a:pt x="0" y="129540"/>
                </a:lnTo>
                <a:lnTo>
                  <a:pt x="7620" y="121920"/>
                </a:lnTo>
                <a:lnTo>
                  <a:pt x="7620" y="114300"/>
                </a:lnTo>
                <a:lnTo>
                  <a:pt x="7620" y="114300"/>
                </a:lnTo>
                <a:lnTo>
                  <a:pt x="15240" y="106680"/>
                </a:lnTo>
                <a:lnTo>
                  <a:pt x="15240" y="99060"/>
                </a:lnTo>
                <a:lnTo>
                  <a:pt x="22860" y="91440"/>
                </a:lnTo>
                <a:lnTo>
                  <a:pt x="30480" y="83820"/>
                </a:lnTo>
                <a:lnTo>
                  <a:pt x="30480" y="76200"/>
                </a:lnTo>
                <a:lnTo>
                  <a:pt x="38100" y="68580"/>
                </a:lnTo>
                <a:lnTo>
                  <a:pt x="45720" y="53340"/>
                </a:lnTo>
                <a:lnTo>
                  <a:pt x="53340" y="45720"/>
                </a:lnTo>
                <a:lnTo>
                  <a:pt x="60960" y="38100"/>
                </a:lnTo>
                <a:lnTo>
                  <a:pt x="68580" y="30480"/>
                </a:lnTo>
                <a:lnTo>
                  <a:pt x="76200" y="30480"/>
                </a:lnTo>
                <a:lnTo>
                  <a:pt x="83820" y="22860"/>
                </a:lnTo>
                <a:lnTo>
                  <a:pt x="91440" y="15240"/>
                </a:lnTo>
                <a:lnTo>
                  <a:pt x="106680" y="7620"/>
                </a:lnTo>
                <a:lnTo>
                  <a:pt x="114300" y="7620"/>
                </a:lnTo>
                <a:lnTo>
                  <a:pt x="121920" y="0"/>
                </a:lnTo>
                <a:lnTo>
                  <a:pt x="129540" y="0"/>
                </a:lnTo>
                <a:lnTo>
                  <a:pt x="137160" y="0"/>
                </a:lnTo>
                <a:lnTo>
                  <a:pt x="152400" y="0"/>
                </a:lnTo>
                <a:lnTo>
                  <a:pt x="160020" y="0"/>
                </a:lnTo>
                <a:lnTo>
                  <a:pt x="175260" y="0"/>
                </a:lnTo>
                <a:lnTo>
                  <a:pt x="182880" y="0"/>
                </a:lnTo>
                <a:lnTo>
                  <a:pt x="190500" y="7620"/>
                </a:lnTo>
                <a:lnTo>
                  <a:pt x="205740" y="7620"/>
                </a:lnTo>
                <a:lnTo>
                  <a:pt x="213360" y="15240"/>
                </a:lnTo>
                <a:lnTo>
                  <a:pt x="228600" y="22860"/>
                </a:lnTo>
                <a:lnTo>
                  <a:pt x="236220" y="30480"/>
                </a:lnTo>
                <a:lnTo>
                  <a:pt x="243840" y="30480"/>
                </a:lnTo>
                <a:lnTo>
                  <a:pt x="251460" y="45720"/>
                </a:lnTo>
                <a:lnTo>
                  <a:pt x="266700" y="53340"/>
                </a:lnTo>
                <a:lnTo>
                  <a:pt x="274320" y="60960"/>
                </a:lnTo>
                <a:lnTo>
                  <a:pt x="274320" y="68580"/>
                </a:lnTo>
                <a:lnTo>
                  <a:pt x="281940" y="83820"/>
                </a:lnTo>
                <a:lnTo>
                  <a:pt x="289560" y="91440"/>
                </a:lnTo>
                <a:lnTo>
                  <a:pt x="297180" y="99060"/>
                </a:lnTo>
                <a:lnTo>
                  <a:pt x="304800" y="106680"/>
                </a:lnTo>
                <a:lnTo>
                  <a:pt x="312420" y="114300"/>
                </a:lnTo>
                <a:lnTo>
                  <a:pt x="320040" y="129540"/>
                </a:lnTo>
                <a:lnTo>
                  <a:pt x="320040" y="129540"/>
                </a:lnTo>
                <a:lnTo>
                  <a:pt x="327660" y="144780"/>
                </a:lnTo>
                <a:lnTo>
                  <a:pt x="327660" y="1447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2"/>
          <p:cNvSpPr/>
          <p:nvPr/>
        </p:nvSpPr>
        <p:spPr>
          <a:xfrm>
            <a:off x="6240600" y="4564080"/>
            <a:ext cx="785520" cy="282600"/>
          </a:xfrm>
          <a:custGeom>
            <a:avLst/>
            <a:gdLst>
              <a:gd name="textAreaLeft" fmla="*/ 0 w 785520"/>
              <a:gd name="textAreaRight" fmla="*/ 785880 w 7855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784861" h="281941">
                <a:moveTo>
                  <a:pt x="0" y="160020"/>
                </a:moveTo>
                <a:lnTo>
                  <a:pt x="0" y="152400"/>
                </a:lnTo>
                <a:lnTo>
                  <a:pt x="7620" y="144780"/>
                </a:lnTo>
                <a:lnTo>
                  <a:pt x="7620" y="137160"/>
                </a:lnTo>
                <a:lnTo>
                  <a:pt x="7620" y="129540"/>
                </a:lnTo>
                <a:lnTo>
                  <a:pt x="15240" y="129540"/>
                </a:lnTo>
                <a:lnTo>
                  <a:pt x="15240" y="121920"/>
                </a:lnTo>
                <a:lnTo>
                  <a:pt x="22860" y="114300"/>
                </a:lnTo>
                <a:lnTo>
                  <a:pt x="30480" y="106680"/>
                </a:lnTo>
                <a:lnTo>
                  <a:pt x="30480" y="99060"/>
                </a:lnTo>
                <a:lnTo>
                  <a:pt x="38100" y="91440"/>
                </a:lnTo>
                <a:lnTo>
                  <a:pt x="45720" y="91440"/>
                </a:lnTo>
                <a:lnTo>
                  <a:pt x="53340" y="83820"/>
                </a:lnTo>
                <a:lnTo>
                  <a:pt x="60960" y="76200"/>
                </a:lnTo>
                <a:lnTo>
                  <a:pt x="68580" y="68580"/>
                </a:lnTo>
                <a:lnTo>
                  <a:pt x="76200" y="60960"/>
                </a:lnTo>
                <a:lnTo>
                  <a:pt x="91440" y="60960"/>
                </a:lnTo>
                <a:lnTo>
                  <a:pt x="99060" y="53340"/>
                </a:lnTo>
                <a:lnTo>
                  <a:pt x="114300" y="45720"/>
                </a:lnTo>
                <a:lnTo>
                  <a:pt x="121920" y="38100"/>
                </a:lnTo>
                <a:lnTo>
                  <a:pt x="137160" y="38100"/>
                </a:lnTo>
                <a:lnTo>
                  <a:pt x="152400" y="30480"/>
                </a:lnTo>
                <a:lnTo>
                  <a:pt x="167640" y="22860"/>
                </a:lnTo>
                <a:lnTo>
                  <a:pt x="175260" y="22860"/>
                </a:lnTo>
                <a:lnTo>
                  <a:pt x="198120" y="15240"/>
                </a:lnTo>
                <a:lnTo>
                  <a:pt x="213360" y="15240"/>
                </a:lnTo>
                <a:lnTo>
                  <a:pt x="228600" y="7620"/>
                </a:lnTo>
                <a:lnTo>
                  <a:pt x="243840" y="7620"/>
                </a:lnTo>
                <a:lnTo>
                  <a:pt x="259080" y="7620"/>
                </a:lnTo>
                <a:lnTo>
                  <a:pt x="274320" y="7620"/>
                </a:lnTo>
                <a:lnTo>
                  <a:pt x="297181" y="0"/>
                </a:lnTo>
                <a:lnTo>
                  <a:pt x="312420" y="0"/>
                </a:lnTo>
                <a:lnTo>
                  <a:pt x="327660" y="0"/>
                </a:lnTo>
                <a:lnTo>
                  <a:pt x="350520" y="0"/>
                </a:lnTo>
                <a:lnTo>
                  <a:pt x="365760" y="0"/>
                </a:lnTo>
                <a:lnTo>
                  <a:pt x="388620" y="7620"/>
                </a:lnTo>
                <a:lnTo>
                  <a:pt x="403860" y="7620"/>
                </a:lnTo>
                <a:lnTo>
                  <a:pt x="426720" y="15240"/>
                </a:lnTo>
                <a:lnTo>
                  <a:pt x="449581" y="15240"/>
                </a:lnTo>
                <a:lnTo>
                  <a:pt x="464820" y="22860"/>
                </a:lnTo>
                <a:lnTo>
                  <a:pt x="487681" y="22860"/>
                </a:lnTo>
                <a:lnTo>
                  <a:pt x="502920" y="30480"/>
                </a:lnTo>
                <a:lnTo>
                  <a:pt x="525781" y="38100"/>
                </a:lnTo>
                <a:lnTo>
                  <a:pt x="541020" y="53340"/>
                </a:lnTo>
                <a:lnTo>
                  <a:pt x="563881" y="60960"/>
                </a:lnTo>
                <a:lnTo>
                  <a:pt x="579120" y="68580"/>
                </a:lnTo>
                <a:lnTo>
                  <a:pt x="594360" y="83820"/>
                </a:lnTo>
                <a:lnTo>
                  <a:pt x="617220" y="91440"/>
                </a:lnTo>
                <a:lnTo>
                  <a:pt x="632460" y="106680"/>
                </a:lnTo>
                <a:lnTo>
                  <a:pt x="647700" y="114300"/>
                </a:lnTo>
                <a:lnTo>
                  <a:pt x="662940" y="129540"/>
                </a:lnTo>
                <a:lnTo>
                  <a:pt x="678181" y="137160"/>
                </a:lnTo>
                <a:lnTo>
                  <a:pt x="693420" y="152400"/>
                </a:lnTo>
                <a:lnTo>
                  <a:pt x="701040" y="160020"/>
                </a:lnTo>
                <a:lnTo>
                  <a:pt x="716281" y="175260"/>
                </a:lnTo>
                <a:lnTo>
                  <a:pt x="723900" y="190500"/>
                </a:lnTo>
                <a:lnTo>
                  <a:pt x="739140" y="205740"/>
                </a:lnTo>
                <a:lnTo>
                  <a:pt x="746760" y="213360"/>
                </a:lnTo>
                <a:lnTo>
                  <a:pt x="754381" y="228600"/>
                </a:lnTo>
                <a:lnTo>
                  <a:pt x="762000" y="236220"/>
                </a:lnTo>
                <a:lnTo>
                  <a:pt x="762000" y="243840"/>
                </a:lnTo>
                <a:lnTo>
                  <a:pt x="769620" y="259080"/>
                </a:lnTo>
                <a:lnTo>
                  <a:pt x="769620" y="266700"/>
                </a:lnTo>
                <a:lnTo>
                  <a:pt x="784860" y="281940"/>
                </a:lnTo>
                <a:lnTo>
                  <a:pt x="784860" y="2819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5578560" y="4923000"/>
            <a:ext cx="280800" cy="190440"/>
          </a:xfrm>
          <a:custGeom>
            <a:avLst/>
            <a:gdLst>
              <a:gd name="textAreaLeft" fmla="*/ 0 w 280800"/>
              <a:gd name="textAreaRight" fmla="*/ 281160 w 2808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81941" h="190501">
                <a:moveTo>
                  <a:pt x="0" y="190500"/>
                </a:moveTo>
                <a:lnTo>
                  <a:pt x="7620" y="190500"/>
                </a:lnTo>
                <a:lnTo>
                  <a:pt x="30480" y="190500"/>
                </a:lnTo>
                <a:lnTo>
                  <a:pt x="53340" y="190500"/>
                </a:lnTo>
                <a:lnTo>
                  <a:pt x="68580" y="182880"/>
                </a:lnTo>
                <a:lnTo>
                  <a:pt x="91440" y="182880"/>
                </a:lnTo>
                <a:lnTo>
                  <a:pt x="106680" y="175260"/>
                </a:lnTo>
                <a:lnTo>
                  <a:pt x="121920" y="167640"/>
                </a:lnTo>
                <a:lnTo>
                  <a:pt x="137160" y="160020"/>
                </a:lnTo>
                <a:lnTo>
                  <a:pt x="152400" y="152400"/>
                </a:lnTo>
                <a:lnTo>
                  <a:pt x="175260" y="144780"/>
                </a:lnTo>
                <a:lnTo>
                  <a:pt x="182880" y="129540"/>
                </a:lnTo>
                <a:lnTo>
                  <a:pt x="198120" y="121920"/>
                </a:lnTo>
                <a:lnTo>
                  <a:pt x="213360" y="106680"/>
                </a:lnTo>
                <a:lnTo>
                  <a:pt x="228600" y="91440"/>
                </a:lnTo>
                <a:lnTo>
                  <a:pt x="236220" y="76200"/>
                </a:lnTo>
                <a:lnTo>
                  <a:pt x="243840" y="60960"/>
                </a:lnTo>
                <a:lnTo>
                  <a:pt x="251460" y="45720"/>
                </a:lnTo>
                <a:lnTo>
                  <a:pt x="259080" y="22860"/>
                </a:lnTo>
                <a:lnTo>
                  <a:pt x="274320" y="15240"/>
                </a:lnTo>
                <a:lnTo>
                  <a:pt x="281940" y="0"/>
                </a:lnTo>
                <a:lnTo>
                  <a:pt x="28194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4"/>
          <p:cNvSpPr/>
          <p:nvPr/>
        </p:nvSpPr>
        <p:spPr>
          <a:xfrm>
            <a:off x="5211720" y="4533840"/>
            <a:ext cx="647640" cy="579600"/>
          </a:xfrm>
          <a:custGeom>
            <a:avLst/>
            <a:gdLst>
              <a:gd name="textAreaLeft" fmla="*/ 0 w 647640"/>
              <a:gd name="textAreaRight" fmla="*/ 648000 w 64764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647701" h="579121">
                <a:moveTo>
                  <a:pt x="548640" y="312420"/>
                </a:moveTo>
                <a:lnTo>
                  <a:pt x="594360" y="297180"/>
                </a:lnTo>
                <a:lnTo>
                  <a:pt x="617220" y="274320"/>
                </a:lnTo>
                <a:lnTo>
                  <a:pt x="640080" y="251460"/>
                </a:lnTo>
                <a:lnTo>
                  <a:pt x="647700" y="228600"/>
                </a:lnTo>
                <a:lnTo>
                  <a:pt x="647700" y="205740"/>
                </a:lnTo>
                <a:lnTo>
                  <a:pt x="647700" y="190500"/>
                </a:lnTo>
                <a:lnTo>
                  <a:pt x="647700" y="167640"/>
                </a:lnTo>
                <a:lnTo>
                  <a:pt x="640080" y="144780"/>
                </a:lnTo>
                <a:lnTo>
                  <a:pt x="632460" y="129540"/>
                </a:lnTo>
                <a:lnTo>
                  <a:pt x="624840" y="114300"/>
                </a:lnTo>
                <a:lnTo>
                  <a:pt x="617220" y="99060"/>
                </a:lnTo>
                <a:lnTo>
                  <a:pt x="609600" y="83820"/>
                </a:lnTo>
                <a:lnTo>
                  <a:pt x="594360" y="68580"/>
                </a:lnTo>
                <a:lnTo>
                  <a:pt x="586740" y="53340"/>
                </a:lnTo>
                <a:lnTo>
                  <a:pt x="571500" y="45720"/>
                </a:lnTo>
                <a:lnTo>
                  <a:pt x="556260" y="38100"/>
                </a:lnTo>
                <a:lnTo>
                  <a:pt x="541020" y="22860"/>
                </a:lnTo>
                <a:lnTo>
                  <a:pt x="525780" y="22860"/>
                </a:lnTo>
                <a:lnTo>
                  <a:pt x="502920" y="7620"/>
                </a:lnTo>
                <a:lnTo>
                  <a:pt x="487680" y="7620"/>
                </a:lnTo>
                <a:lnTo>
                  <a:pt x="464820" y="0"/>
                </a:lnTo>
                <a:lnTo>
                  <a:pt x="449580" y="0"/>
                </a:lnTo>
                <a:lnTo>
                  <a:pt x="419100" y="0"/>
                </a:lnTo>
                <a:lnTo>
                  <a:pt x="403860" y="0"/>
                </a:lnTo>
                <a:lnTo>
                  <a:pt x="373380" y="0"/>
                </a:lnTo>
                <a:lnTo>
                  <a:pt x="350520" y="7620"/>
                </a:lnTo>
                <a:lnTo>
                  <a:pt x="320040" y="7620"/>
                </a:lnTo>
                <a:lnTo>
                  <a:pt x="297180" y="15240"/>
                </a:lnTo>
                <a:lnTo>
                  <a:pt x="274320" y="22860"/>
                </a:lnTo>
                <a:lnTo>
                  <a:pt x="251460" y="30480"/>
                </a:lnTo>
                <a:lnTo>
                  <a:pt x="220980" y="45720"/>
                </a:lnTo>
                <a:lnTo>
                  <a:pt x="198120" y="53340"/>
                </a:lnTo>
                <a:lnTo>
                  <a:pt x="175260" y="68580"/>
                </a:lnTo>
                <a:lnTo>
                  <a:pt x="152400" y="83820"/>
                </a:lnTo>
                <a:lnTo>
                  <a:pt x="121920" y="99060"/>
                </a:lnTo>
                <a:lnTo>
                  <a:pt x="106680" y="114300"/>
                </a:lnTo>
                <a:lnTo>
                  <a:pt x="83820" y="129540"/>
                </a:lnTo>
                <a:lnTo>
                  <a:pt x="68580" y="152400"/>
                </a:lnTo>
                <a:lnTo>
                  <a:pt x="53340" y="167640"/>
                </a:lnTo>
                <a:lnTo>
                  <a:pt x="38100" y="190500"/>
                </a:lnTo>
                <a:lnTo>
                  <a:pt x="22860" y="205740"/>
                </a:lnTo>
                <a:lnTo>
                  <a:pt x="15240" y="228600"/>
                </a:lnTo>
                <a:lnTo>
                  <a:pt x="7620" y="251460"/>
                </a:lnTo>
                <a:lnTo>
                  <a:pt x="0" y="266700"/>
                </a:lnTo>
                <a:lnTo>
                  <a:pt x="0" y="289560"/>
                </a:lnTo>
                <a:lnTo>
                  <a:pt x="0" y="312420"/>
                </a:lnTo>
                <a:lnTo>
                  <a:pt x="7620" y="335280"/>
                </a:lnTo>
                <a:lnTo>
                  <a:pt x="7620" y="350520"/>
                </a:lnTo>
                <a:lnTo>
                  <a:pt x="15240" y="373380"/>
                </a:lnTo>
                <a:lnTo>
                  <a:pt x="22860" y="396240"/>
                </a:lnTo>
                <a:lnTo>
                  <a:pt x="45720" y="411480"/>
                </a:lnTo>
                <a:lnTo>
                  <a:pt x="60960" y="434340"/>
                </a:lnTo>
                <a:lnTo>
                  <a:pt x="76200" y="449580"/>
                </a:lnTo>
                <a:lnTo>
                  <a:pt x="99060" y="464820"/>
                </a:lnTo>
                <a:lnTo>
                  <a:pt x="114300" y="487680"/>
                </a:lnTo>
                <a:lnTo>
                  <a:pt x="137160" y="502920"/>
                </a:lnTo>
                <a:lnTo>
                  <a:pt x="160020" y="518160"/>
                </a:lnTo>
                <a:lnTo>
                  <a:pt x="182880" y="533400"/>
                </a:lnTo>
                <a:lnTo>
                  <a:pt x="205740" y="541020"/>
                </a:lnTo>
                <a:lnTo>
                  <a:pt x="228600" y="548640"/>
                </a:lnTo>
                <a:lnTo>
                  <a:pt x="259080" y="563880"/>
                </a:lnTo>
                <a:lnTo>
                  <a:pt x="274320" y="563880"/>
                </a:lnTo>
                <a:lnTo>
                  <a:pt x="297180" y="571500"/>
                </a:lnTo>
                <a:lnTo>
                  <a:pt x="312420" y="579120"/>
                </a:lnTo>
                <a:lnTo>
                  <a:pt x="327660" y="579120"/>
                </a:lnTo>
                <a:lnTo>
                  <a:pt x="342900" y="579120"/>
                </a:lnTo>
                <a:lnTo>
                  <a:pt x="350520" y="579120"/>
                </a:lnTo>
                <a:lnTo>
                  <a:pt x="365760" y="579120"/>
                </a:lnTo>
                <a:lnTo>
                  <a:pt x="381000" y="571500"/>
                </a:lnTo>
                <a:lnTo>
                  <a:pt x="381000" y="5715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5"/>
          <p:cNvSpPr/>
          <p:nvPr/>
        </p:nvSpPr>
        <p:spPr>
          <a:xfrm>
            <a:off x="6073920" y="5616720"/>
            <a:ext cx="114120" cy="6120"/>
          </a:xfrm>
          <a:custGeom>
            <a:avLst/>
            <a:gdLst>
              <a:gd name="textAreaLeft" fmla="*/ 0 w 114120"/>
              <a:gd name="textAreaRight" fmla="*/ 114480 w 1141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14301" h="7621">
                <a:moveTo>
                  <a:pt x="7620" y="7620"/>
                </a:move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15240" y="7620"/>
                </a:lnTo>
                <a:lnTo>
                  <a:pt x="22860" y="7620"/>
                </a:lnTo>
                <a:lnTo>
                  <a:pt x="30480" y="7620"/>
                </a:lnTo>
                <a:lnTo>
                  <a:pt x="38100" y="7620"/>
                </a:lnTo>
                <a:lnTo>
                  <a:pt x="45720" y="7620"/>
                </a:lnTo>
                <a:lnTo>
                  <a:pt x="53340" y="0"/>
                </a:lnTo>
                <a:lnTo>
                  <a:pt x="60960" y="0"/>
                </a:lnTo>
                <a:lnTo>
                  <a:pt x="76200" y="0"/>
                </a:lnTo>
                <a:lnTo>
                  <a:pt x="83820" y="0"/>
                </a:lnTo>
                <a:lnTo>
                  <a:pt x="91440" y="0"/>
                </a:lnTo>
                <a:lnTo>
                  <a:pt x="99060" y="0"/>
                </a:lnTo>
                <a:lnTo>
                  <a:pt x="114300" y="0"/>
                </a:lnTo>
                <a:lnTo>
                  <a:pt x="1143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"/>
          <p:cNvSpPr/>
          <p:nvPr/>
        </p:nvSpPr>
        <p:spPr>
          <a:xfrm>
            <a:off x="6256440" y="5570640"/>
            <a:ext cx="114120" cy="220680"/>
          </a:xfrm>
          <a:custGeom>
            <a:avLst/>
            <a:gdLst>
              <a:gd name="textAreaLeft" fmla="*/ 0 w 114120"/>
              <a:gd name="textAreaRight" fmla="*/ 114480 w 1141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14301" h="220981">
                <a:moveTo>
                  <a:pt x="68580" y="0"/>
                </a:move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8580" y="0"/>
                </a:lnTo>
                <a:lnTo>
                  <a:pt x="60960" y="7620"/>
                </a:lnTo>
                <a:lnTo>
                  <a:pt x="60960" y="7620"/>
                </a:lnTo>
                <a:lnTo>
                  <a:pt x="53340" y="15240"/>
                </a:lnTo>
                <a:lnTo>
                  <a:pt x="45720" y="15240"/>
                </a:lnTo>
                <a:lnTo>
                  <a:pt x="38100" y="22860"/>
                </a:lnTo>
                <a:lnTo>
                  <a:pt x="38100" y="22860"/>
                </a:lnTo>
                <a:lnTo>
                  <a:pt x="30480" y="30480"/>
                </a:lnTo>
                <a:lnTo>
                  <a:pt x="15240" y="38100"/>
                </a:lnTo>
                <a:lnTo>
                  <a:pt x="15240" y="53340"/>
                </a:lnTo>
                <a:lnTo>
                  <a:pt x="7620" y="60960"/>
                </a:lnTo>
                <a:lnTo>
                  <a:pt x="7620" y="68580"/>
                </a:lnTo>
                <a:lnTo>
                  <a:pt x="0" y="76200"/>
                </a:lnTo>
                <a:lnTo>
                  <a:pt x="0" y="91440"/>
                </a:lnTo>
                <a:lnTo>
                  <a:pt x="0" y="99060"/>
                </a:lnTo>
                <a:lnTo>
                  <a:pt x="0" y="114300"/>
                </a:lnTo>
                <a:lnTo>
                  <a:pt x="7620" y="121920"/>
                </a:lnTo>
                <a:lnTo>
                  <a:pt x="7620" y="129540"/>
                </a:lnTo>
                <a:lnTo>
                  <a:pt x="15240" y="137160"/>
                </a:lnTo>
                <a:lnTo>
                  <a:pt x="22860" y="152400"/>
                </a:lnTo>
                <a:lnTo>
                  <a:pt x="38100" y="152400"/>
                </a:lnTo>
                <a:lnTo>
                  <a:pt x="45720" y="160020"/>
                </a:lnTo>
                <a:lnTo>
                  <a:pt x="60960" y="160020"/>
                </a:lnTo>
                <a:lnTo>
                  <a:pt x="68580" y="167640"/>
                </a:lnTo>
                <a:lnTo>
                  <a:pt x="76200" y="167640"/>
                </a:lnTo>
                <a:lnTo>
                  <a:pt x="83820" y="160020"/>
                </a:lnTo>
                <a:lnTo>
                  <a:pt x="91440" y="160020"/>
                </a:lnTo>
                <a:lnTo>
                  <a:pt x="99060" y="152400"/>
                </a:lnTo>
                <a:lnTo>
                  <a:pt x="106680" y="144780"/>
                </a:lnTo>
                <a:lnTo>
                  <a:pt x="114300" y="137160"/>
                </a:lnTo>
                <a:lnTo>
                  <a:pt x="114300" y="137160"/>
                </a:lnTo>
                <a:lnTo>
                  <a:pt x="114300" y="129540"/>
                </a:lnTo>
                <a:lnTo>
                  <a:pt x="114300" y="121920"/>
                </a:lnTo>
                <a:lnTo>
                  <a:pt x="114300" y="114300"/>
                </a:lnTo>
                <a:lnTo>
                  <a:pt x="106680" y="106680"/>
                </a:lnTo>
                <a:lnTo>
                  <a:pt x="106680" y="99060"/>
                </a:lnTo>
                <a:lnTo>
                  <a:pt x="99060" y="99060"/>
                </a:lnTo>
                <a:lnTo>
                  <a:pt x="99060" y="91440"/>
                </a:lnTo>
                <a:lnTo>
                  <a:pt x="91440" y="91440"/>
                </a:lnTo>
                <a:lnTo>
                  <a:pt x="83820" y="91440"/>
                </a:lnTo>
                <a:lnTo>
                  <a:pt x="76200" y="91440"/>
                </a:lnTo>
                <a:lnTo>
                  <a:pt x="68580" y="99060"/>
                </a:lnTo>
                <a:lnTo>
                  <a:pt x="60960" y="106680"/>
                </a:lnTo>
                <a:lnTo>
                  <a:pt x="53340" y="114300"/>
                </a:lnTo>
                <a:lnTo>
                  <a:pt x="53340" y="121920"/>
                </a:lnTo>
                <a:lnTo>
                  <a:pt x="45720" y="129540"/>
                </a:lnTo>
                <a:lnTo>
                  <a:pt x="45720" y="144780"/>
                </a:lnTo>
                <a:lnTo>
                  <a:pt x="45720" y="152400"/>
                </a:lnTo>
                <a:lnTo>
                  <a:pt x="45720" y="167640"/>
                </a:lnTo>
                <a:lnTo>
                  <a:pt x="45720" y="175260"/>
                </a:lnTo>
                <a:lnTo>
                  <a:pt x="53340" y="190500"/>
                </a:lnTo>
                <a:lnTo>
                  <a:pt x="60960" y="198120"/>
                </a:lnTo>
                <a:lnTo>
                  <a:pt x="68580" y="205740"/>
                </a:lnTo>
                <a:lnTo>
                  <a:pt x="76200" y="205740"/>
                </a:lnTo>
                <a:lnTo>
                  <a:pt x="91440" y="220980"/>
                </a:lnTo>
                <a:lnTo>
                  <a:pt x="91440" y="2209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6408720" y="5578560"/>
            <a:ext cx="128520" cy="75960"/>
          </a:xfrm>
          <a:custGeom>
            <a:avLst/>
            <a:gdLst>
              <a:gd name="textAreaLeft" fmla="*/ 0 w 128520"/>
              <a:gd name="textAreaRight" fmla="*/ 128880 w 1285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29542" h="76201">
                <a:moveTo>
                  <a:pt x="60960" y="0"/>
                </a:moveTo>
                <a:lnTo>
                  <a:pt x="53340" y="0"/>
                </a:lnTo>
                <a:lnTo>
                  <a:pt x="53340" y="0"/>
                </a:lnTo>
                <a:lnTo>
                  <a:pt x="53340" y="0"/>
                </a:lnTo>
                <a:lnTo>
                  <a:pt x="53340" y="0"/>
                </a:lnTo>
                <a:lnTo>
                  <a:pt x="53340" y="0"/>
                </a:lnTo>
                <a:lnTo>
                  <a:pt x="45720" y="0"/>
                </a:lnTo>
                <a:lnTo>
                  <a:pt x="45720" y="0"/>
                </a:lnTo>
                <a:lnTo>
                  <a:pt x="45720" y="7620"/>
                </a:lnTo>
                <a:lnTo>
                  <a:pt x="45720" y="7620"/>
                </a:lnTo>
                <a:lnTo>
                  <a:pt x="38100" y="7620"/>
                </a:lnTo>
                <a:lnTo>
                  <a:pt x="38100" y="7620"/>
                </a:lnTo>
                <a:lnTo>
                  <a:pt x="30480" y="7620"/>
                </a:lnTo>
                <a:lnTo>
                  <a:pt x="30480" y="15240"/>
                </a:lnTo>
                <a:lnTo>
                  <a:pt x="22860" y="15240"/>
                </a:lnTo>
                <a:lnTo>
                  <a:pt x="22860" y="15240"/>
                </a:lnTo>
                <a:lnTo>
                  <a:pt x="15240" y="22860"/>
                </a:lnTo>
                <a:lnTo>
                  <a:pt x="15240" y="22860"/>
                </a:lnTo>
                <a:lnTo>
                  <a:pt x="7620" y="30480"/>
                </a:lnTo>
                <a:lnTo>
                  <a:pt x="7620" y="30480"/>
                </a:lnTo>
                <a:lnTo>
                  <a:pt x="7620" y="30480"/>
                </a:lnTo>
                <a:lnTo>
                  <a:pt x="0" y="38100"/>
                </a:lnTo>
                <a:lnTo>
                  <a:pt x="0" y="38100"/>
                </a:lnTo>
                <a:lnTo>
                  <a:pt x="0" y="38100"/>
                </a:lnTo>
                <a:lnTo>
                  <a:pt x="7620" y="45720"/>
                </a:lnTo>
                <a:lnTo>
                  <a:pt x="7620" y="45720"/>
                </a:lnTo>
                <a:lnTo>
                  <a:pt x="7620" y="53340"/>
                </a:lnTo>
                <a:lnTo>
                  <a:pt x="15240" y="53340"/>
                </a:lnTo>
                <a:lnTo>
                  <a:pt x="22860" y="60960"/>
                </a:lnTo>
                <a:lnTo>
                  <a:pt x="30480" y="60960"/>
                </a:lnTo>
                <a:lnTo>
                  <a:pt x="38100" y="60960"/>
                </a:lnTo>
                <a:lnTo>
                  <a:pt x="45720" y="68580"/>
                </a:lnTo>
                <a:lnTo>
                  <a:pt x="53340" y="68580"/>
                </a:lnTo>
                <a:lnTo>
                  <a:pt x="60960" y="76200"/>
                </a:lnTo>
                <a:lnTo>
                  <a:pt x="76200" y="76200"/>
                </a:lnTo>
                <a:lnTo>
                  <a:pt x="83820" y="76200"/>
                </a:lnTo>
                <a:lnTo>
                  <a:pt x="99060" y="76200"/>
                </a:lnTo>
                <a:lnTo>
                  <a:pt x="106680" y="76200"/>
                </a:lnTo>
                <a:lnTo>
                  <a:pt x="129541" y="76200"/>
                </a:lnTo>
                <a:lnTo>
                  <a:pt x="129541" y="762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8"/>
          <p:cNvSpPr/>
          <p:nvPr/>
        </p:nvSpPr>
        <p:spPr>
          <a:xfrm>
            <a:off x="6507000" y="5578560"/>
            <a:ext cx="38160" cy="196920"/>
          </a:xfrm>
          <a:custGeom>
            <a:avLst/>
            <a:gdLst>
              <a:gd name="textAreaLeft" fmla="*/ 0 w 38160"/>
              <a:gd name="textAreaRight" fmla="*/ 38520 w 381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8101" h="198121">
                <a:moveTo>
                  <a:pt x="38100" y="0"/>
                </a:moveTo>
                <a:lnTo>
                  <a:pt x="38100" y="0"/>
                </a:lnTo>
                <a:lnTo>
                  <a:pt x="38100" y="0"/>
                </a:lnTo>
                <a:lnTo>
                  <a:pt x="38100" y="0"/>
                </a:lnTo>
                <a:lnTo>
                  <a:pt x="30481" y="0"/>
                </a:lnTo>
                <a:lnTo>
                  <a:pt x="30481" y="0"/>
                </a:lnTo>
                <a:lnTo>
                  <a:pt x="30481" y="7620"/>
                </a:lnTo>
                <a:lnTo>
                  <a:pt x="30481" y="15240"/>
                </a:lnTo>
                <a:lnTo>
                  <a:pt x="30481" y="15240"/>
                </a:lnTo>
                <a:lnTo>
                  <a:pt x="30481" y="30480"/>
                </a:lnTo>
                <a:lnTo>
                  <a:pt x="30481" y="38100"/>
                </a:lnTo>
                <a:lnTo>
                  <a:pt x="30481" y="53340"/>
                </a:lnTo>
                <a:lnTo>
                  <a:pt x="22860" y="60960"/>
                </a:lnTo>
                <a:lnTo>
                  <a:pt x="22860" y="76200"/>
                </a:lnTo>
                <a:lnTo>
                  <a:pt x="22860" y="83820"/>
                </a:lnTo>
                <a:lnTo>
                  <a:pt x="22860" y="99060"/>
                </a:lnTo>
                <a:lnTo>
                  <a:pt x="15240" y="114300"/>
                </a:lnTo>
                <a:lnTo>
                  <a:pt x="15240" y="129540"/>
                </a:lnTo>
                <a:lnTo>
                  <a:pt x="7620" y="144780"/>
                </a:lnTo>
                <a:lnTo>
                  <a:pt x="7620" y="160020"/>
                </a:lnTo>
                <a:lnTo>
                  <a:pt x="0" y="175260"/>
                </a:lnTo>
                <a:lnTo>
                  <a:pt x="0" y="198120"/>
                </a:lnTo>
                <a:lnTo>
                  <a:pt x="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9"/>
          <p:cNvSpPr/>
          <p:nvPr/>
        </p:nvSpPr>
        <p:spPr>
          <a:xfrm>
            <a:off x="5402160" y="5676840"/>
            <a:ext cx="84240" cy="15840"/>
          </a:xfrm>
          <a:custGeom>
            <a:avLst/>
            <a:gdLst>
              <a:gd name="textAreaLeft" fmla="*/ 0 w 84240"/>
              <a:gd name="textAreaRight" fmla="*/ 84600 w 842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3821" h="15241">
                <a:moveTo>
                  <a:pt x="0" y="0"/>
                </a:moveTo>
                <a:lnTo>
                  <a:pt x="0" y="0"/>
                </a:lnTo>
                <a:lnTo>
                  <a:pt x="7620" y="0"/>
                </a:lnTo>
                <a:lnTo>
                  <a:pt x="7620" y="0"/>
                </a:lnTo>
                <a:lnTo>
                  <a:pt x="15240" y="0"/>
                </a:lnTo>
                <a:lnTo>
                  <a:pt x="15240" y="0"/>
                </a:lnTo>
                <a:lnTo>
                  <a:pt x="22860" y="0"/>
                </a:lnTo>
                <a:lnTo>
                  <a:pt x="30480" y="0"/>
                </a:lnTo>
                <a:lnTo>
                  <a:pt x="38100" y="0"/>
                </a:lnTo>
                <a:lnTo>
                  <a:pt x="45720" y="7620"/>
                </a:lnTo>
                <a:lnTo>
                  <a:pt x="60960" y="7620"/>
                </a:lnTo>
                <a:lnTo>
                  <a:pt x="68580" y="7620"/>
                </a:lnTo>
                <a:lnTo>
                  <a:pt x="83820" y="15240"/>
                </a:lnTo>
                <a:lnTo>
                  <a:pt x="8382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"/>
          <p:cNvSpPr/>
          <p:nvPr/>
        </p:nvSpPr>
        <p:spPr>
          <a:xfrm>
            <a:off x="5578560" y="5600880"/>
            <a:ext cx="106200" cy="168120"/>
          </a:xfrm>
          <a:custGeom>
            <a:avLst/>
            <a:gdLst>
              <a:gd name="textAreaLeft" fmla="*/ 0 w 106200"/>
              <a:gd name="textAreaRight" fmla="*/ 106560 w 1062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06681" h="167641">
                <a:moveTo>
                  <a:pt x="53340" y="7620"/>
                </a:moveTo>
                <a:lnTo>
                  <a:pt x="53340" y="7620"/>
                </a:lnTo>
                <a:lnTo>
                  <a:pt x="45720" y="0"/>
                </a:lnTo>
                <a:lnTo>
                  <a:pt x="45720" y="0"/>
                </a:lnTo>
                <a:lnTo>
                  <a:pt x="45720" y="7620"/>
                </a:lnTo>
                <a:lnTo>
                  <a:pt x="45720" y="7620"/>
                </a:lnTo>
                <a:lnTo>
                  <a:pt x="45720" y="7620"/>
                </a:lnTo>
                <a:lnTo>
                  <a:pt x="38100" y="7620"/>
                </a:lnTo>
                <a:lnTo>
                  <a:pt x="38100" y="15240"/>
                </a:lnTo>
                <a:lnTo>
                  <a:pt x="30480" y="15240"/>
                </a:lnTo>
                <a:lnTo>
                  <a:pt x="30480" y="22860"/>
                </a:lnTo>
                <a:lnTo>
                  <a:pt x="22860" y="22860"/>
                </a:lnTo>
                <a:lnTo>
                  <a:pt x="15240" y="30480"/>
                </a:lnTo>
                <a:lnTo>
                  <a:pt x="15240" y="38100"/>
                </a:lnTo>
                <a:lnTo>
                  <a:pt x="7620" y="45720"/>
                </a:lnTo>
                <a:lnTo>
                  <a:pt x="7620" y="53340"/>
                </a:lnTo>
                <a:lnTo>
                  <a:pt x="0" y="60960"/>
                </a:lnTo>
                <a:lnTo>
                  <a:pt x="0" y="68580"/>
                </a:lnTo>
                <a:lnTo>
                  <a:pt x="0" y="83820"/>
                </a:lnTo>
                <a:lnTo>
                  <a:pt x="0" y="91440"/>
                </a:lnTo>
                <a:lnTo>
                  <a:pt x="0" y="99060"/>
                </a:lnTo>
                <a:lnTo>
                  <a:pt x="0" y="106680"/>
                </a:lnTo>
                <a:lnTo>
                  <a:pt x="7620" y="114300"/>
                </a:lnTo>
                <a:lnTo>
                  <a:pt x="15240" y="121920"/>
                </a:lnTo>
                <a:lnTo>
                  <a:pt x="22860" y="129540"/>
                </a:lnTo>
                <a:lnTo>
                  <a:pt x="30480" y="129540"/>
                </a:lnTo>
                <a:lnTo>
                  <a:pt x="38100" y="129540"/>
                </a:lnTo>
                <a:lnTo>
                  <a:pt x="53340" y="129540"/>
                </a:lnTo>
                <a:lnTo>
                  <a:pt x="60960" y="129540"/>
                </a:lnTo>
                <a:lnTo>
                  <a:pt x="68580" y="121920"/>
                </a:lnTo>
                <a:lnTo>
                  <a:pt x="76200" y="121920"/>
                </a:lnTo>
                <a:lnTo>
                  <a:pt x="83820" y="114300"/>
                </a:lnTo>
                <a:lnTo>
                  <a:pt x="83820" y="106680"/>
                </a:lnTo>
                <a:lnTo>
                  <a:pt x="91440" y="91440"/>
                </a:lnTo>
                <a:lnTo>
                  <a:pt x="91440" y="83820"/>
                </a:lnTo>
                <a:lnTo>
                  <a:pt x="91440" y="76200"/>
                </a:lnTo>
                <a:lnTo>
                  <a:pt x="91440" y="68580"/>
                </a:lnTo>
                <a:lnTo>
                  <a:pt x="83820" y="60960"/>
                </a:lnTo>
                <a:lnTo>
                  <a:pt x="83820" y="53340"/>
                </a:lnTo>
                <a:lnTo>
                  <a:pt x="76200" y="53340"/>
                </a:lnTo>
                <a:lnTo>
                  <a:pt x="76200" y="53340"/>
                </a:lnTo>
                <a:lnTo>
                  <a:pt x="68580" y="53340"/>
                </a:lnTo>
                <a:lnTo>
                  <a:pt x="68580" y="53340"/>
                </a:lnTo>
                <a:lnTo>
                  <a:pt x="60960" y="53340"/>
                </a:lnTo>
                <a:lnTo>
                  <a:pt x="60960" y="60960"/>
                </a:lnTo>
                <a:lnTo>
                  <a:pt x="53340" y="68580"/>
                </a:lnTo>
                <a:lnTo>
                  <a:pt x="53340" y="76200"/>
                </a:lnTo>
                <a:lnTo>
                  <a:pt x="53340" y="91440"/>
                </a:lnTo>
                <a:lnTo>
                  <a:pt x="53340" y="99060"/>
                </a:lnTo>
                <a:lnTo>
                  <a:pt x="53340" y="106680"/>
                </a:lnTo>
                <a:lnTo>
                  <a:pt x="53340" y="121920"/>
                </a:lnTo>
                <a:lnTo>
                  <a:pt x="60960" y="129540"/>
                </a:lnTo>
                <a:lnTo>
                  <a:pt x="60960" y="137160"/>
                </a:lnTo>
                <a:lnTo>
                  <a:pt x="68580" y="152400"/>
                </a:lnTo>
                <a:lnTo>
                  <a:pt x="76200" y="160020"/>
                </a:lnTo>
                <a:lnTo>
                  <a:pt x="83820" y="160020"/>
                </a:lnTo>
                <a:lnTo>
                  <a:pt x="91440" y="167640"/>
                </a:lnTo>
                <a:lnTo>
                  <a:pt x="106680" y="167640"/>
                </a:lnTo>
                <a:lnTo>
                  <a:pt x="106680" y="1676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1"/>
          <p:cNvSpPr/>
          <p:nvPr/>
        </p:nvSpPr>
        <p:spPr>
          <a:xfrm>
            <a:off x="5737320" y="5608800"/>
            <a:ext cx="75960" cy="106200"/>
          </a:xfrm>
          <a:custGeom>
            <a:avLst/>
            <a:gdLst>
              <a:gd name="textAreaLeft" fmla="*/ 0 w 75960"/>
              <a:gd name="textAreaRight" fmla="*/ 76320 w 759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76201" h="106681">
                <a:moveTo>
                  <a:pt x="30480" y="0"/>
                </a:move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7620"/>
                </a:lnTo>
                <a:lnTo>
                  <a:pt x="30480" y="7620"/>
                </a:lnTo>
                <a:lnTo>
                  <a:pt x="30480" y="15240"/>
                </a:lnTo>
                <a:lnTo>
                  <a:pt x="22860" y="15240"/>
                </a:lnTo>
                <a:lnTo>
                  <a:pt x="22860" y="22860"/>
                </a:lnTo>
                <a:lnTo>
                  <a:pt x="22860" y="22860"/>
                </a:lnTo>
                <a:lnTo>
                  <a:pt x="15240" y="30480"/>
                </a:lnTo>
                <a:lnTo>
                  <a:pt x="1524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7620" y="45720"/>
                </a:lnTo>
                <a:lnTo>
                  <a:pt x="0" y="53340"/>
                </a:lnTo>
                <a:lnTo>
                  <a:pt x="0" y="60960"/>
                </a:lnTo>
                <a:lnTo>
                  <a:pt x="0" y="68580"/>
                </a:lnTo>
                <a:lnTo>
                  <a:pt x="0" y="76200"/>
                </a:lnTo>
                <a:lnTo>
                  <a:pt x="0" y="83820"/>
                </a:lnTo>
                <a:lnTo>
                  <a:pt x="0" y="83820"/>
                </a:lnTo>
                <a:lnTo>
                  <a:pt x="7620" y="91440"/>
                </a:lnTo>
                <a:lnTo>
                  <a:pt x="7620" y="99060"/>
                </a:lnTo>
                <a:lnTo>
                  <a:pt x="15240" y="99060"/>
                </a:lnTo>
                <a:lnTo>
                  <a:pt x="22860" y="99060"/>
                </a:lnTo>
                <a:lnTo>
                  <a:pt x="30480" y="106680"/>
                </a:lnTo>
                <a:lnTo>
                  <a:pt x="38100" y="106680"/>
                </a:lnTo>
                <a:lnTo>
                  <a:pt x="45720" y="106680"/>
                </a:lnTo>
                <a:lnTo>
                  <a:pt x="53340" y="106680"/>
                </a:lnTo>
                <a:lnTo>
                  <a:pt x="60960" y="106680"/>
                </a:lnTo>
                <a:lnTo>
                  <a:pt x="76200" y="99060"/>
                </a:lnTo>
                <a:lnTo>
                  <a:pt x="76200" y="990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2"/>
          <p:cNvSpPr/>
          <p:nvPr/>
        </p:nvSpPr>
        <p:spPr>
          <a:xfrm>
            <a:off x="5837400" y="5616720"/>
            <a:ext cx="45720" cy="158760"/>
          </a:xfrm>
          <a:custGeom>
            <a:avLst/>
            <a:gdLst>
              <a:gd name="textAreaLeft" fmla="*/ 0 w 45720"/>
              <a:gd name="textAreaRight" fmla="*/ 46080 w 45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5721" h="160021">
                <a:moveTo>
                  <a:pt x="45720" y="0"/>
                </a:moveTo>
                <a:lnTo>
                  <a:pt x="38100" y="0"/>
                </a:lnTo>
                <a:lnTo>
                  <a:pt x="38100" y="7620"/>
                </a:lnTo>
                <a:lnTo>
                  <a:pt x="38100" y="7620"/>
                </a:lnTo>
                <a:lnTo>
                  <a:pt x="38100" y="15240"/>
                </a:lnTo>
                <a:lnTo>
                  <a:pt x="38100" y="22860"/>
                </a:lnTo>
                <a:lnTo>
                  <a:pt x="38100" y="30480"/>
                </a:lnTo>
                <a:lnTo>
                  <a:pt x="30480" y="38100"/>
                </a:lnTo>
                <a:lnTo>
                  <a:pt x="30480" y="45720"/>
                </a:lnTo>
                <a:lnTo>
                  <a:pt x="30480" y="53340"/>
                </a:lnTo>
                <a:lnTo>
                  <a:pt x="30480" y="68580"/>
                </a:lnTo>
                <a:lnTo>
                  <a:pt x="22860" y="83820"/>
                </a:lnTo>
                <a:lnTo>
                  <a:pt x="22860" y="91440"/>
                </a:lnTo>
                <a:lnTo>
                  <a:pt x="22860" y="106680"/>
                </a:lnTo>
                <a:lnTo>
                  <a:pt x="15240" y="121920"/>
                </a:lnTo>
                <a:lnTo>
                  <a:pt x="7620" y="137160"/>
                </a:lnTo>
                <a:lnTo>
                  <a:pt x="0" y="160020"/>
                </a:lnTo>
                <a:lnTo>
                  <a:pt x="0" y="1600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"/>
          <p:cNvSpPr/>
          <p:nvPr/>
        </p:nvSpPr>
        <p:spPr>
          <a:xfrm>
            <a:off x="5418000" y="6164280"/>
            <a:ext cx="335160" cy="30240"/>
          </a:xfrm>
          <a:custGeom>
            <a:avLst/>
            <a:gdLst>
              <a:gd name="textAreaLeft" fmla="*/ 0 w 335160"/>
              <a:gd name="textAreaRight" fmla="*/ 335520 w 3351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35281" h="30481">
                <a:moveTo>
                  <a:pt x="0" y="0"/>
                </a:moveTo>
                <a:lnTo>
                  <a:pt x="7620" y="0"/>
                </a:lnTo>
                <a:lnTo>
                  <a:pt x="15240" y="0"/>
                </a:lnTo>
                <a:lnTo>
                  <a:pt x="30480" y="0"/>
                </a:lnTo>
                <a:lnTo>
                  <a:pt x="45720" y="0"/>
                </a:lnTo>
                <a:lnTo>
                  <a:pt x="60960" y="0"/>
                </a:lnTo>
                <a:lnTo>
                  <a:pt x="68580" y="0"/>
                </a:lnTo>
                <a:lnTo>
                  <a:pt x="91440" y="0"/>
                </a:lnTo>
                <a:lnTo>
                  <a:pt x="106680" y="0"/>
                </a:lnTo>
                <a:lnTo>
                  <a:pt x="121920" y="7620"/>
                </a:lnTo>
                <a:lnTo>
                  <a:pt x="144780" y="7620"/>
                </a:lnTo>
                <a:lnTo>
                  <a:pt x="160020" y="7620"/>
                </a:lnTo>
                <a:lnTo>
                  <a:pt x="182880" y="15240"/>
                </a:lnTo>
                <a:lnTo>
                  <a:pt x="205740" y="15240"/>
                </a:lnTo>
                <a:lnTo>
                  <a:pt x="228600" y="15240"/>
                </a:lnTo>
                <a:lnTo>
                  <a:pt x="251460" y="22860"/>
                </a:lnTo>
                <a:lnTo>
                  <a:pt x="274320" y="22860"/>
                </a:lnTo>
                <a:lnTo>
                  <a:pt x="297180" y="22860"/>
                </a:lnTo>
                <a:lnTo>
                  <a:pt x="335280" y="30480"/>
                </a:lnTo>
                <a:lnTo>
                  <a:pt x="335280" y="3048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4"/>
          <p:cNvSpPr/>
          <p:nvPr/>
        </p:nvSpPr>
        <p:spPr>
          <a:xfrm>
            <a:off x="6218280" y="6218280"/>
            <a:ext cx="326880" cy="7920"/>
          </a:xfrm>
          <a:custGeom>
            <a:avLst/>
            <a:gdLst>
              <a:gd name="textAreaLeft" fmla="*/ 0 w 326880"/>
              <a:gd name="textAreaRight" fmla="*/ 327240 w 326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327661" h="7621">
                <a:moveTo>
                  <a:pt x="0" y="0"/>
                </a:moveTo>
                <a:lnTo>
                  <a:pt x="7620" y="0"/>
                </a:lnTo>
                <a:lnTo>
                  <a:pt x="30480" y="0"/>
                </a:lnTo>
                <a:lnTo>
                  <a:pt x="53340" y="0"/>
                </a:lnTo>
                <a:lnTo>
                  <a:pt x="76200" y="0"/>
                </a:lnTo>
                <a:lnTo>
                  <a:pt x="91440" y="0"/>
                </a:lnTo>
                <a:lnTo>
                  <a:pt x="114300" y="0"/>
                </a:lnTo>
                <a:lnTo>
                  <a:pt x="137160" y="0"/>
                </a:lnTo>
                <a:lnTo>
                  <a:pt x="152400" y="0"/>
                </a:lnTo>
                <a:lnTo>
                  <a:pt x="175260" y="0"/>
                </a:lnTo>
                <a:lnTo>
                  <a:pt x="198120" y="0"/>
                </a:lnTo>
                <a:lnTo>
                  <a:pt x="220980" y="7620"/>
                </a:lnTo>
                <a:lnTo>
                  <a:pt x="236220" y="7620"/>
                </a:lnTo>
                <a:lnTo>
                  <a:pt x="259080" y="7620"/>
                </a:lnTo>
                <a:lnTo>
                  <a:pt x="274320" y="7620"/>
                </a:lnTo>
                <a:lnTo>
                  <a:pt x="297180" y="0"/>
                </a:lnTo>
                <a:lnTo>
                  <a:pt x="327660" y="0"/>
                </a:lnTo>
                <a:lnTo>
                  <a:pt x="32766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5"/>
          <p:cNvSpPr/>
          <p:nvPr/>
        </p:nvSpPr>
        <p:spPr>
          <a:xfrm>
            <a:off x="5570640" y="6202440"/>
            <a:ext cx="106200" cy="100080"/>
          </a:xfrm>
          <a:custGeom>
            <a:avLst/>
            <a:gdLst>
              <a:gd name="textAreaLeft" fmla="*/ 0 w 106200"/>
              <a:gd name="textAreaRight" fmla="*/ 106560 w 10620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106681" h="99061">
                <a:moveTo>
                  <a:pt x="99060" y="60960"/>
                </a:moveTo>
                <a:lnTo>
                  <a:pt x="99060" y="60960"/>
                </a:lnTo>
                <a:lnTo>
                  <a:pt x="99060" y="60960"/>
                </a:lnTo>
                <a:lnTo>
                  <a:pt x="99060" y="53340"/>
                </a:lnTo>
                <a:lnTo>
                  <a:pt x="106680" y="53340"/>
                </a:lnTo>
                <a:lnTo>
                  <a:pt x="106680" y="53340"/>
                </a:lnTo>
                <a:lnTo>
                  <a:pt x="106680" y="45720"/>
                </a:lnTo>
                <a:lnTo>
                  <a:pt x="106680" y="45720"/>
                </a:lnTo>
                <a:lnTo>
                  <a:pt x="106680" y="45720"/>
                </a:lnTo>
                <a:lnTo>
                  <a:pt x="106680" y="45720"/>
                </a:lnTo>
                <a:lnTo>
                  <a:pt x="99060" y="45720"/>
                </a:lnTo>
                <a:lnTo>
                  <a:pt x="99060" y="38100"/>
                </a:lnTo>
                <a:lnTo>
                  <a:pt x="99060" y="38100"/>
                </a:lnTo>
                <a:lnTo>
                  <a:pt x="91440" y="30480"/>
                </a:lnTo>
                <a:lnTo>
                  <a:pt x="83820" y="30480"/>
                </a:lnTo>
                <a:lnTo>
                  <a:pt x="76200" y="30480"/>
                </a:lnTo>
                <a:lnTo>
                  <a:pt x="68580" y="22860"/>
                </a:lnTo>
                <a:lnTo>
                  <a:pt x="60960" y="22860"/>
                </a:lnTo>
                <a:lnTo>
                  <a:pt x="53340" y="22860"/>
                </a:lnTo>
                <a:lnTo>
                  <a:pt x="45720" y="22860"/>
                </a:lnTo>
                <a:lnTo>
                  <a:pt x="38100" y="22860"/>
                </a:lnTo>
                <a:lnTo>
                  <a:pt x="30480" y="30480"/>
                </a:lnTo>
                <a:lnTo>
                  <a:pt x="22860" y="30480"/>
                </a:lnTo>
                <a:lnTo>
                  <a:pt x="15240" y="38100"/>
                </a:lnTo>
                <a:lnTo>
                  <a:pt x="7620" y="45720"/>
                </a:lnTo>
                <a:lnTo>
                  <a:pt x="0" y="45720"/>
                </a:lnTo>
                <a:lnTo>
                  <a:pt x="0" y="53340"/>
                </a:lnTo>
                <a:lnTo>
                  <a:pt x="0" y="60960"/>
                </a:lnTo>
                <a:lnTo>
                  <a:pt x="7620" y="68580"/>
                </a:lnTo>
                <a:lnTo>
                  <a:pt x="7620" y="76200"/>
                </a:lnTo>
                <a:lnTo>
                  <a:pt x="15240" y="83820"/>
                </a:lnTo>
                <a:lnTo>
                  <a:pt x="22860" y="91440"/>
                </a:lnTo>
                <a:lnTo>
                  <a:pt x="38100" y="99060"/>
                </a:lnTo>
                <a:lnTo>
                  <a:pt x="45720" y="99060"/>
                </a:lnTo>
                <a:lnTo>
                  <a:pt x="53340" y="99060"/>
                </a:lnTo>
                <a:lnTo>
                  <a:pt x="68580" y="99060"/>
                </a:lnTo>
                <a:lnTo>
                  <a:pt x="76200" y="99060"/>
                </a:lnTo>
                <a:lnTo>
                  <a:pt x="83820" y="91440"/>
                </a:lnTo>
                <a:lnTo>
                  <a:pt x="91440" y="83820"/>
                </a:lnTo>
                <a:lnTo>
                  <a:pt x="99060" y="83820"/>
                </a:lnTo>
                <a:lnTo>
                  <a:pt x="99060" y="68580"/>
                </a:lnTo>
                <a:lnTo>
                  <a:pt x="106680" y="60960"/>
                </a:lnTo>
                <a:lnTo>
                  <a:pt x="106680" y="53340"/>
                </a:lnTo>
                <a:lnTo>
                  <a:pt x="106680" y="45720"/>
                </a:lnTo>
                <a:lnTo>
                  <a:pt x="106680" y="30480"/>
                </a:lnTo>
                <a:lnTo>
                  <a:pt x="106680" y="22860"/>
                </a:lnTo>
                <a:lnTo>
                  <a:pt x="99060" y="15240"/>
                </a:lnTo>
                <a:lnTo>
                  <a:pt x="99060" y="7620"/>
                </a:lnTo>
                <a:lnTo>
                  <a:pt x="91440" y="0"/>
                </a:lnTo>
                <a:lnTo>
                  <a:pt x="83820" y="0"/>
                </a:lnTo>
                <a:lnTo>
                  <a:pt x="83820" y="0"/>
                </a:lnTo>
                <a:lnTo>
                  <a:pt x="76200" y="0"/>
                </a:lnTo>
                <a:lnTo>
                  <a:pt x="68580" y="0"/>
                </a:lnTo>
                <a:lnTo>
                  <a:pt x="60960" y="7620"/>
                </a:lnTo>
                <a:lnTo>
                  <a:pt x="53340" y="15240"/>
                </a:lnTo>
                <a:lnTo>
                  <a:pt x="45720" y="30480"/>
                </a:lnTo>
                <a:lnTo>
                  <a:pt x="38100" y="38100"/>
                </a:lnTo>
                <a:lnTo>
                  <a:pt x="30480" y="60960"/>
                </a:lnTo>
                <a:lnTo>
                  <a:pt x="30480" y="609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6"/>
          <p:cNvSpPr/>
          <p:nvPr/>
        </p:nvSpPr>
        <p:spPr>
          <a:xfrm>
            <a:off x="5578560" y="6278400"/>
            <a:ext cx="128520" cy="114480"/>
          </a:xfrm>
          <a:custGeom>
            <a:avLst/>
            <a:gdLst>
              <a:gd name="textAreaLeft" fmla="*/ 0 w 128520"/>
              <a:gd name="textAreaRight" fmla="*/ 128880 w 12852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29541" h="114301">
                <a:moveTo>
                  <a:pt x="53340" y="15240"/>
                </a:move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53340" y="15240"/>
                </a:lnTo>
                <a:lnTo>
                  <a:pt x="45720" y="22860"/>
                </a:lnTo>
                <a:lnTo>
                  <a:pt x="45720" y="22860"/>
                </a:lnTo>
                <a:lnTo>
                  <a:pt x="45720" y="30480"/>
                </a:lnTo>
                <a:lnTo>
                  <a:pt x="38100" y="38100"/>
                </a:lnTo>
                <a:lnTo>
                  <a:pt x="38100" y="38100"/>
                </a:lnTo>
                <a:lnTo>
                  <a:pt x="30480" y="45720"/>
                </a:lnTo>
                <a:lnTo>
                  <a:pt x="22860" y="53340"/>
                </a:lnTo>
                <a:lnTo>
                  <a:pt x="15240" y="53340"/>
                </a:lnTo>
                <a:lnTo>
                  <a:pt x="7620" y="60960"/>
                </a:lnTo>
                <a:lnTo>
                  <a:pt x="7620" y="68580"/>
                </a:lnTo>
                <a:lnTo>
                  <a:pt x="0" y="76200"/>
                </a:lnTo>
                <a:lnTo>
                  <a:pt x="0" y="83820"/>
                </a:lnTo>
                <a:lnTo>
                  <a:pt x="0" y="91440"/>
                </a:lnTo>
                <a:lnTo>
                  <a:pt x="0" y="99060"/>
                </a:lnTo>
                <a:lnTo>
                  <a:pt x="0" y="99060"/>
                </a:lnTo>
                <a:lnTo>
                  <a:pt x="7620" y="106680"/>
                </a:lnTo>
                <a:lnTo>
                  <a:pt x="22860" y="106680"/>
                </a:lnTo>
                <a:lnTo>
                  <a:pt x="30480" y="114300"/>
                </a:lnTo>
                <a:lnTo>
                  <a:pt x="45720" y="106680"/>
                </a:lnTo>
                <a:lnTo>
                  <a:pt x="53340" y="106680"/>
                </a:lnTo>
                <a:lnTo>
                  <a:pt x="68580" y="106680"/>
                </a:lnTo>
                <a:lnTo>
                  <a:pt x="83820" y="91440"/>
                </a:lnTo>
                <a:lnTo>
                  <a:pt x="91440" y="91440"/>
                </a:lnTo>
                <a:lnTo>
                  <a:pt x="99060" y="76200"/>
                </a:lnTo>
                <a:lnTo>
                  <a:pt x="106680" y="68580"/>
                </a:lnTo>
                <a:lnTo>
                  <a:pt x="121920" y="60960"/>
                </a:lnTo>
                <a:lnTo>
                  <a:pt x="121920" y="53340"/>
                </a:lnTo>
                <a:lnTo>
                  <a:pt x="129540" y="38100"/>
                </a:lnTo>
                <a:lnTo>
                  <a:pt x="129540" y="30480"/>
                </a:lnTo>
                <a:lnTo>
                  <a:pt x="129540" y="22860"/>
                </a:lnTo>
                <a:lnTo>
                  <a:pt x="121920" y="15240"/>
                </a:lnTo>
                <a:lnTo>
                  <a:pt x="121920" y="7620"/>
                </a:lnTo>
                <a:lnTo>
                  <a:pt x="121920" y="7620"/>
                </a:lnTo>
                <a:lnTo>
                  <a:pt x="114300" y="0"/>
                </a:lnTo>
                <a:lnTo>
                  <a:pt x="106680" y="0"/>
                </a:lnTo>
                <a:lnTo>
                  <a:pt x="106680" y="7620"/>
                </a:lnTo>
                <a:lnTo>
                  <a:pt x="99060" y="7620"/>
                </a:lnTo>
                <a:lnTo>
                  <a:pt x="99060" y="76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7"/>
          <p:cNvSpPr/>
          <p:nvPr/>
        </p:nvSpPr>
        <p:spPr>
          <a:xfrm>
            <a:off x="6308640" y="6226200"/>
            <a:ext cx="100080" cy="44280"/>
          </a:xfrm>
          <a:custGeom>
            <a:avLst/>
            <a:gdLst>
              <a:gd name="textAreaLeft" fmla="*/ 0 w 100080"/>
              <a:gd name="textAreaRight" fmla="*/ 100440 w 1000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99061" h="45721">
                <a:moveTo>
                  <a:pt x="83820" y="7620"/>
                </a:moveTo>
                <a:lnTo>
                  <a:pt x="83820" y="7620"/>
                </a:lnTo>
                <a:lnTo>
                  <a:pt x="83820" y="7620"/>
                </a:lnTo>
                <a:lnTo>
                  <a:pt x="76200" y="7620"/>
                </a:lnTo>
                <a:lnTo>
                  <a:pt x="76200" y="7620"/>
                </a:lnTo>
                <a:lnTo>
                  <a:pt x="76200" y="7620"/>
                </a:lnTo>
                <a:lnTo>
                  <a:pt x="68580" y="0"/>
                </a:lnTo>
                <a:lnTo>
                  <a:pt x="68580" y="0"/>
                </a:lnTo>
                <a:lnTo>
                  <a:pt x="60960" y="0"/>
                </a:lnTo>
                <a:lnTo>
                  <a:pt x="60960" y="0"/>
                </a:lnTo>
                <a:lnTo>
                  <a:pt x="53340" y="0"/>
                </a:lnTo>
                <a:lnTo>
                  <a:pt x="45720" y="0"/>
                </a:lnTo>
                <a:lnTo>
                  <a:pt x="38100" y="0"/>
                </a:lnTo>
                <a:lnTo>
                  <a:pt x="38100" y="7620"/>
                </a:lnTo>
                <a:lnTo>
                  <a:pt x="30480" y="7620"/>
                </a:lnTo>
                <a:lnTo>
                  <a:pt x="15240" y="7620"/>
                </a:lnTo>
                <a:lnTo>
                  <a:pt x="7620" y="7620"/>
                </a:lnTo>
                <a:lnTo>
                  <a:pt x="0" y="15240"/>
                </a:lnTo>
                <a:lnTo>
                  <a:pt x="0" y="15240"/>
                </a:lnTo>
                <a:lnTo>
                  <a:pt x="0" y="22860"/>
                </a:lnTo>
                <a:lnTo>
                  <a:pt x="0" y="22860"/>
                </a:lnTo>
                <a:lnTo>
                  <a:pt x="0" y="30480"/>
                </a:lnTo>
                <a:lnTo>
                  <a:pt x="0" y="30480"/>
                </a:lnTo>
                <a:lnTo>
                  <a:pt x="7620" y="38100"/>
                </a:lnTo>
                <a:lnTo>
                  <a:pt x="15240" y="38100"/>
                </a:lnTo>
                <a:lnTo>
                  <a:pt x="22860" y="45720"/>
                </a:lnTo>
                <a:lnTo>
                  <a:pt x="38100" y="45720"/>
                </a:lnTo>
                <a:lnTo>
                  <a:pt x="45720" y="45720"/>
                </a:lnTo>
                <a:lnTo>
                  <a:pt x="53340" y="45720"/>
                </a:lnTo>
                <a:lnTo>
                  <a:pt x="60960" y="45720"/>
                </a:lnTo>
                <a:lnTo>
                  <a:pt x="76200" y="45720"/>
                </a:lnTo>
                <a:lnTo>
                  <a:pt x="83820" y="45720"/>
                </a:lnTo>
                <a:lnTo>
                  <a:pt x="91440" y="45720"/>
                </a:lnTo>
                <a:lnTo>
                  <a:pt x="91440" y="38100"/>
                </a:lnTo>
                <a:lnTo>
                  <a:pt x="99060" y="30480"/>
                </a:lnTo>
                <a:lnTo>
                  <a:pt x="99060" y="30480"/>
                </a:lnTo>
                <a:lnTo>
                  <a:pt x="99060" y="22860"/>
                </a:lnTo>
                <a:lnTo>
                  <a:pt x="99060" y="22860"/>
                </a:lnTo>
                <a:lnTo>
                  <a:pt x="91440" y="15240"/>
                </a:lnTo>
                <a:lnTo>
                  <a:pt x="91440" y="15240"/>
                </a:lnTo>
                <a:lnTo>
                  <a:pt x="83820" y="7620"/>
                </a:lnTo>
                <a:lnTo>
                  <a:pt x="83820" y="7620"/>
                </a:lnTo>
                <a:lnTo>
                  <a:pt x="76200" y="7620"/>
                </a:lnTo>
                <a:lnTo>
                  <a:pt x="68580" y="7620"/>
                </a:lnTo>
                <a:lnTo>
                  <a:pt x="60960" y="7620"/>
                </a:lnTo>
                <a:lnTo>
                  <a:pt x="53340" y="15240"/>
                </a:lnTo>
                <a:lnTo>
                  <a:pt x="53340" y="15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8"/>
          <p:cNvSpPr/>
          <p:nvPr/>
        </p:nvSpPr>
        <p:spPr>
          <a:xfrm>
            <a:off x="6340320" y="6270480"/>
            <a:ext cx="52560" cy="92160"/>
          </a:xfrm>
          <a:custGeom>
            <a:avLst/>
            <a:gdLst>
              <a:gd name="textAreaLeft" fmla="*/ 0 w 52560"/>
              <a:gd name="textAreaRight" fmla="*/ 52920 w 525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53341" h="91441">
                <a:moveTo>
                  <a:pt x="30480" y="7620"/>
                </a:moveTo>
                <a:lnTo>
                  <a:pt x="30480" y="7620"/>
                </a:lnTo>
                <a:lnTo>
                  <a:pt x="30480" y="7620"/>
                </a:lnTo>
                <a:lnTo>
                  <a:pt x="30480" y="7620"/>
                </a:lnTo>
                <a:lnTo>
                  <a:pt x="30480" y="7620"/>
                </a:lnTo>
                <a:lnTo>
                  <a:pt x="30480" y="7620"/>
                </a:lnTo>
                <a:lnTo>
                  <a:pt x="30480" y="7620"/>
                </a:lnTo>
                <a:lnTo>
                  <a:pt x="22860" y="7620"/>
                </a:lnTo>
                <a:lnTo>
                  <a:pt x="22860" y="15240"/>
                </a:lnTo>
                <a:lnTo>
                  <a:pt x="22860" y="15240"/>
                </a:lnTo>
                <a:lnTo>
                  <a:pt x="15240" y="22860"/>
                </a:lnTo>
                <a:lnTo>
                  <a:pt x="15240" y="30480"/>
                </a:lnTo>
                <a:lnTo>
                  <a:pt x="7620" y="38100"/>
                </a:lnTo>
                <a:lnTo>
                  <a:pt x="7620" y="45720"/>
                </a:lnTo>
                <a:lnTo>
                  <a:pt x="7620" y="53340"/>
                </a:lnTo>
                <a:lnTo>
                  <a:pt x="0" y="60960"/>
                </a:lnTo>
                <a:lnTo>
                  <a:pt x="0" y="68580"/>
                </a:lnTo>
                <a:lnTo>
                  <a:pt x="7620" y="76200"/>
                </a:lnTo>
                <a:lnTo>
                  <a:pt x="7620" y="83820"/>
                </a:lnTo>
                <a:lnTo>
                  <a:pt x="7620" y="83820"/>
                </a:lnTo>
                <a:lnTo>
                  <a:pt x="15240" y="91440"/>
                </a:lnTo>
                <a:lnTo>
                  <a:pt x="22860" y="91440"/>
                </a:lnTo>
                <a:lnTo>
                  <a:pt x="22860" y="91440"/>
                </a:lnTo>
                <a:lnTo>
                  <a:pt x="30480" y="83820"/>
                </a:lnTo>
                <a:lnTo>
                  <a:pt x="38100" y="83820"/>
                </a:lnTo>
                <a:lnTo>
                  <a:pt x="38100" y="76200"/>
                </a:lnTo>
                <a:lnTo>
                  <a:pt x="45720" y="68580"/>
                </a:lnTo>
                <a:lnTo>
                  <a:pt x="45720" y="60960"/>
                </a:lnTo>
                <a:lnTo>
                  <a:pt x="53340" y="45720"/>
                </a:lnTo>
                <a:lnTo>
                  <a:pt x="53340" y="38100"/>
                </a:lnTo>
                <a:lnTo>
                  <a:pt x="53340" y="30480"/>
                </a:lnTo>
                <a:lnTo>
                  <a:pt x="45720" y="15240"/>
                </a:lnTo>
                <a:lnTo>
                  <a:pt x="45720" y="15240"/>
                </a:lnTo>
                <a:lnTo>
                  <a:pt x="45720" y="7620"/>
                </a:lnTo>
                <a:lnTo>
                  <a:pt x="38100" y="0"/>
                </a:lnTo>
                <a:lnTo>
                  <a:pt x="3810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.5:  2 Sec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length of 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5486400" y="1143000"/>
            <a:ext cx="3429000" cy="350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5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3581280" y="1371600"/>
            <a:ext cx="46483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3581280" y="3581280"/>
            <a:ext cx="40388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62520" y="28796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324480" y="17524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4495680" y="35654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6781680" y="409896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0" y="4876920"/>
            <a:ext cx="48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685800" y="3581280"/>
            <a:ext cx="3962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(w + x) = y(y +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(14 + 20) = 16(16 +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4)(14) = 256 + 16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6 = 256 + 16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0 = 16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5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"/>
          <p:cNvSpPr/>
          <p:nvPr/>
        </p:nvSpPr>
        <p:spPr>
          <a:xfrm>
            <a:off x="2765520" y="4030560"/>
            <a:ext cx="565200" cy="220680"/>
          </a:xfrm>
          <a:custGeom>
            <a:avLst/>
            <a:gdLst>
              <a:gd name="textAreaLeft" fmla="*/ 0 w 565200"/>
              <a:gd name="textAreaRight" fmla="*/ 565560 w 5652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563881" h="220981">
                <a:moveTo>
                  <a:pt x="0" y="220980"/>
                </a:moveTo>
                <a:lnTo>
                  <a:pt x="0" y="213360"/>
                </a:lnTo>
                <a:lnTo>
                  <a:pt x="0" y="213360"/>
                </a:lnTo>
                <a:lnTo>
                  <a:pt x="0" y="205740"/>
                </a:lnTo>
                <a:lnTo>
                  <a:pt x="0" y="205740"/>
                </a:lnTo>
                <a:lnTo>
                  <a:pt x="0" y="198120"/>
                </a:lnTo>
                <a:lnTo>
                  <a:pt x="0" y="190500"/>
                </a:lnTo>
                <a:lnTo>
                  <a:pt x="7620" y="190500"/>
                </a:lnTo>
                <a:lnTo>
                  <a:pt x="7620" y="182880"/>
                </a:lnTo>
                <a:lnTo>
                  <a:pt x="15240" y="175260"/>
                </a:lnTo>
                <a:lnTo>
                  <a:pt x="15240" y="167640"/>
                </a:lnTo>
                <a:lnTo>
                  <a:pt x="22860" y="160020"/>
                </a:lnTo>
                <a:lnTo>
                  <a:pt x="22860" y="152400"/>
                </a:lnTo>
                <a:lnTo>
                  <a:pt x="30480" y="144780"/>
                </a:lnTo>
                <a:lnTo>
                  <a:pt x="38100" y="137160"/>
                </a:lnTo>
                <a:lnTo>
                  <a:pt x="45720" y="129540"/>
                </a:lnTo>
                <a:lnTo>
                  <a:pt x="53340" y="121920"/>
                </a:lnTo>
                <a:lnTo>
                  <a:pt x="60960" y="114300"/>
                </a:lnTo>
                <a:lnTo>
                  <a:pt x="68580" y="106680"/>
                </a:lnTo>
                <a:lnTo>
                  <a:pt x="83820" y="99060"/>
                </a:lnTo>
                <a:lnTo>
                  <a:pt x="91440" y="83820"/>
                </a:lnTo>
                <a:lnTo>
                  <a:pt x="106680" y="76200"/>
                </a:lnTo>
                <a:lnTo>
                  <a:pt x="114300" y="68580"/>
                </a:lnTo>
                <a:lnTo>
                  <a:pt x="121920" y="60960"/>
                </a:lnTo>
                <a:lnTo>
                  <a:pt x="137160" y="53340"/>
                </a:lnTo>
                <a:lnTo>
                  <a:pt x="152400" y="45720"/>
                </a:lnTo>
                <a:lnTo>
                  <a:pt x="160020" y="38100"/>
                </a:lnTo>
                <a:lnTo>
                  <a:pt x="175260" y="30480"/>
                </a:lnTo>
                <a:lnTo>
                  <a:pt x="190500" y="22860"/>
                </a:lnTo>
                <a:lnTo>
                  <a:pt x="205740" y="15240"/>
                </a:lnTo>
                <a:lnTo>
                  <a:pt x="220980" y="15240"/>
                </a:lnTo>
                <a:lnTo>
                  <a:pt x="236220" y="7620"/>
                </a:lnTo>
                <a:lnTo>
                  <a:pt x="251460" y="7620"/>
                </a:lnTo>
                <a:lnTo>
                  <a:pt x="266700" y="7620"/>
                </a:lnTo>
                <a:lnTo>
                  <a:pt x="289560" y="0"/>
                </a:lnTo>
                <a:lnTo>
                  <a:pt x="304800" y="0"/>
                </a:lnTo>
                <a:lnTo>
                  <a:pt x="312420" y="0"/>
                </a:lnTo>
                <a:lnTo>
                  <a:pt x="327660" y="0"/>
                </a:lnTo>
                <a:lnTo>
                  <a:pt x="342900" y="7620"/>
                </a:lnTo>
                <a:lnTo>
                  <a:pt x="358140" y="7620"/>
                </a:lnTo>
                <a:lnTo>
                  <a:pt x="373380" y="7620"/>
                </a:lnTo>
                <a:lnTo>
                  <a:pt x="388620" y="15240"/>
                </a:lnTo>
                <a:lnTo>
                  <a:pt x="403860" y="15240"/>
                </a:lnTo>
                <a:lnTo>
                  <a:pt x="411480" y="22860"/>
                </a:lnTo>
                <a:lnTo>
                  <a:pt x="426720" y="30480"/>
                </a:lnTo>
                <a:lnTo>
                  <a:pt x="434340" y="38100"/>
                </a:lnTo>
                <a:lnTo>
                  <a:pt x="449580" y="45720"/>
                </a:lnTo>
                <a:lnTo>
                  <a:pt x="457200" y="53340"/>
                </a:lnTo>
                <a:lnTo>
                  <a:pt x="464820" y="60960"/>
                </a:lnTo>
                <a:lnTo>
                  <a:pt x="472440" y="68580"/>
                </a:lnTo>
                <a:lnTo>
                  <a:pt x="487680" y="76200"/>
                </a:lnTo>
                <a:lnTo>
                  <a:pt x="495300" y="83820"/>
                </a:lnTo>
                <a:lnTo>
                  <a:pt x="502920" y="99060"/>
                </a:lnTo>
                <a:lnTo>
                  <a:pt x="510540" y="106680"/>
                </a:lnTo>
                <a:lnTo>
                  <a:pt x="518160" y="114300"/>
                </a:lnTo>
                <a:lnTo>
                  <a:pt x="518160" y="121920"/>
                </a:lnTo>
                <a:lnTo>
                  <a:pt x="525780" y="129540"/>
                </a:lnTo>
                <a:lnTo>
                  <a:pt x="533400" y="137160"/>
                </a:lnTo>
                <a:lnTo>
                  <a:pt x="541020" y="152400"/>
                </a:lnTo>
                <a:lnTo>
                  <a:pt x="541020" y="152400"/>
                </a:lnTo>
                <a:lnTo>
                  <a:pt x="548640" y="167640"/>
                </a:lnTo>
                <a:lnTo>
                  <a:pt x="548640" y="167640"/>
                </a:lnTo>
                <a:lnTo>
                  <a:pt x="556260" y="175260"/>
                </a:lnTo>
                <a:lnTo>
                  <a:pt x="556260" y="182880"/>
                </a:lnTo>
                <a:lnTo>
                  <a:pt x="556260" y="190500"/>
                </a:lnTo>
                <a:lnTo>
                  <a:pt x="563880" y="190500"/>
                </a:lnTo>
                <a:lnTo>
                  <a:pt x="563880" y="198120"/>
                </a:lnTo>
                <a:lnTo>
                  <a:pt x="563880" y="198120"/>
                </a:lnTo>
                <a:lnTo>
                  <a:pt x="563880" y="1981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"/>
          <p:cNvSpPr/>
          <p:nvPr/>
        </p:nvSpPr>
        <p:spPr>
          <a:xfrm>
            <a:off x="2797200" y="4022640"/>
            <a:ext cx="1081080" cy="2746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082041" h="274321">
                <a:moveTo>
                  <a:pt x="0" y="152400"/>
                </a:moveTo>
                <a:lnTo>
                  <a:pt x="0" y="152400"/>
                </a:lnTo>
                <a:lnTo>
                  <a:pt x="7620" y="144780"/>
                </a:lnTo>
                <a:lnTo>
                  <a:pt x="15240" y="144780"/>
                </a:lnTo>
                <a:lnTo>
                  <a:pt x="22860" y="137160"/>
                </a:lnTo>
                <a:lnTo>
                  <a:pt x="30480" y="137160"/>
                </a:lnTo>
                <a:lnTo>
                  <a:pt x="38100" y="129540"/>
                </a:lnTo>
                <a:lnTo>
                  <a:pt x="45720" y="121920"/>
                </a:lnTo>
                <a:lnTo>
                  <a:pt x="60960" y="121920"/>
                </a:lnTo>
                <a:lnTo>
                  <a:pt x="68580" y="114300"/>
                </a:lnTo>
                <a:lnTo>
                  <a:pt x="83820" y="106680"/>
                </a:lnTo>
                <a:lnTo>
                  <a:pt x="91440" y="106680"/>
                </a:lnTo>
                <a:lnTo>
                  <a:pt x="99060" y="99060"/>
                </a:lnTo>
                <a:lnTo>
                  <a:pt x="114300" y="91440"/>
                </a:lnTo>
                <a:lnTo>
                  <a:pt x="121920" y="91440"/>
                </a:lnTo>
                <a:lnTo>
                  <a:pt x="137160" y="83820"/>
                </a:lnTo>
                <a:lnTo>
                  <a:pt x="144780" y="76200"/>
                </a:lnTo>
                <a:lnTo>
                  <a:pt x="160020" y="76200"/>
                </a:lnTo>
                <a:lnTo>
                  <a:pt x="175260" y="68580"/>
                </a:lnTo>
                <a:lnTo>
                  <a:pt x="190500" y="60960"/>
                </a:lnTo>
                <a:lnTo>
                  <a:pt x="198120" y="53340"/>
                </a:lnTo>
                <a:lnTo>
                  <a:pt x="213360" y="53340"/>
                </a:lnTo>
                <a:lnTo>
                  <a:pt x="228600" y="45720"/>
                </a:lnTo>
                <a:lnTo>
                  <a:pt x="243840" y="38100"/>
                </a:lnTo>
                <a:lnTo>
                  <a:pt x="266700" y="38100"/>
                </a:lnTo>
                <a:lnTo>
                  <a:pt x="281940" y="30480"/>
                </a:lnTo>
                <a:lnTo>
                  <a:pt x="297180" y="22860"/>
                </a:lnTo>
                <a:lnTo>
                  <a:pt x="312420" y="22860"/>
                </a:lnTo>
                <a:lnTo>
                  <a:pt x="335280" y="15240"/>
                </a:lnTo>
                <a:lnTo>
                  <a:pt x="350520" y="15240"/>
                </a:lnTo>
                <a:lnTo>
                  <a:pt x="373380" y="7620"/>
                </a:lnTo>
                <a:lnTo>
                  <a:pt x="388620" y="7620"/>
                </a:lnTo>
                <a:lnTo>
                  <a:pt x="411480" y="0"/>
                </a:lnTo>
                <a:lnTo>
                  <a:pt x="426720" y="0"/>
                </a:lnTo>
                <a:lnTo>
                  <a:pt x="449580" y="0"/>
                </a:lnTo>
                <a:lnTo>
                  <a:pt x="472440" y="0"/>
                </a:lnTo>
                <a:lnTo>
                  <a:pt x="495300" y="0"/>
                </a:lnTo>
                <a:lnTo>
                  <a:pt x="510540" y="0"/>
                </a:lnTo>
                <a:lnTo>
                  <a:pt x="533400" y="0"/>
                </a:lnTo>
                <a:lnTo>
                  <a:pt x="556260" y="0"/>
                </a:lnTo>
                <a:lnTo>
                  <a:pt x="579120" y="0"/>
                </a:lnTo>
                <a:lnTo>
                  <a:pt x="601980" y="0"/>
                </a:lnTo>
                <a:lnTo>
                  <a:pt x="617220" y="0"/>
                </a:lnTo>
                <a:lnTo>
                  <a:pt x="640080" y="7620"/>
                </a:lnTo>
                <a:lnTo>
                  <a:pt x="662940" y="7620"/>
                </a:lnTo>
                <a:lnTo>
                  <a:pt x="685800" y="15240"/>
                </a:lnTo>
                <a:lnTo>
                  <a:pt x="708660" y="15240"/>
                </a:lnTo>
                <a:lnTo>
                  <a:pt x="731520" y="22860"/>
                </a:lnTo>
                <a:lnTo>
                  <a:pt x="754380" y="22860"/>
                </a:lnTo>
                <a:lnTo>
                  <a:pt x="777240" y="30480"/>
                </a:lnTo>
                <a:lnTo>
                  <a:pt x="800100" y="38100"/>
                </a:lnTo>
                <a:lnTo>
                  <a:pt x="815340" y="45720"/>
                </a:lnTo>
                <a:lnTo>
                  <a:pt x="830580" y="53340"/>
                </a:lnTo>
                <a:lnTo>
                  <a:pt x="853440" y="53340"/>
                </a:lnTo>
                <a:lnTo>
                  <a:pt x="868680" y="60960"/>
                </a:lnTo>
                <a:lnTo>
                  <a:pt x="891540" y="76200"/>
                </a:lnTo>
                <a:lnTo>
                  <a:pt x="906780" y="83820"/>
                </a:lnTo>
                <a:lnTo>
                  <a:pt x="922020" y="91440"/>
                </a:lnTo>
                <a:lnTo>
                  <a:pt x="937260" y="99060"/>
                </a:lnTo>
                <a:lnTo>
                  <a:pt x="952500" y="106680"/>
                </a:lnTo>
                <a:lnTo>
                  <a:pt x="967740" y="114300"/>
                </a:lnTo>
                <a:lnTo>
                  <a:pt x="975360" y="129540"/>
                </a:lnTo>
                <a:lnTo>
                  <a:pt x="990600" y="137160"/>
                </a:lnTo>
                <a:lnTo>
                  <a:pt x="1005840" y="144780"/>
                </a:lnTo>
                <a:lnTo>
                  <a:pt x="1013460" y="152400"/>
                </a:lnTo>
                <a:lnTo>
                  <a:pt x="1021080" y="167640"/>
                </a:lnTo>
                <a:lnTo>
                  <a:pt x="1028700" y="175260"/>
                </a:lnTo>
                <a:lnTo>
                  <a:pt x="1036320" y="182880"/>
                </a:lnTo>
                <a:lnTo>
                  <a:pt x="1043940" y="198120"/>
                </a:lnTo>
                <a:lnTo>
                  <a:pt x="1051560" y="205740"/>
                </a:lnTo>
                <a:lnTo>
                  <a:pt x="1059180" y="213360"/>
                </a:lnTo>
                <a:lnTo>
                  <a:pt x="1059180" y="220980"/>
                </a:lnTo>
                <a:lnTo>
                  <a:pt x="1066800" y="228600"/>
                </a:lnTo>
                <a:lnTo>
                  <a:pt x="1066800" y="236220"/>
                </a:lnTo>
                <a:lnTo>
                  <a:pt x="1074420" y="243840"/>
                </a:lnTo>
                <a:lnTo>
                  <a:pt x="1074420" y="251460"/>
                </a:lnTo>
                <a:lnTo>
                  <a:pt x="1074420" y="259080"/>
                </a:lnTo>
                <a:lnTo>
                  <a:pt x="1082040" y="274320"/>
                </a:lnTo>
                <a:lnTo>
                  <a:pt x="1082040" y="27432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708120" y="6400800"/>
            <a:ext cx="38160" cy="258840"/>
          </a:xfrm>
          <a:custGeom>
            <a:avLst/>
            <a:gdLst>
              <a:gd name="textAreaLeft" fmla="*/ 0 w 38160"/>
              <a:gd name="textAreaRight" fmla="*/ 38520 w 381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38101" h="259081">
                <a:moveTo>
                  <a:pt x="38100" y="0"/>
                </a:move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7620"/>
                </a:lnTo>
                <a:lnTo>
                  <a:pt x="30480" y="7620"/>
                </a:lnTo>
                <a:lnTo>
                  <a:pt x="30480" y="15240"/>
                </a:lnTo>
                <a:lnTo>
                  <a:pt x="30480" y="15240"/>
                </a:lnTo>
                <a:lnTo>
                  <a:pt x="22860" y="22860"/>
                </a:lnTo>
                <a:lnTo>
                  <a:pt x="22860" y="30480"/>
                </a:lnTo>
                <a:lnTo>
                  <a:pt x="22860" y="38100"/>
                </a:lnTo>
                <a:lnTo>
                  <a:pt x="22860" y="45720"/>
                </a:lnTo>
                <a:lnTo>
                  <a:pt x="22860" y="60960"/>
                </a:lnTo>
                <a:lnTo>
                  <a:pt x="15240" y="76200"/>
                </a:lnTo>
                <a:lnTo>
                  <a:pt x="15240" y="91440"/>
                </a:lnTo>
                <a:lnTo>
                  <a:pt x="15240" y="106680"/>
                </a:lnTo>
                <a:lnTo>
                  <a:pt x="15240" y="121920"/>
                </a:lnTo>
                <a:lnTo>
                  <a:pt x="15240" y="137161"/>
                </a:lnTo>
                <a:lnTo>
                  <a:pt x="15240" y="152400"/>
                </a:lnTo>
                <a:lnTo>
                  <a:pt x="7620" y="175261"/>
                </a:lnTo>
                <a:lnTo>
                  <a:pt x="7620" y="190500"/>
                </a:lnTo>
                <a:lnTo>
                  <a:pt x="7620" y="205739"/>
                </a:lnTo>
                <a:lnTo>
                  <a:pt x="7620" y="220980"/>
                </a:lnTo>
                <a:lnTo>
                  <a:pt x="7620" y="228600"/>
                </a:lnTo>
                <a:lnTo>
                  <a:pt x="7620" y="236220"/>
                </a:lnTo>
                <a:lnTo>
                  <a:pt x="7620" y="243839"/>
                </a:lnTo>
                <a:lnTo>
                  <a:pt x="0" y="259080"/>
                </a:lnTo>
                <a:lnTo>
                  <a:pt x="0" y="2590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69343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.6:  A little bit of everything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measures of the missing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1752480" y="2057400"/>
            <a:ext cx="289584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3124080" y="34290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762120" y="48006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 flipV="1">
            <a:off x="762120" y="2361960"/>
            <a:ext cx="35049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"/>
          <p:cNvSpPr/>
          <p:nvPr/>
        </p:nvSpPr>
        <p:spPr>
          <a:xfrm flipV="1">
            <a:off x="762120" y="1981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90720" y="3886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1905120" y="2590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2590920" y="3032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1523880" y="41148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990720" y="44798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1447920" y="4724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2133720" y="4114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45720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6172200" y="1523880"/>
            <a:ext cx="289548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for k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(w + x) = y(y +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(9 + 12) = 8(8 +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6 = 64 + 8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15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4724280" y="4267080"/>
            <a:ext cx="32767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olve f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y(y +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(8 + 15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13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152280" y="5105520"/>
            <a:ext cx="320040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ly solve for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= ½(x -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(175 – 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= 57.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"/>
          <p:cNvSpPr/>
          <p:nvPr/>
        </p:nvSpPr>
        <p:spPr>
          <a:xfrm>
            <a:off x="739800" y="2041560"/>
            <a:ext cx="3459240" cy="2720880"/>
          </a:xfrm>
          <a:custGeom>
            <a:avLst/>
            <a:gdLst>
              <a:gd name="textAreaLeft" fmla="*/ 0 w 3459240"/>
              <a:gd name="textAreaRight" fmla="*/ 3459600 w 3459240"/>
              <a:gd name="textAreaTop" fmla="*/ 0 h 2720880"/>
              <a:gd name="textAreaBottom" fmla="*/ 2721240 h 2720880"/>
            </a:gdLst>
            <a:ahLst/>
            <a:rect l="textAreaLeft" t="textAreaTop" r="textAreaRight" b="textAreaBottom"/>
            <a:pathLst>
              <a:path w="3459481" h="2720341">
                <a:moveTo>
                  <a:pt x="2339340" y="0"/>
                </a:moveTo>
                <a:lnTo>
                  <a:pt x="2339340" y="0"/>
                </a:lnTo>
                <a:lnTo>
                  <a:pt x="2339340" y="0"/>
                </a:lnTo>
                <a:lnTo>
                  <a:pt x="2339340" y="0"/>
                </a:lnTo>
                <a:lnTo>
                  <a:pt x="2339340" y="7620"/>
                </a:lnTo>
                <a:lnTo>
                  <a:pt x="2339340" y="7620"/>
                </a:lnTo>
                <a:lnTo>
                  <a:pt x="2331720" y="7620"/>
                </a:lnTo>
                <a:lnTo>
                  <a:pt x="2331720" y="15240"/>
                </a:lnTo>
                <a:lnTo>
                  <a:pt x="2331720" y="15240"/>
                </a:lnTo>
                <a:lnTo>
                  <a:pt x="2331720" y="15240"/>
                </a:lnTo>
                <a:lnTo>
                  <a:pt x="2324100" y="22860"/>
                </a:lnTo>
                <a:lnTo>
                  <a:pt x="2324100" y="22860"/>
                </a:lnTo>
                <a:lnTo>
                  <a:pt x="2316480" y="30480"/>
                </a:lnTo>
                <a:lnTo>
                  <a:pt x="2316480" y="30480"/>
                </a:lnTo>
                <a:lnTo>
                  <a:pt x="2308860" y="38100"/>
                </a:lnTo>
                <a:lnTo>
                  <a:pt x="2301240" y="45720"/>
                </a:lnTo>
                <a:lnTo>
                  <a:pt x="2301240" y="53340"/>
                </a:lnTo>
                <a:lnTo>
                  <a:pt x="2293620" y="60960"/>
                </a:lnTo>
                <a:lnTo>
                  <a:pt x="2286000" y="68580"/>
                </a:lnTo>
                <a:lnTo>
                  <a:pt x="2278380" y="76200"/>
                </a:lnTo>
                <a:lnTo>
                  <a:pt x="2278380" y="83820"/>
                </a:lnTo>
                <a:lnTo>
                  <a:pt x="2270760" y="91440"/>
                </a:lnTo>
                <a:lnTo>
                  <a:pt x="2263140" y="99060"/>
                </a:lnTo>
                <a:lnTo>
                  <a:pt x="2247900" y="114300"/>
                </a:lnTo>
                <a:lnTo>
                  <a:pt x="2240280" y="121920"/>
                </a:lnTo>
                <a:lnTo>
                  <a:pt x="2232660" y="129540"/>
                </a:lnTo>
                <a:lnTo>
                  <a:pt x="2225040" y="144780"/>
                </a:lnTo>
                <a:lnTo>
                  <a:pt x="2217420" y="152400"/>
                </a:lnTo>
                <a:lnTo>
                  <a:pt x="2202180" y="167640"/>
                </a:lnTo>
                <a:lnTo>
                  <a:pt x="2194560" y="182880"/>
                </a:lnTo>
                <a:lnTo>
                  <a:pt x="2179320" y="190500"/>
                </a:lnTo>
                <a:lnTo>
                  <a:pt x="2171700" y="205740"/>
                </a:lnTo>
                <a:lnTo>
                  <a:pt x="2156460" y="220980"/>
                </a:lnTo>
                <a:lnTo>
                  <a:pt x="2148840" y="228600"/>
                </a:lnTo>
                <a:lnTo>
                  <a:pt x="2133600" y="243840"/>
                </a:lnTo>
                <a:lnTo>
                  <a:pt x="2118360" y="259080"/>
                </a:lnTo>
                <a:lnTo>
                  <a:pt x="2103120" y="274320"/>
                </a:lnTo>
                <a:lnTo>
                  <a:pt x="2087880" y="289560"/>
                </a:lnTo>
                <a:lnTo>
                  <a:pt x="2072640" y="304800"/>
                </a:lnTo>
                <a:lnTo>
                  <a:pt x="2057400" y="320040"/>
                </a:lnTo>
                <a:lnTo>
                  <a:pt x="2042160" y="335280"/>
                </a:lnTo>
                <a:lnTo>
                  <a:pt x="2034540" y="358140"/>
                </a:lnTo>
                <a:lnTo>
                  <a:pt x="2019300" y="373380"/>
                </a:lnTo>
                <a:lnTo>
                  <a:pt x="2004060" y="388620"/>
                </a:lnTo>
                <a:lnTo>
                  <a:pt x="1988820" y="411480"/>
                </a:lnTo>
                <a:lnTo>
                  <a:pt x="1973580" y="426720"/>
                </a:lnTo>
                <a:lnTo>
                  <a:pt x="1958340" y="449580"/>
                </a:lnTo>
                <a:lnTo>
                  <a:pt x="1943100" y="464820"/>
                </a:lnTo>
                <a:lnTo>
                  <a:pt x="1927860" y="487680"/>
                </a:lnTo>
                <a:lnTo>
                  <a:pt x="1912620" y="502920"/>
                </a:lnTo>
                <a:lnTo>
                  <a:pt x="1897380" y="525780"/>
                </a:lnTo>
                <a:lnTo>
                  <a:pt x="1882140" y="541020"/>
                </a:lnTo>
                <a:lnTo>
                  <a:pt x="1866900" y="563880"/>
                </a:lnTo>
                <a:lnTo>
                  <a:pt x="1851660" y="579120"/>
                </a:lnTo>
                <a:lnTo>
                  <a:pt x="1836420" y="601980"/>
                </a:lnTo>
                <a:lnTo>
                  <a:pt x="1813560" y="624840"/>
                </a:lnTo>
                <a:lnTo>
                  <a:pt x="1798320" y="640080"/>
                </a:lnTo>
                <a:lnTo>
                  <a:pt x="1783080" y="662940"/>
                </a:lnTo>
                <a:lnTo>
                  <a:pt x="1760220" y="685800"/>
                </a:lnTo>
                <a:lnTo>
                  <a:pt x="1744980" y="708660"/>
                </a:lnTo>
                <a:lnTo>
                  <a:pt x="1729740" y="731520"/>
                </a:lnTo>
                <a:lnTo>
                  <a:pt x="1714500" y="746760"/>
                </a:lnTo>
                <a:lnTo>
                  <a:pt x="1699260" y="769620"/>
                </a:lnTo>
                <a:lnTo>
                  <a:pt x="1684020" y="792480"/>
                </a:lnTo>
                <a:lnTo>
                  <a:pt x="1661160" y="815340"/>
                </a:lnTo>
                <a:lnTo>
                  <a:pt x="1645920" y="830580"/>
                </a:lnTo>
                <a:lnTo>
                  <a:pt x="1630680" y="853440"/>
                </a:lnTo>
                <a:lnTo>
                  <a:pt x="1607820" y="876300"/>
                </a:lnTo>
                <a:lnTo>
                  <a:pt x="1592580" y="899160"/>
                </a:lnTo>
                <a:lnTo>
                  <a:pt x="1577340" y="914400"/>
                </a:lnTo>
                <a:lnTo>
                  <a:pt x="1554480" y="937260"/>
                </a:lnTo>
                <a:lnTo>
                  <a:pt x="1539240" y="960120"/>
                </a:lnTo>
                <a:lnTo>
                  <a:pt x="1524000" y="982980"/>
                </a:lnTo>
                <a:lnTo>
                  <a:pt x="1508760" y="1005840"/>
                </a:lnTo>
                <a:lnTo>
                  <a:pt x="1493520" y="1021080"/>
                </a:lnTo>
                <a:lnTo>
                  <a:pt x="1470660" y="1043940"/>
                </a:lnTo>
                <a:lnTo>
                  <a:pt x="1455420" y="1066800"/>
                </a:lnTo>
                <a:lnTo>
                  <a:pt x="1440180" y="1082040"/>
                </a:lnTo>
                <a:lnTo>
                  <a:pt x="1424940" y="1104900"/>
                </a:lnTo>
                <a:lnTo>
                  <a:pt x="1409700" y="1127760"/>
                </a:lnTo>
                <a:lnTo>
                  <a:pt x="1394460" y="1143000"/>
                </a:lnTo>
                <a:lnTo>
                  <a:pt x="1371600" y="1165860"/>
                </a:lnTo>
                <a:lnTo>
                  <a:pt x="1363980" y="1188720"/>
                </a:lnTo>
                <a:lnTo>
                  <a:pt x="1348740" y="1203960"/>
                </a:lnTo>
                <a:lnTo>
                  <a:pt x="1325880" y="1226820"/>
                </a:lnTo>
                <a:lnTo>
                  <a:pt x="1310640" y="1242060"/>
                </a:lnTo>
                <a:lnTo>
                  <a:pt x="1303020" y="1257300"/>
                </a:lnTo>
                <a:lnTo>
                  <a:pt x="1280160" y="1280160"/>
                </a:lnTo>
                <a:lnTo>
                  <a:pt x="1264920" y="1295400"/>
                </a:lnTo>
                <a:lnTo>
                  <a:pt x="1249680" y="1310640"/>
                </a:lnTo>
                <a:lnTo>
                  <a:pt x="1234440" y="1333500"/>
                </a:lnTo>
                <a:lnTo>
                  <a:pt x="1219200" y="1348740"/>
                </a:lnTo>
                <a:lnTo>
                  <a:pt x="1203960" y="1363980"/>
                </a:lnTo>
                <a:lnTo>
                  <a:pt x="1188720" y="1379220"/>
                </a:lnTo>
                <a:lnTo>
                  <a:pt x="1173480" y="1394460"/>
                </a:lnTo>
                <a:lnTo>
                  <a:pt x="1158240" y="1409700"/>
                </a:lnTo>
                <a:lnTo>
                  <a:pt x="1143000" y="1424940"/>
                </a:lnTo>
                <a:lnTo>
                  <a:pt x="1120140" y="1440180"/>
                </a:lnTo>
                <a:lnTo>
                  <a:pt x="1112520" y="1455420"/>
                </a:lnTo>
                <a:lnTo>
                  <a:pt x="1097280" y="1470660"/>
                </a:lnTo>
                <a:lnTo>
                  <a:pt x="1082040" y="1485900"/>
                </a:lnTo>
                <a:lnTo>
                  <a:pt x="1066800" y="1508760"/>
                </a:lnTo>
                <a:lnTo>
                  <a:pt x="1051560" y="1524000"/>
                </a:lnTo>
                <a:lnTo>
                  <a:pt x="1036320" y="1531620"/>
                </a:lnTo>
                <a:lnTo>
                  <a:pt x="1021080" y="1546860"/>
                </a:lnTo>
                <a:lnTo>
                  <a:pt x="1013460" y="1569720"/>
                </a:lnTo>
                <a:lnTo>
                  <a:pt x="998220" y="1584960"/>
                </a:lnTo>
                <a:lnTo>
                  <a:pt x="982980" y="1592580"/>
                </a:lnTo>
                <a:lnTo>
                  <a:pt x="967740" y="1607820"/>
                </a:lnTo>
                <a:lnTo>
                  <a:pt x="952500" y="1630680"/>
                </a:lnTo>
                <a:lnTo>
                  <a:pt x="944880" y="1638300"/>
                </a:lnTo>
                <a:lnTo>
                  <a:pt x="929640" y="1653540"/>
                </a:lnTo>
                <a:lnTo>
                  <a:pt x="914400" y="1668780"/>
                </a:lnTo>
                <a:lnTo>
                  <a:pt x="906780" y="1684020"/>
                </a:lnTo>
                <a:lnTo>
                  <a:pt x="883920" y="1699260"/>
                </a:lnTo>
                <a:lnTo>
                  <a:pt x="876300" y="1714500"/>
                </a:lnTo>
                <a:lnTo>
                  <a:pt x="861060" y="1722120"/>
                </a:lnTo>
                <a:lnTo>
                  <a:pt x="853440" y="1737360"/>
                </a:lnTo>
                <a:lnTo>
                  <a:pt x="830580" y="1752600"/>
                </a:lnTo>
                <a:lnTo>
                  <a:pt x="822960" y="1767840"/>
                </a:lnTo>
                <a:lnTo>
                  <a:pt x="807720" y="1783080"/>
                </a:lnTo>
                <a:lnTo>
                  <a:pt x="800100" y="1798320"/>
                </a:lnTo>
                <a:lnTo>
                  <a:pt x="784860" y="1813560"/>
                </a:lnTo>
                <a:lnTo>
                  <a:pt x="769620" y="1821180"/>
                </a:lnTo>
                <a:lnTo>
                  <a:pt x="762000" y="1836420"/>
                </a:lnTo>
                <a:lnTo>
                  <a:pt x="746760" y="1851660"/>
                </a:lnTo>
                <a:lnTo>
                  <a:pt x="731520" y="1866900"/>
                </a:lnTo>
                <a:lnTo>
                  <a:pt x="723900" y="1882140"/>
                </a:lnTo>
                <a:lnTo>
                  <a:pt x="708660" y="1897380"/>
                </a:lnTo>
                <a:lnTo>
                  <a:pt x="701040" y="1912620"/>
                </a:lnTo>
                <a:lnTo>
                  <a:pt x="685800" y="1920240"/>
                </a:lnTo>
                <a:lnTo>
                  <a:pt x="670560" y="1943100"/>
                </a:lnTo>
                <a:lnTo>
                  <a:pt x="662940" y="1950720"/>
                </a:lnTo>
                <a:lnTo>
                  <a:pt x="647700" y="1965960"/>
                </a:lnTo>
                <a:lnTo>
                  <a:pt x="632460" y="1981200"/>
                </a:lnTo>
                <a:lnTo>
                  <a:pt x="624840" y="1996440"/>
                </a:lnTo>
                <a:lnTo>
                  <a:pt x="609600" y="2011680"/>
                </a:lnTo>
                <a:lnTo>
                  <a:pt x="601980" y="2026920"/>
                </a:lnTo>
                <a:lnTo>
                  <a:pt x="586740" y="2042160"/>
                </a:lnTo>
                <a:lnTo>
                  <a:pt x="571500" y="2057400"/>
                </a:lnTo>
                <a:lnTo>
                  <a:pt x="556260" y="2072640"/>
                </a:lnTo>
                <a:lnTo>
                  <a:pt x="548640" y="2087880"/>
                </a:lnTo>
                <a:lnTo>
                  <a:pt x="533400" y="2103120"/>
                </a:lnTo>
                <a:lnTo>
                  <a:pt x="525780" y="2118360"/>
                </a:lnTo>
                <a:lnTo>
                  <a:pt x="510540" y="2125980"/>
                </a:lnTo>
                <a:lnTo>
                  <a:pt x="495300" y="2141220"/>
                </a:lnTo>
                <a:lnTo>
                  <a:pt x="487680" y="2156460"/>
                </a:lnTo>
                <a:lnTo>
                  <a:pt x="472440" y="2171700"/>
                </a:lnTo>
                <a:lnTo>
                  <a:pt x="457200" y="2186940"/>
                </a:lnTo>
                <a:lnTo>
                  <a:pt x="441960" y="2202180"/>
                </a:lnTo>
                <a:lnTo>
                  <a:pt x="434340" y="2217420"/>
                </a:lnTo>
                <a:lnTo>
                  <a:pt x="419100" y="2232660"/>
                </a:lnTo>
                <a:lnTo>
                  <a:pt x="411480" y="2247900"/>
                </a:lnTo>
                <a:lnTo>
                  <a:pt x="396240" y="2263140"/>
                </a:lnTo>
                <a:lnTo>
                  <a:pt x="381000" y="2278380"/>
                </a:lnTo>
                <a:lnTo>
                  <a:pt x="373380" y="2293620"/>
                </a:lnTo>
                <a:lnTo>
                  <a:pt x="358140" y="2308860"/>
                </a:lnTo>
                <a:lnTo>
                  <a:pt x="350520" y="2324100"/>
                </a:lnTo>
                <a:lnTo>
                  <a:pt x="335280" y="2339340"/>
                </a:lnTo>
                <a:lnTo>
                  <a:pt x="327660" y="2346960"/>
                </a:lnTo>
                <a:lnTo>
                  <a:pt x="312420" y="2362200"/>
                </a:lnTo>
                <a:lnTo>
                  <a:pt x="297180" y="2377440"/>
                </a:lnTo>
                <a:lnTo>
                  <a:pt x="289560" y="2392680"/>
                </a:lnTo>
                <a:lnTo>
                  <a:pt x="281940" y="2400300"/>
                </a:lnTo>
                <a:lnTo>
                  <a:pt x="266700" y="2415540"/>
                </a:lnTo>
                <a:lnTo>
                  <a:pt x="259080" y="2430780"/>
                </a:lnTo>
                <a:lnTo>
                  <a:pt x="243840" y="2446020"/>
                </a:lnTo>
                <a:lnTo>
                  <a:pt x="236220" y="2461260"/>
                </a:lnTo>
                <a:lnTo>
                  <a:pt x="228600" y="2468880"/>
                </a:lnTo>
                <a:lnTo>
                  <a:pt x="213360" y="2484120"/>
                </a:lnTo>
                <a:lnTo>
                  <a:pt x="198120" y="2499360"/>
                </a:lnTo>
                <a:lnTo>
                  <a:pt x="190500" y="2506980"/>
                </a:lnTo>
                <a:lnTo>
                  <a:pt x="182880" y="2522220"/>
                </a:lnTo>
                <a:lnTo>
                  <a:pt x="175260" y="2529840"/>
                </a:lnTo>
                <a:lnTo>
                  <a:pt x="160020" y="2545080"/>
                </a:lnTo>
                <a:lnTo>
                  <a:pt x="152400" y="2560320"/>
                </a:lnTo>
                <a:lnTo>
                  <a:pt x="144780" y="2567940"/>
                </a:lnTo>
                <a:lnTo>
                  <a:pt x="137160" y="2575560"/>
                </a:lnTo>
                <a:lnTo>
                  <a:pt x="129540" y="2583180"/>
                </a:lnTo>
                <a:lnTo>
                  <a:pt x="114300" y="2598420"/>
                </a:lnTo>
                <a:lnTo>
                  <a:pt x="106680" y="2606040"/>
                </a:lnTo>
                <a:lnTo>
                  <a:pt x="99060" y="2613660"/>
                </a:lnTo>
                <a:lnTo>
                  <a:pt x="91440" y="2621280"/>
                </a:lnTo>
                <a:lnTo>
                  <a:pt x="83820" y="2628900"/>
                </a:lnTo>
                <a:lnTo>
                  <a:pt x="76200" y="2636520"/>
                </a:lnTo>
                <a:lnTo>
                  <a:pt x="68580" y="2644140"/>
                </a:lnTo>
                <a:lnTo>
                  <a:pt x="60960" y="2651760"/>
                </a:lnTo>
                <a:lnTo>
                  <a:pt x="53340" y="2659380"/>
                </a:lnTo>
                <a:lnTo>
                  <a:pt x="45720" y="2667000"/>
                </a:lnTo>
                <a:lnTo>
                  <a:pt x="38100" y="2667000"/>
                </a:lnTo>
                <a:lnTo>
                  <a:pt x="38100" y="2674620"/>
                </a:lnTo>
                <a:lnTo>
                  <a:pt x="30480" y="2682240"/>
                </a:lnTo>
                <a:lnTo>
                  <a:pt x="30480" y="2682240"/>
                </a:lnTo>
                <a:lnTo>
                  <a:pt x="22860" y="2689860"/>
                </a:lnTo>
                <a:lnTo>
                  <a:pt x="22860" y="2689860"/>
                </a:lnTo>
                <a:lnTo>
                  <a:pt x="15240" y="2697480"/>
                </a:lnTo>
                <a:lnTo>
                  <a:pt x="15240" y="2697480"/>
                </a:lnTo>
                <a:lnTo>
                  <a:pt x="7620" y="2705100"/>
                </a:lnTo>
                <a:lnTo>
                  <a:pt x="7620" y="2705100"/>
                </a:lnTo>
                <a:lnTo>
                  <a:pt x="7620" y="2705100"/>
                </a:lnTo>
                <a:lnTo>
                  <a:pt x="7620" y="2712720"/>
                </a:lnTo>
                <a:lnTo>
                  <a:pt x="0" y="2712720"/>
                </a:lnTo>
                <a:lnTo>
                  <a:pt x="0" y="2712720"/>
                </a:lnTo>
                <a:lnTo>
                  <a:pt x="0" y="2712720"/>
                </a:lnTo>
                <a:lnTo>
                  <a:pt x="0" y="2712720"/>
                </a:lnTo>
                <a:lnTo>
                  <a:pt x="0" y="2720340"/>
                </a:lnTo>
                <a:lnTo>
                  <a:pt x="0" y="2720340"/>
                </a:lnTo>
                <a:lnTo>
                  <a:pt x="0" y="2720340"/>
                </a:lnTo>
                <a:lnTo>
                  <a:pt x="0" y="2720340"/>
                </a:lnTo>
                <a:lnTo>
                  <a:pt x="0" y="2720340"/>
                </a:lnTo>
                <a:lnTo>
                  <a:pt x="0" y="2720340"/>
                </a:lnTo>
                <a:lnTo>
                  <a:pt x="0" y="2720340"/>
                </a:lnTo>
                <a:lnTo>
                  <a:pt x="7620" y="2720340"/>
                </a:lnTo>
                <a:lnTo>
                  <a:pt x="7620" y="2720340"/>
                </a:lnTo>
                <a:lnTo>
                  <a:pt x="7620" y="2720340"/>
                </a:lnTo>
                <a:lnTo>
                  <a:pt x="7620" y="2720340"/>
                </a:lnTo>
                <a:lnTo>
                  <a:pt x="15240" y="2720340"/>
                </a:lnTo>
                <a:lnTo>
                  <a:pt x="15240" y="2712720"/>
                </a:lnTo>
                <a:lnTo>
                  <a:pt x="15240" y="2712720"/>
                </a:lnTo>
                <a:lnTo>
                  <a:pt x="22860" y="2712720"/>
                </a:lnTo>
                <a:lnTo>
                  <a:pt x="30480" y="2712720"/>
                </a:lnTo>
                <a:lnTo>
                  <a:pt x="30480" y="2712720"/>
                </a:lnTo>
                <a:lnTo>
                  <a:pt x="38100" y="2712720"/>
                </a:lnTo>
                <a:lnTo>
                  <a:pt x="45720" y="2712720"/>
                </a:lnTo>
                <a:lnTo>
                  <a:pt x="53340" y="2705100"/>
                </a:lnTo>
                <a:lnTo>
                  <a:pt x="60960" y="2705100"/>
                </a:lnTo>
                <a:lnTo>
                  <a:pt x="68580" y="2705100"/>
                </a:lnTo>
                <a:lnTo>
                  <a:pt x="76200" y="2705100"/>
                </a:lnTo>
                <a:lnTo>
                  <a:pt x="83820" y="2697480"/>
                </a:lnTo>
                <a:lnTo>
                  <a:pt x="91440" y="2697480"/>
                </a:lnTo>
                <a:lnTo>
                  <a:pt x="99060" y="2697480"/>
                </a:lnTo>
                <a:lnTo>
                  <a:pt x="106680" y="2689860"/>
                </a:lnTo>
                <a:lnTo>
                  <a:pt x="114300" y="2689860"/>
                </a:lnTo>
                <a:lnTo>
                  <a:pt x="121920" y="2682240"/>
                </a:lnTo>
                <a:lnTo>
                  <a:pt x="137160" y="2674620"/>
                </a:lnTo>
                <a:lnTo>
                  <a:pt x="144780" y="2674620"/>
                </a:lnTo>
                <a:lnTo>
                  <a:pt x="152400" y="2667000"/>
                </a:lnTo>
                <a:lnTo>
                  <a:pt x="160020" y="2659380"/>
                </a:lnTo>
                <a:lnTo>
                  <a:pt x="175260" y="2651760"/>
                </a:lnTo>
                <a:lnTo>
                  <a:pt x="182880" y="2644140"/>
                </a:lnTo>
                <a:lnTo>
                  <a:pt x="190500" y="2636520"/>
                </a:lnTo>
                <a:lnTo>
                  <a:pt x="198120" y="2628900"/>
                </a:lnTo>
                <a:lnTo>
                  <a:pt x="205740" y="2628900"/>
                </a:lnTo>
                <a:lnTo>
                  <a:pt x="213360" y="2621280"/>
                </a:lnTo>
                <a:lnTo>
                  <a:pt x="228600" y="2613660"/>
                </a:lnTo>
                <a:lnTo>
                  <a:pt x="236220" y="2598420"/>
                </a:lnTo>
                <a:lnTo>
                  <a:pt x="243840" y="2590800"/>
                </a:lnTo>
                <a:lnTo>
                  <a:pt x="259080" y="2583180"/>
                </a:lnTo>
                <a:lnTo>
                  <a:pt x="266700" y="2575560"/>
                </a:lnTo>
                <a:lnTo>
                  <a:pt x="281940" y="2567940"/>
                </a:lnTo>
                <a:lnTo>
                  <a:pt x="289560" y="2560320"/>
                </a:lnTo>
                <a:lnTo>
                  <a:pt x="304800" y="2552700"/>
                </a:lnTo>
                <a:lnTo>
                  <a:pt x="320040" y="2545080"/>
                </a:lnTo>
                <a:lnTo>
                  <a:pt x="327660" y="2537460"/>
                </a:lnTo>
                <a:lnTo>
                  <a:pt x="342900" y="2529840"/>
                </a:lnTo>
                <a:lnTo>
                  <a:pt x="358140" y="2514600"/>
                </a:lnTo>
                <a:lnTo>
                  <a:pt x="373380" y="2506980"/>
                </a:lnTo>
                <a:lnTo>
                  <a:pt x="381000" y="2499360"/>
                </a:lnTo>
                <a:lnTo>
                  <a:pt x="403860" y="2491740"/>
                </a:lnTo>
                <a:lnTo>
                  <a:pt x="411480" y="2484120"/>
                </a:lnTo>
                <a:lnTo>
                  <a:pt x="426720" y="2476500"/>
                </a:lnTo>
                <a:lnTo>
                  <a:pt x="441960" y="2461260"/>
                </a:lnTo>
                <a:lnTo>
                  <a:pt x="457200" y="2453640"/>
                </a:lnTo>
                <a:lnTo>
                  <a:pt x="472440" y="2446020"/>
                </a:lnTo>
                <a:lnTo>
                  <a:pt x="487680" y="2438400"/>
                </a:lnTo>
                <a:lnTo>
                  <a:pt x="502920" y="2430780"/>
                </a:lnTo>
                <a:lnTo>
                  <a:pt x="518160" y="2423160"/>
                </a:lnTo>
                <a:lnTo>
                  <a:pt x="533400" y="2407920"/>
                </a:lnTo>
                <a:lnTo>
                  <a:pt x="541020" y="2400300"/>
                </a:lnTo>
                <a:lnTo>
                  <a:pt x="563880" y="2392680"/>
                </a:lnTo>
                <a:lnTo>
                  <a:pt x="571500" y="2385060"/>
                </a:lnTo>
                <a:lnTo>
                  <a:pt x="586740" y="2377440"/>
                </a:lnTo>
                <a:lnTo>
                  <a:pt x="601980" y="2362200"/>
                </a:lnTo>
                <a:lnTo>
                  <a:pt x="624840" y="2354580"/>
                </a:lnTo>
                <a:lnTo>
                  <a:pt x="640080" y="2346960"/>
                </a:lnTo>
                <a:lnTo>
                  <a:pt x="655320" y="2339340"/>
                </a:lnTo>
                <a:lnTo>
                  <a:pt x="670560" y="2324100"/>
                </a:lnTo>
                <a:lnTo>
                  <a:pt x="685800" y="2316480"/>
                </a:lnTo>
                <a:lnTo>
                  <a:pt x="701040" y="2308860"/>
                </a:lnTo>
                <a:lnTo>
                  <a:pt x="716280" y="2293620"/>
                </a:lnTo>
                <a:lnTo>
                  <a:pt x="731520" y="2286000"/>
                </a:lnTo>
                <a:lnTo>
                  <a:pt x="746760" y="2270760"/>
                </a:lnTo>
                <a:lnTo>
                  <a:pt x="762000" y="2263140"/>
                </a:lnTo>
                <a:lnTo>
                  <a:pt x="777240" y="2255520"/>
                </a:lnTo>
                <a:lnTo>
                  <a:pt x="792480" y="2247900"/>
                </a:lnTo>
                <a:lnTo>
                  <a:pt x="807720" y="2232660"/>
                </a:lnTo>
                <a:lnTo>
                  <a:pt x="822960" y="2225040"/>
                </a:lnTo>
                <a:lnTo>
                  <a:pt x="838200" y="2209800"/>
                </a:lnTo>
                <a:lnTo>
                  <a:pt x="853440" y="2202180"/>
                </a:lnTo>
                <a:lnTo>
                  <a:pt x="868680" y="2186940"/>
                </a:lnTo>
                <a:lnTo>
                  <a:pt x="883920" y="2171700"/>
                </a:lnTo>
                <a:lnTo>
                  <a:pt x="899160" y="2164080"/>
                </a:lnTo>
                <a:lnTo>
                  <a:pt x="914400" y="2148840"/>
                </a:lnTo>
                <a:lnTo>
                  <a:pt x="929640" y="2141220"/>
                </a:lnTo>
                <a:lnTo>
                  <a:pt x="952500" y="2125980"/>
                </a:lnTo>
                <a:lnTo>
                  <a:pt x="967740" y="2118360"/>
                </a:lnTo>
                <a:lnTo>
                  <a:pt x="982980" y="2103120"/>
                </a:lnTo>
                <a:lnTo>
                  <a:pt x="998220" y="2087880"/>
                </a:lnTo>
                <a:lnTo>
                  <a:pt x="1013460" y="2080260"/>
                </a:lnTo>
                <a:lnTo>
                  <a:pt x="1028700" y="2065020"/>
                </a:lnTo>
                <a:lnTo>
                  <a:pt x="1043940" y="2049780"/>
                </a:lnTo>
                <a:lnTo>
                  <a:pt x="1066800" y="2034540"/>
                </a:lnTo>
                <a:lnTo>
                  <a:pt x="1082040" y="2026920"/>
                </a:lnTo>
                <a:lnTo>
                  <a:pt x="1097280" y="2011680"/>
                </a:lnTo>
                <a:lnTo>
                  <a:pt x="1120140" y="1996440"/>
                </a:lnTo>
                <a:lnTo>
                  <a:pt x="1135380" y="1981200"/>
                </a:lnTo>
                <a:lnTo>
                  <a:pt x="1150620" y="1965960"/>
                </a:lnTo>
                <a:lnTo>
                  <a:pt x="1173480" y="1958340"/>
                </a:lnTo>
                <a:lnTo>
                  <a:pt x="1188720" y="1943100"/>
                </a:lnTo>
                <a:lnTo>
                  <a:pt x="1211580" y="1927860"/>
                </a:lnTo>
                <a:lnTo>
                  <a:pt x="1226820" y="1912620"/>
                </a:lnTo>
                <a:lnTo>
                  <a:pt x="1249680" y="1905000"/>
                </a:lnTo>
                <a:lnTo>
                  <a:pt x="1264920" y="1889760"/>
                </a:lnTo>
                <a:lnTo>
                  <a:pt x="1287780" y="1874520"/>
                </a:lnTo>
                <a:lnTo>
                  <a:pt x="1303020" y="1859280"/>
                </a:lnTo>
                <a:lnTo>
                  <a:pt x="1318260" y="1844040"/>
                </a:lnTo>
                <a:lnTo>
                  <a:pt x="1341120" y="1836420"/>
                </a:lnTo>
                <a:lnTo>
                  <a:pt x="1356360" y="1821180"/>
                </a:lnTo>
                <a:lnTo>
                  <a:pt x="1371600" y="1805940"/>
                </a:lnTo>
                <a:lnTo>
                  <a:pt x="1394460" y="1790700"/>
                </a:lnTo>
                <a:lnTo>
                  <a:pt x="1417320" y="1775460"/>
                </a:lnTo>
                <a:lnTo>
                  <a:pt x="1432560" y="1767840"/>
                </a:lnTo>
                <a:lnTo>
                  <a:pt x="1455420" y="1752600"/>
                </a:lnTo>
                <a:lnTo>
                  <a:pt x="1470660" y="1737360"/>
                </a:lnTo>
                <a:lnTo>
                  <a:pt x="1493520" y="1722120"/>
                </a:lnTo>
                <a:lnTo>
                  <a:pt x="1508760" y="1706880"/>
                </a:lnTo>
                <a:lnTo>
                  <a:pt x="1531620" y="1699260"/>
                </a:lnTo>
                <a:lnTo>
                  <a:pt x="1546860" y="1684020"/>
                </a:lnTo>
                <a:lnTo>
                  <a:pt x="1569720" y="1668780"/>
                </a:lnTo>
                <a:lnTo>
                  <a:pt x="1592580" y="1653540"/>
                </a:lnTo>
                <a:lnTo>
                  <a:pt x="1607820" y="1645920"/>
                </a:lnTo>
                <a:lnTo>
                  <a:pt x="1630680" y="1630680"/>
                </a:lnTo>
                <a:lnTo>
                  <a:pt x="1645920" y="1615440"/>
                </a:lnTo>
                <a:lnTo>
                  <a:pt x="1668780" y="1607820"/>
                </a:lnTo>
                <a:lnTo>
                  <a:pt x="1691640" y="1592580"/>
                </a:lnTo>
                <a:lnTo>
                  <a:pt x="1706880" y="1584960"/>
                </a:lnTo>
                <a:lnTo>
                  <a:pt x="1729740" y="1569720"/>
                </a:lnTo>
                <a:lnTo>
                  <a:pt x="1744980" y="1554480"/>
                </a:lnTo>
                <a:lnTo>
                  <a:pt x="1767840" y="1546860"/>
                </a:lnTo>
                <a:lnTo>
                  <a:pt x="1783080" y="1531620"/>
                </a:lnTo>
                <a:lnTo>
                  <a:pt x="1798320" y="1524000"/>
                </a:lnTo>
                <a:lnTo>
                  <a:pt x="1821180" y="1516380"/>
                </a:lnTo>
                <a:lnTo>
                  <a:pt x="1836420" y="1501140"/>
                </a:lnTo>
                <a:lnTo>
                  <a:pt x="1851660" y="1485900"/>
                </a:lnTo>
                <a:lnTo>
                  <a:pt x="1874520" y="1478280"/>
                </a:lnTo>
                <a:lnTo>
                  <a:pt x="1889760" y="1463040"/>
                </a:lnTo>
                <a:lnTo>
                  <a:pt x="1905000" y="1455420"/>
                </a:lnTo>
                <a:lnTo>
                  <a:pt x="1927860" y="1447800"/>
                </a:lnTo>
                <a:lnTo>
                  <a:pt x="1943100" y="1432560"/>
                </a:lnTo>
                <a:lnTo>
                  <a:pt x="1958340" y="1424940"/>
                </a:lnTo>
                <a:lnTo>
                  <a:pt x="1981200" y="1409700"/>
                </a:lnTo>
                <a:lnTo>
                  <a:pt x="1996440" y="1402080"/>
                </a:lnTo>
                <a:lnTo>
                  <a:pt x="2011680" y="1394460"/>
                </a:lnTo>
                <a:lnTo>
                  <a:pt x="2026920" y="1386840"/>
                </a:lnTo>
                <a:lnTo>
                  <a:pt x="2042160" y="1371600"/>
                </a:lnTo>
                <a:lnTo>
                  <a:pt x="2057400" y="1363980"/>
                </a:lnTo>
                <a:lnTo>
                  <a:pt x="2072640" y="1348740"/>
                </a:lnTo>
                <a:lnTo>
                  <a:pt x="2087880" y="1341120"/>
                </a:lnTo>
                <a:lnTo>
                  <a:pt x="2103120" y="1333500"/>
                </a:lnTo>
                <a:lnTo>
                  <a:pt x="2118360" y="1318260"/>
                </a:lnTo>
                <a:lnTo>
                  <a:pt x="2133600" y="1310640"/>
                </a:lnTo>
                <a:lnTo>
                  <a:pt x="2148840" y="1303020"/>
                </a:lnTo>
                <a:lnTo>
                  <a:pt x="2164080" y="1287780"/>
                </a:lnTo>
                <a:lnTo>
                  <a:pt x="2179320" y="1280160"/>
                </a:lnTo>
                <a:lnTo>
                  <a:pt x="2194560" y="1272540"/>
                </a:lnTo>
                <a:lnTo>
                  <a:pt x="2209800" y="1257300"/>
                </a:lnTo>
                <a:lnTo>
                  <a:pt x="2225040" y="1249680"/>
                </a:lnTo>
                <a:lnTo>
                  <a:pt x="2240280" y="1242060"/>
                </a:lnTo>
                <a:lnTo>
                  <a:pt x="2255520" y="1234440"/>
                </a:lnTo>
                <a:lnTo>
                  <a:pt x="2270760" y="1219200"/>
                </a:lnTo>
                <a:lnTo>
                  <a:pt x="2286000" y="1211580"/>
                </a:lnTo>
                <a:lnTo>
                  <a:pt x="2301240" y="1203960"/>
                </a:lnTo>
                <a:lnTo>
                  <a:pt x="2316480" y="1188720"/>
                </a:lnTo>
                <a:lnTo>
                  <a:pt x="2331720" y="1181100"/>
                </a:lnTo>
                <a:lnTo>
                  <a:pt x="2354580" y="1173480"/>
                </a:lnTo>
                <a:lnTo>
                  <a:pt x="2369820" y="1165860"/>
                </a:lnTo>
                <a:lnTo>
                  <a:pt x="2385060" y="1150620"/>
                </a:lnTo>
                <a:lnTo>
                  <a:pt x="2400300" y="1143000"/>
                </a:lnTo>
                <a:lnTo>
                  <a:pt x="2415540" y="1135380"/>
                </a:lnTo>
                <a:lnTo>
                  <a:pt x="2430780" y="1120140"/>
                </a:lnTo>
                <a:lnTo>
                  <a:pt x="2446020" y="1112520"/>
                </a:lnTo>
                <a:lnTo>
                  <a:pt x="2468880" y="1104900"/>
                </a:lnTo>
                <a:lnTo>
                  <a:pt x="2484120" y="1089660"/>
                </a:lnTo>
                <a:lnTo>
                  <a:pt x="2499360" y="1082040"/>
                </a:lnTo>
                <a:lnTo>
                  <a:pt x="2514600" y="1074420"/>
                </a:lnTo>
                <a:lnTo>
                  <a:pt x="2529840" y="1059180"/>
                </a:lnTo>
                <a:lnTo>
                  <a:pt x="2545080" y="1051560"/>
                </a:lnTo>
                <a:lnTo>
                  <a:pt x="2567940" y="1036320"/>
                </a:lnTo>
                <a:lnTo>
                  <a:pt x="2583180" y="1028700"/>
                </a:lnTo>
                <a:lnTo>
                  <a:pt x="2606040" y="1013460"/>
                </a:lnTo>
                <a:lnTo>
                  <a:pt x="2621280" y="1005840"/>
                </a:lnTo>
                <a:lnTo>
                  <a:pt x="2636520" y="990600"/>
                </a:lnTo>
                <a:lnTo>
                  <a:pt x="2659380" y="975360"/>
                </a:lnTo>
                <a:lnTo>
                  <a:pt x="2674620" y="967740"/>
                </a:lnTo>
                <a:lnTo>
                  <a:pt x="2689860" y="952500"/>
                </a:lnTo>
                <a:lnTo>
                  <a:pt x="2712720" y="944880"/>
                </a:lnTo>
                <a:lnTo>
                  <a:pt x="2727960" y="929640"/>
                </a:lnTo>
                <a:lnTo>
                  <a:pt x="2750820" y="914400"/>
                </a:lnTo>
                <a:lnTo>
                  <a:pt x="2766060" y="906780"/>
                </a:lnTo>
                <a:lnTo>
                  <a:pt x="2788920" y="891540"/>
                </a:lnTo>
                <a:lnTo>
                  <a:pt x="2811780" y="883920"/>
                </a:lnTo>
                <a:lnTo>
                  <a:pt x="2827020" y="868680"/>
                </a:lnTo>
                <a:lnTo>
                  <a:pt x="2842260" y="853440"/>
                </a:lnTo>
                <a:lnTo>
                  <a:pt x="2865120" y="845820"/>
                </a:lnTo>
                <a:lnTo>
                  <a:pt x="2880360" y="830580"/>
                </a:lnTo>
                <a:lnTo>
                  <a:pt x="2903220" y="815340"/>
                </a:lnTo>
                <a:lnTo>
                  <a:pt x="2918460" y="800100"/>
                </a:lnTo>
                <a:lnTo>
                  <a:pt x="2933700" y="784860"/>
                </a:lnTo>
                <a:lnTo>
                  <a:pt x="2948940" y="777240"/>
                </a:lnTo>
                <a:lnTo>
                  <a:pt x="2971800" y="762000"/>
                </a:lnTo>
                <a:lnTo>
                  <a:pt x="2987040" y="746760"/>
                </a:lnTo>
                <a:lnTo>
                  <a:pt x="3002280" y="731520"/>
                </a:lnTo>
                <a:lnTo>
                  <a:pt x="3017520" y="723900"/>
                </a:lnTo>
                <a:lnTo>
                  <a:pt x="3032760" y="708660"/>
                </a:lnTo>
                <a:lnTo>
                  <a:pt x="3055620" y="701040"/>
                </a:lnTo>
                <a:lnTo>
                  <a:pt x="3070860" y="685800"/>
                </a:lnTo>
                <a:lnTo>
                  <a:pt x="3086100" y="678180"/>
                </a:lnTo>
                <a:lnTo>
                  <a:pt x="3101340" y="662940"/>
                </a:lnTo>
                <a:lnTo>
                  <a:pt x="3116580" y="647700"/>
                </a:lnTo>
                <a:lnTo>
                  <a:pt x="3131820" y="640080"/>
                </a:lnTo>
                <a:lnTo>
                  <a:pt x="3147060" y="624840"/>
                </a:lnTo>
                <a:lnTo>
                  <a:pt x="3162300" y="617220"/>
                </a:lnTo>
                <a:lnTo>
                  <a:pt x="3177540" y="609600"/>
                </a:lnTo>
                <a:lnTo>
                  <a:pt x="3192780" y="594360"/>
                </a:lnTo>
                <a:lnTo>
                  <a:pt x="3208020" y="586740"/>
                </a:lnTo>
                <a:lnTo>
                  <a:pt x="3215640" y="571500"/>
                </a:lnTo>
                <a:lnTo>
                  <a:pt x="3230880" y="563880"/>
                </a:lnTo>
                <a:lnTo>
                  <a:pt x="3246120" y="556260"/>
                </a:lnTo>
                <a:lnTo>
                  <a:pt x="3253740" y="548640"/>
                </a:lnTo>
                <a:lnTo>
                  <a:pt x="3268980" y="533400"/>
                </a:lnTo>
                <a:lnTo>
                  <a:pt x="3276600" y="525780"/>
                </a:lnTo>
                <a:lnTo>
                  <a:pt x="3291840" y="518160"/>
                </a:lnTo>
                <a:lnTo>
                  <a:pt x="3299460" y="510540"/>
                </a:lnTo>
                <a:lnTo>
                  <a:pt x="3314700" y="502920"/>
                </a:lnTo>
                <a:lnTo>
                  <a:pt x="3322320" y="495300"/>
                </a:lnTo>
                <a:lnTo>
                  <a:pt x="3329940" y="495300"/>
                </a:lnTo>
                <a:lnTo>
                  <a:pt x="3345180" y="487680"/>
                </a:lnTo>
                <a:lnTo>
                  <a:pt x="3352800" y="480060"/>
                </a:lnTo>
                <a:lnTo>
                  <a:pt x="3360420" y="472440"/>
                </a:lnTo>
                <a:lnTo>
                  <a:pt x="3368040" y="464820"/>
                </a:lnTo>
                <a:lnTo>
                  <a:pt x="3375660" y="457200"/>
                </a:lnTo>
                <a:lnTo>
                  <a:pt x="3383280" y="457200"/>
                </a:lnTo>
                <a:lnTo>
                  <a:pt x="3398520" y="449580"/>
                </a:lnTo>
                <a:lnTo>
                  <a:pt x="3406140" y="449580"/>
                </a:lnTo>
                <a:lnTo>
                  <a:pt x="3406140" y="441960"/>
                </a:lnTo>
                <a:lnTo>
                  <a:pt x="3413760" y="434340"/>
                </a:lnTo>
                <a:lnTo>
                  <a:pt x="3421380" y="434340"/>
                </a:lnTo>
                <a:lnTo>
                  <a:pt x="3421380" y="434340"/>
                </a:lnTo>
                <a:lnTo>
                  <a:pt x="3429000" y="426720"/>
                </a:lnTo>
                <a:lnTo>
                  <a:pt x="3429000" y="426720"/>
                </a:lnTo>
                <a:lnTo>
                  <a:pt x="3436620" y="419100"/>
                </a:lnTo>
                <a:lnTo>
                  <a:pt x="3444240" y="419100"/>
                </a:lnTo>
                <a:lnTo>
                  <a:pt x="3444240" y="411480"/>
                </a:lnTo>
                <a:lnTo>
                  <a:pt x="3444240" y="411480"/>
                </a:lnTo>
                <a:lnTo>
                  <a:pt x="3451860" y="411480"/>
                </a:lnTo>
                <a:lnTo>
                  <a:pt x="3451860" y="411480"/>
                </a:lnTo>
                <a:lnTo>
                  <a:pt x="3451860" y="411480"/>
                </a:lnTo>
                <a:lnTo>
                  <a:pt x="3451860" y="411480"/>
                </a:lnTo>
                <a:lnTo>
                  <a:pt x="3459480" y="411480"/>
                </a:lnTo>
                <a:lnTo>
                  <a:pt x="3459480" y="411480"/>
                </a:lnTo>
                <a:lnTo>
                  <a:pt x="3459480" y="411480"/>
                </a:lnTo>
                <a:lnTo>
                  <a:pt x="3459480" y="411480"/>
                </a:lnTo>
                <a:lnTo>
                  <a:pt x="3459480" y="411480"/>
                </a:lnTo>
                <a:lnTo>
                  <a:pt x="3459480" y="411480"/>
                </a:lnTo>
                <a:lnTo>
                  <a:pt x="3459480" y="411480"/>
                </a:lnTo>
                <a:lnTo>
                  <a:pt x="3459480" y="411480"/>
                </a:lnTo>
                <a:lnTo>
                  <a:pt x="3451860" y="411480"/>
                </a:lnTo>
                <a:lnTo>
                  <a:pt x="3451860" y="419100"/>
                </a:lnTo>
                <a:lnTo>
                  <a:pt x="3451860" y="419100"/>
                </a:lnTo>
                <a:lnTo>
                  <a:pt x="3451860" y="419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2"/>
          <p:cNvSpPr/>
          <p:nvPr/>
        </p:nvSpPr>
        <p:spPr>
          <a:xfrm>
            <a:off x="7870680" y="2560680"/>
            <a:ext cx="84240" cy="22320"/>
          </a:xfrm>
          <a:custGeom>
            <a:avLst/>
            <a:gdLst>
              <a:gd name="textAreaLeft" fmla="*/ 0 w 84240"/>
              <a:gd name="textAreaRight" fmla="*/ 84600 w 842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3820" h="22861">
                <a:moveTo>
                  <a:pt x="0" y="22860"/>
                </a:moveTo>
                <a:lnTo>
                  <a:pt x="0" y="22860"/>
                </a:lnTo>
                <a:lnTo>
                  <a:pt x="0" y="22860"/>
                </a:lnTo>
                <a:lnTo>
                  <a:pt x="7619" y="22860"/>
                </a:lnTo>
                <a:lnTo>
                  <a:pt x="7619" y="22860"/>
                </a:lnTo>
                <a:lnTo>
                  <a:pt x="7619" y="15240"/>
                </a:lnTo>
                <a:lnTo>
                  <a:pt x="15239" y="15240"/>
                </a:lnTo>
                <a:lnTo>
                  <a:pt x="22859" y="15240"/>
                </a:lnTo>
                <a:lnTo>
                  <a:pt x="22859" y="15240"/>
                </a:lnTo>
                <a:lnTo>
                  <a:pt x="38100" y="15240"/>
                </a:lnTo>
                <a:lnTo>
                  <a:pt x="45719" y="7620"/>
                </a:lnTo>
                <a:lnTo>
                  <a:pt x="45719" y="7620"/>
                </a:lnTo>
                <a:lnTo>
                  <a:pt x="53339" y="7620"/>
                </a:lnTo>
                <a:lnTo>
                  <a:pt x="60959" y="7620"/>
                </a:lnTo>
                <a:lnTo>
                  <a:pt x="60959" y="0"/>
                </a:lnTo>
                <a:lnTo>
                  <a:pt x="68579" y="0"/>
                </a:lnTo>
                <a:lnTo>
                  <a:pt x="76200" y="0"/>
                </a:lnTo>
                <a:lnTo>
                  <a:pt x="83819" y="0"/>
                </a:lnTo>
                <a:lnTo>
                  <a:pt x="83819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7916760" y="2454120"/>
            <a:ext cx="290520" cy="144720"/>
          </a:xfrm>
          <a:custGeom>
            <a:avLst/>
            <a:gdLst>
              <a:gd name="textAreaLeft" fmla="*/ 0 w 290520"/>
              <a:gd name="textAreaRight" fmla="*/ 290880 w 2905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89561" h="144781">
                <a:moveTo>
                  <a:pt x="15240" y="144780"/>
                </a:moveTo>
                <a:lnTo>
                  <a:pt x="7620" y="137160"/>
                </a:lnTo>
                <a:lnTo>
                  <a:pt x="7620" y="137160"/>
                </a:lnTo>
                <a:lnTo>
                  <a:pt x="7620" y="129540"/>
                </a:lnTo>
                <a:lnTo>
                  <a:pt x="0" y="129540"/>
                </a:lnTo>
                <a:lnTo>
                  <a:pt x="0" y="121920"/>
                </a:lnTo>
                <a:lnTo>
                  <a:pt x="0" y="114300"/>
                </a:lnTo>
                <a:lnTo>
                  <a:pt x="0" y="114300"/>
                </a:lnTo>
                <a:lnTo>
                  <a:pt x="0" y="106680"/>
                </a:lnTo>
                <a:lnTo>
                  <a:pt x="0" y="99060"/>
                </a:lnTo>
                <a:lnTo>
                  <a:pt x="0" y="99060"/>
                </a:lnTo>
                <a:lnTo>
                  <a:pt x="0" y="91440"/>
                </a:lnTo>
                <a:lnTo>
                  <a:pt x="7620" y="83820"/>
                </a:lnTo>
                <a:lnTo>
                  <a:pt x="7620" y="76200"/>
                </a:lnTo>
                <a:lnTo>
                  <a:pt x="15240" y="68580"/>
                </a:lnTo>
                <a:lnTo>
                  <a:pt x="15240" y="60960"/>
                </a:lnTo>
                <a:lnTo>
                  <a:pt x="22860" y="45720"/>
                </a:lnTo>
                <a:lnTo>
                  <a:pt x="30481" y="45720"/>
                </a:lnTo>
                <a:lnTo>
                  <a:pt x="38100" y="30480"/>
                </a:lnTo>
                <a:lnTo>
                  <a:pt x="45720" y="30480"/>
                </a:lnTo>
                <a:lnTo>
                  <a:pt x="53340" y="22860"/>
                </a:lnTo>
                <a:lnTo>
                  <a:pt x="68581" y="15240"/>
                </a:lnTo>
                <a:lnTo>
                  <a:pt x="83820" y="7620"/>
                </a:lnTo>
                <a:lnTo>
                  <a:pt x="99060" y="0"/>
                </a:lnTo>
                <a:lnTo>
                  <a:pt x="114300" y="0"/>
                </a:lnTo>
                <a:lnTo>
                  <a:pt x="129540" y="0"/>
                </a:lnTo>
                <a:lnTo>
                  <a:pt x="144781" y="0"/>
                </a:lnTo>
                <a:lnTo>
                  <a:pt x="160020" y="0"/>
                </a:lnTo>
                <a:lnTo>
                  <a:pt x="182881" y="0"/>
                </a:lnTo>
                <a:lnTo>
                  <a:pt x="198120" y="0"/>
                </a:lnTo>
                <a:lnTo>
                  <a:pt x="213360" y="7620"/>
                </a:lnTo>
                <a:lnTo>
                  <a:pt x="220981" y="7620"/>
                </a:lnTo>
                <a:lnTo>
                  <a:pt x="236220" y="15240"/>
                </a:lnTo>
                <a:lnTo>
                  <a:pt x="251460" y="22860"/>
                </a:lnTo>
                <a:lnTo>
                  <a:pt x="259081" y="30480"/>
                </a:lnTo>
                <a:lnTo>
                  <a:pt x="266700" y="30480"/>
                </a:lnTo>
                <a:lnTo>
                  <a:pt x="274320" y="38100"/>
                </a:lnTo>
                <a:lnTo>
                  <a:pt x="281940" y="45720"/>
                </a:lnTo>
                <a:lnTo>
                  <a:pt x="281940" y="53340"/>
                </a:lnTo>
                <a:lnTo>
                  <a:pt x="289560" y="60960"/>
                </a:lnTo>
                <a:lnTo>
                  <a:pt x="289560" y="68580"/>
                </a:lnTo>
                <a:lnTo>
                  <a:pt x="289560" y="76200"/>
                </a:lnTo>
                <a:lnTo>
                  <a:pt x="289560" y="83820"/>
                </a:lnTo>
                <a:lnTo>
                  <a:pt x="289560" y="83820"/>
                </a:lnTo>
                <a:lnTo>
                  <a:pt x="289560" y="91440"/>
                </a:lnTo>
                <a:lnTo>
                  <a:pt x="281940" y="99060"/>
                </a:lnTo>
                <a:lnTo>
                  <a:pt x="281940" y="9906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"/>
          <p:cNvSpPr/>
          <p:nvPr/>
        </p:nvSpPr>
        <p:spPr>
          <a:xfrm>
            <a:off x="7916760" y="2438280"/>
            <a:ext cx="701640" cy="244440"/>
          </a:xfrm>
          <a:custGeom>
            <a:avLst/>
            <a:gdLst>
              <a:gd name="textAreaLeft" fmla="*/ 0 w 701640"/>
              <a:gd name="textAreaRight" fmla="*/ 702000 w 701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701041" h="243841">
                <a:moveTo>
                  <a:pt x="0" y="144780"/>
                </a:moveTo>
                <a:lnTo>
                  <a:pt x="0" y="144780"/>
                </a:lnTo>
                <a:lnTo>
                  <a:pt x="0" y="137160"/>
                </a:lnTo>
                <a:lnTo>
                  <a:pt x="0" y="129540"/>
                </a:lnTo>
                <a:lnTo>
                  <a:pt x="7620" y="129540"/>
                </a:lnTo>
                <a:lnTo>
                  <a:pt x="15240" y="121920"/>
                </a:lnTo>
                <a:lnTo>
                  <a:pt x="22860" y="121920"/>
                </a:lnTo>
                <a:lnTo>
                  <a:pt x="30481" y="114300"/>
                </a:lnTo>
                <a:lnTo>
                  <a:pt x="38100" y="114300"/>
                </a:lnTo>
                <a:lnTo>
                  <a:pt x="45720" y="106680"/>
                </a:lnTo>
                <a:lnTo>
                  <a:pt x="60960" y="99060"/>
                </a:lnTo>
                <a:lnTo>
                  <a:pt x="68581" y="91440"/>
                </a:lnTo>
                <a:lnTo>
                  <a:pt x="83820" y="83820"/>
                </a:lnTo>
                <a:lnTo>
                  <a:pt x="99060" y="76200"/>
                </a:lnTo>
                <a:lnTo>
                  <a:pt x="106681" y="76200"/>
                </a:lnTo>
                <a:lnTo>
                  <a:pt x="121920" y="60960"/>
                </a:lnTo>
                <a:lnTo>
                  <a:pt x="137160" y="60960"/>
                </a:lnTo>
                <a:lnTo>
                  <a:pt x="144781" y="53340"/>
                </a:lnTo>
                <a:lnTo>
                  <a:pt x="160020" y="45720"/>
                </a:lnTo>
                <a:lnTo>
                  <a:pt x="167640" y="38100"/>
                </a:lnTo>
                <a:lnTo>
                  <a:pt x="182881" y="30480"/>
                </a:lnTo>
                <a:lnTo>
                  <a:pt x="198120" y="22860"/>
                </a:lnTo>
                <a:lnTo>
                  <a:pt x="205740" y="15240"/>
                </a:lnTo>
                <a:lnTo>
                  <a:pt x="220981" y="15240"/>
                </a:lnTo>
                <a:lnTo>
                  <a:pt x="236220" y="7620"/>
                </a:lnTo>
                <a:lnTo>
                  <a:pt x="251460" y="7620"/>
                </a:lnTo>
                <a:lnTo>
                  <a:pt x="266700" y="0"/>
                </a:lnTo>
                <a:lnTo>
                  <a:pt x="281940" y="0"/>
                </a:lnTo>
                <a:lnTo>
                  <a:pt x="297181" y="0"/>
                </a:lnTo>
                <a:lnTo>
                  <a:pt x="312420" y="0"/>
                </a:lnTo>
                <a:lnTo>
                  <a:pt x="327660" y="0"/>
                </a:lnTo>
                <a:lnTo>
                  <a:pt x="342900" y="0"/>
                </a:lnTo>
                <a:lnTo>
                  <a:pt x="358140" y="7620"/>
                </a:lnTo>
                <a:lnTo>
                  <a:pt x="373381" y="7620"/>
                </a:lnTo>
                <a:lnTo>
                  <a:pt x="388620" y="7620"/>
                </a:lnTo>
                <a:lnTo>
                  <a:pt x="403860" y="15240"/>
                </a:lnTo>
                <a:lnTo>
                  <a:pt x="419100" y="15240"/>
                </a:lnTo>
                <a:lnTo>
                  <a:pt x="434340" y="22860"/>
                </a:lnTo>
                <a:lnTo>
                  <a:pt x="449581" y="30480"/>
                </a:lnTo>
                <a:lnTo>
                  <a:pt x="464820" y="38100"/>
                </a:lnTo>
                <a:lnTo>
                  <a:pt x="480060" y="45720"/>
                </a:lnTo>
                <a:lnTo>
                  <a:pt x="495300" y="45720"/>
                </a:lnTo>
                <a:lnTo>
                  <a:pt x="502920" y="53340"/>
                </a:lnTo>
                <a:lnTo>
                  <a:pt x="525781" y="60960"/>
                </a:lnTo>
                <a:lnTo>
                  <a:pt x="533400" y="68580"/>
                </a:lnTo>
                <a:lnTo>
                  <a:pt x="548640" y="76200"/>
                </a:lnTo>
                <a:lnTo>
                  <a:pt x="563881" y="76200"/>
                </a:lnTo>
                <a:lnTo>
                  <a:pt x="571500" y="83820"/>
                </a:lnTo>
                <a:lnTo>
                  <a:pt x="586740" y="91440"/>
                </a:lnTo>
                <a:lnTo>
                  <a:pt x="594360" y="99060"/>
                </a:lnTo>
                <a:lnTo>
                  <a:pt x="601981" y="106680"/>
                </a:lnTo>
                <a:lnTo>
                  <a:pt x="617220" y="114300"/>
                </a:lnTo>
                <a:lnTo>
                  <a:pt x="624840" y="121920"/>
                </a:lnTo>
                <a:lnTo>
                  <a:pt x="632460" y="129540"/>
                </a:lnTo>
                <a:lnTo>
                  <a:pt x="640081" y="137160"/>
                </a:lnTo>
                <a:lnTo>
                  <a:pt x="647700" y="152400"/>
                </a:lnTo>
                <a:lnTo>
                  <a:pt x="655320" y="160020"/>
                </a:lnTo>
                <a:lnTo>
                  <a:pt x="662940" y="167640"/>
                </a:lnTo>
                <a:lnTo>
                  <a:pt x="670560" y="175260"/>
                </a:lnTo>
                <a:lnTo>
                  <a:pt x="678181" y="182880"/>
                </a:lnTo>
                <a:lnTo>
                  <a:pt x="685800" y="198120"/>
                </a:lnTo>
                <a:lnTo>
                  <a:pt x="685800" y="205740"/>
                </a:lnTo>
                <a:lnTo>
                  <a:pt x="693420" y="213360"/>
                </a:lnTo>
                <a:lnTo>
                  <a:pt x="693420" y="220980"/>
                </a:lnTo>
                <a:lnTo>
                  <a:pt x="701040" y="228600"/>
                </a:lnTo>
                <a:lnTo>
                  <a:pt x="701040" y="236220"/>
                </a:lnTo>
                <a:lnTo>
                  <a:pt x="701040" y="243840"/>
                </a:lnTo>
                <a:lnTo>
                  <a:pt x="701040" y="24384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5"/>
          <p:cNvSpPr/>
          <p:nvPr/>
        </p:nvSpPr>
        <p:spPr>
          <a:xfrm>
            <a:off x="1455840" y="4343400"/>
            <a:ext cx="128520" cy="473040"/>
          </a:xfrm>
          <a:custGeom>
            <a:avLst/>
            <a:gdLst>
              <a:gd name="textAreaLeft" fmla="*/ 0 w 128520"/>
              <a:gd name="textAreaRight" fmla="*/ 128880 w 1285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29541" h="472441">
                <a:moveTo>
                  <a:pt x="0" y="0"/>
                </a:moveTo>
                <a:lnTo>
                  <a:pt x="0" y="0"/>
                </a:lnTo>
                <a:lnTo>
                  <a:pt x="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7620" y="7620"/>
                </a:lnTo>
                <a:lnTo>
                  <a:pt x="7620" y="15240"/>
                </a:lnTo>
                <a:lnTo>
                  <a:pt x="15240" y="15240"/>
                </a:lnTo>
                <a:lnTo>
                  <a:pt x="15240" y="22860"/>
                </a:lnTo>
                <a:lnTo>
                  <a:pt x="15240" y="22860"/>
                </a:lnTo>
                <a:lnTo>
                  <a:pt x="15240" y="22860"/>
                </a:lnTo>
                <a:lnTo>
                  <a:pt x="22860" y="30480"/>
                </a:lnTo>
                <a:lnTo>
                  <a:pt x="22860" y="38100"/>
                </a:lnTo>
                <a:lnTo>
                  <a:pt x="30480" y="38100"/>
                </a:lnTo>
                <a:lnTo>
                  <a:pt x="30480" y="45720"/>
                </a:lnTo>
                <a:lnTo>
                  <a:pt x="30480" y="53340"/>
                </a:lnTo>
                <a:lnTo>
                  <a:pt x="30480" y="53340"/>
                </a:lnTo>
                <a:lnTo>
                  <a:pt x="38100" y="60960"/>
                </a:lnTo>
                <a:lnTo>
                  <a:pt x="38100" y="68580"/>
                </a:lnTo>
                <a:lnTo>
                  <a:pt x="45720" y="76200"/>
                </a:lnTo>
                <a:lnTo>
                  <a:pt x="45720" y="83820"/>
                </a:lnTo>
                <a:lnTo>
                  <a:pt x="45720" y="91440"/>
                </a:lnTo>
                <a:lnTo>
                  <a:pt x="53340" y="106680"/>
                </a:lnTo>
                <a:lnTo>
                  <a:pt x="53340" y="114300"/>
                </a:lnTo>
                <a:lnTo>
                  <a:pt x="60960" y="121920"/>
                </a:lnTo>
                <a:lnTo>
                  <a:pt x="60960" y="129540"/>
                </a:lnTo>
                <a:lnTo>
                  <a:pt x="60960" y="144780"/>
                </a:lnTo>
                <a:lnTo>
                  <a:pt x="68580" y="152400"/>
                </a:lnTo>
                <a:lnTo>
                  <a:pt x="68580" y="160020"/>
                </a:lnTo>
                <a:lnTo>
                  <a:pt x="68580" y="175260"/>
                </a:lnTo>
                <a:lnTo>
                  <a:pt x="76200" y="182880"/>
                </a:lnTo>
                <a:lnTo>
                  <a:pt x="76200" y="190500"/>
                </a:lnTo>
                <a:lnTo>
                  <a:pt x="83820" y="205740"/>
                </a:lnTo>
                <a:lnTo>
                  <a:pt x="83820" y="213360"/>
                </a:lnTo>
                <a:lnTo>
                  <a:pt x="83820" y="228600"/>
                </a:lnTo>
                <a:lnTo>
                  <a:pt x="91440" y="236220"/>
                </a:lnTo>
                <a:lnTo>
                  <a:pt x="91440" y="251460"/>
                </a:lnTo>
                <a:lnTo>
                  <a:pt x="91440" y="259080"/>
                </a:lnTo>
                <a:lnTo>
                  <a:pt x="91440" y="274320"/>
                </a:lnTo>
                <a:lnTo>
                  <a:pt x="91440" y="281940"/>
                </a:lnTo>
                <a:lnTo>
                  <a:pt x="91440" y="289560"/>
                </a:lnTo>
                <a:lnTo>
                  <a:pt x="91440" y="304800"/>
                </a:lnTo>
                <a:lnTo>
                  <a:pt x="91440" y="312420"/>
                </a:lnTo>
                <a:lnTo>
                  <a:pt x="91440" y="327660"/>
                </a:lnTo>
                <a:lnTo>
                  <a:pt x="91440" y="335280"/>
                </a:lnTo>
                <a:lnTo>
                  <a:pt x="91440" y="342900"/>
                </a:lnTo>
                <a:lnTo>
                  <a:pt x="91440" y="358140"/>
                </a:lnTo>
                <a:lnTo>
                  <a:pt x="83820" y="365760"/>
                </a:lnTo>
                <a:lnTo>
                  <a:pt x="83820" y="373380"/>
                </a:lnTo>
                <a:lnTo>
                  <a:pt x="83820" y="381000"/>
                </a:lnTo>
                <a:lnTo>
                  <a:pt x="83820" y="388620"/>
                </a:lnTo>
                <a:lnTo>
                  <a:pt x="83820" y="396240"/>
                </a:lnTo>
                <a:lnTo>
                  <a:pt x="83820" y="403860"/>
                </a:lnTo>
                <a:lnTo>
                  <a:pt x="76200" y="411480"/>
                </a:lnTo>
                <a:lnTo>
                  <a:pt x="76200" y="419100"/>
                </a:lnTo>
                <a:lnTo>
                  <a:pt x="76200" y="426720"/>
                </a:lnTo>
                <a:lnTo>
                  <a:pt x="68580" y="434340"/>
                </a:lnTo>
                <a:lnTo>
                  <a:pt x="68580" y="434340"/>
                </a:lnTo>
                <a:lnTo>
                  <a:pt x="68580" y="441960"/>
                </a:lnTo>
                <a:lnTo>
                  <a:pt x="68580" y="449580"/>
                </a:lnTo>
                <a:lnTo>
                  <a:pt x="68580" y="449580"/>
                </a:lnTo>
                <a:lnTo>
                  <a:pt x="68580" y="457200"/>
                </a:lnTo>
                <a:lnTo>
                  <a:pt x="68580" y="457200"/>
                </a:lnTo>
                <a:lnTo>
                  <a:pt x="68580" y="464820"/>
                </a:lnTo>
                <a:lnTo>
                  <a:pt x="68580" y="464820"/>
                </a:lnTo>
                <a:lnTo>
                  <a:pt x="60960" y="464820"/>
                </a:lnTo>
                <a:lnTo>
                  <a:pt x="60960" y="464820"/>
                </a:lnTo>
                <a:lnTo>
                  <a:pt x="60960" y="464820"/>
                </a:lnTo>
                <a:lnTo>
                  <a:pt x="60960" y="472440"/>
                </a:lnTo>
                <a:lnTo>
                  <a:pt x="60960" y="472440"/>
                </a:lnTo>
                <a:lnTo>
                  <a:pt x="60960" y="472440"/>
                </a:lnTo>
                <a:lnTo>
                  <a:pt x="60960" y="472440"/>
                </a:lnTo>
                <a:lnTo>
                  <a:pt x="60960" y="472440"/>
                </a:lnTo>
                <a:lnTo>
                  <a:pt x="60960" y="472440"/>
                </a:lnTo>
                <a:lnTo>
                  <a:pt x="60960" y="472440"/>
                </a:lnTo>
                <a:lnTo>
                  <a:pt x="60960" y="472440"/>
                </a:lnTo>
                <a:lnTo>
                  <a:pt x="60960" y="464820"/>
                </a:lnTo>
                <a:lnTo>
                  <a:pt x="60960" y="464820"/>
                </a:lnTo>
                <a:lnTo>
                  <a:pt x="68580" y="464820"/>
                </a:lnTo>
                <a:lnTo>
                  <a:pt x="68580" y="464820"/>
                </a:lnTo>
                <a:lnTo>
                  <a:pt x="68580" y="457200"/>
                </a:lnTo>
                <a:lnTo>
                  <a:pt x="68580" y="457200"/>
                </a:lnTo>
                <a:lnTo>
                  <a:pt x="68580" y="449580"/>
                </a:lnTo>
                <a:lnTo>
                  <a:pt x="76200" y="449580"/>
                </a:lnTo>
                <a:lnTo>
                  <a:pt x="76200" y="449580"/>
                </a:lnTo>
                <a:lnTo>
                  <a:pt x="76200" y="441960"/>
                </a:lnTo>
                <a:lnTo>
                  <a:pt x="83820" y="434340"/>
                </a:lnTo>
                <a:lnTo>
                  <a:pt x="83820" y="434340"/>
                </a:lnTo>
                <a:lnTo>
                  <a:pt x="91440" y="426720"/>
                </a:lnTo>
                <a:lnTo>
                  <a:pt x="91440" y="419100"/>
                </a:lnTo>
                <a:lnTo>
                  <a:pt x="91440" y="411480"/>
                </a:lnTo>
                <a:lnTo>
                  <a:pt x="99060" y="403860"/>
                </a:lnTo>
                <a:lnTo>
                  <a:pt x="99060" y="396240"/>
                </a:lnTo>
                <a:lnTo>
                  <a:pt x="99060" y="388620"/>
                </a:lnTo>
                <a:lnTo>
                  <a:pt x="106680" y="381000"/>
                </a:lnTo>
                <a:lnTo>
                  <a:pt x="106680" y="373380"/>
                </a:lnTo>
                <a:lnTo>
                  <a:pt x="106680" y="365760"/>
                </a:lnTo>
                <a:lnTo>
                  <a:pt x="114300" y="350520"/>
                </a:lnTo>
                <a:lnTo>
                  <a:pt x="114300" y="342900"/>
                </a:lnTo>
                <a:lnTo>
                  <a:pt x="121920" y="335280"/>
                </a:lnTo>
                <a:lnTo>
                  <a:pt x="121920" y="320040"/>
                </a:lnTo>
                <a:lnTo>
                  <a:pt x="121920" y="312420"/>
                </a:lnTo>
                <a:lnTo>
                  <a:pt x="129540" y="297180"/>
                </a:lnTo>
                <a:lnTo>
                  <a:pt x="129540" y="289560"/>
                </a:lnTo>
                <a:lnTo>
                  <a:pt x="129540" y="274320"/>
                </a:lnTo>
                <a:lnTo>
                  <a:pt x="129540" y="259080"/>
                </a:lnTo>
                <a:lnTo>
                  <a:pt x="129540" y="251460"/>
                </a:lnTo>
                <a:lnTo>
                  <a:pt x="129540" y="243840"/>
                </a:lnTo>
                <a:lnTo>
                  <a:pt x="129540" y="228600"/>
                </a:lnTo>
                <a:lnTo>
                  <a:pt x="129540" y="213360"/>
                </a:lnTo>
                <a:lnTo>
                  <a:pt x="129540" y="205740"/>
                </a:lnTo>
                <a:lnTo>
                  <a:pt x="121920" y="190500"/>
                </a:lnTo>
                <a:lnTo>
                  <a:pt x="121920" y="182880"/>
                </a:lnTo>
                <a:lnTo>
                  <a:pt x="121920" y="167640"/>
                </a:lnTo>
                <a:lnTo>
                  <a:pt x="114300" y="160020"/>
                </a:lnTo>
                <a:lnTo>
                  <a:pt x="114300" y="144780"/>
                </a:lnTo>
                <a:lnTo>
                  <a:pt x="106680" y="137160"/>
                </a:lnTo>
                <a:lnTo>
                  <a:pt x="106680" y="129540"/>
                </a:lnTo>
                <a:lnTo>
                  <a:pt x="99060" y="121920"/>
                </a:lnTo>
                <a:lnTo>
                  <a:pt x="99060" y="106680"/>
                </a:lnTo>
                <a:lnTo>
                  <a:pt x="91440" y="99060"/>
                </a:lnTo>
                <a:lnTo>
                  <a:pt x="83820" y="91440"/>
                </a:lnTo>
                <a:lnTo>
                  <a:pt x="83820" y="83820"/>
                </a:lnTo>
                <a:lnTo>
                  <a:pt x="76200" y="76200"/>
                </a:lnTo>
                <a:lnTo>
                  <a:pt x="76200" y="68580"/>
                </a:lnTo>
                <a:lnTo>
                  <a:pt x="68580" y="60960"/>
                </a:lnTo>
                <a:lnTo>
                  <a:pt x="60960" y="53340"/>
                </a:lnTo>
                <a:lnTo>
                  <a:pt x="60960" y="45720"/>
                </a:lnTo>
                <a:lnTo>
                  <a:pt x="53340" y="38100"/>
                </a:lnTo>
                <a:lnTo>
                  <a:pt x="53340" y="30480"/>
                </a:lnTo>
                <a:lnTo>
                  <a:pt x="45720" y="22860"/>
                </a:lnTo>
                <a:lnTo>
                  <a:pt x="45720" y="22860"/>
                </a:lnTo>
                <a:lnTo>
                  <a:pt x="45720" y="15240"/>
                </a:lnTo>
                <a:lnTo>
                  <a:pt x="38100" y="15240"/>
                </a:lnTo>
                <a:lnTo>
                  <a:pt x="38100" y="7620"/>
                </a:lnTo>
                <a:lnTo>
                  <a:pt x="38100" y="7620"/>
                </a:lnTo>
                <a:lnTo>
                  <a:pt x="30480" y="7620"/>
                </a:lnTo>
                <a:lnTo>
                  <a:pt x="30480" y="762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0"/>
                </a:lnTo>
                <a:lnTo>
                  <a:pt x="30480" y="7620"/>
                </a:lnTo>
                <a:lnTo>
                  <a:pt x="30480" y="7620"/>
                </a:lnTo>
                <a:lnTo>
                  <a:pt x="30480" y="7620"/>
                </a:lnTo>
                <a:lnTo>
                  <a:pt x="38100" y="15240"/>
                </a:lnTo>
                <a:lnTo>
                  <a:pt x="38100" y="15240"/>
                </a:lnTo>
                <a:lnTo>
                  <a:pt x="38100" y="22860"/>
                </a:lnTo>
                <a:lnTo>
                  <a:pt x="38100" y="30480"/>
                </a:lnTo>
                <a:lnTo>
                  <a:pt x="45720" y="38100"/>
                </a:lnTo>
                <a:lnTo>
                  <a:pt x="45720" y="38100"/>
                </a:lnTo>
                <a:lnTo>
                  <a:pt x="53340" y="53340"/>
                </a:lnTo>
                <a:lnTo>
                  <a:pt x="53340" y="60960"/>
                </a:lnTo>
                <a:lnTo>
                  <a:pt x="60960" y="68580"/>
                </a:lnTo>
                <a:lnTo>
                  <a:pt x="60960" y="83820"/>
                </a:lnTo>
                <a:lnTo>
                  <a:pt x="68580" y="91440"/>
                </a:lnTo>
                <a:lnTo>
                  <a:pt x="68580" y="99060"/>
                </a:lnTo>
                <a:lnTo>
                  <a:pt x="76200" y="114300"/>
                </a:lnTo>
                <a:lnTo>
                  <a:pt x="83820" y="129540"/>
                </a:lnTo>
                <a:lnTo>
                  <a:pt x="91440" y="137160"/>
                </a:lnTo>
                <a:lnTo>
                  <a:pt x="91440" y="152400"/>
                </a:lnTo>
                <a:lnTo>
                  <a:pt x="99060" y="160020"/>
                </a:lnTo>
                <a:lnTo>
                  <a:pt x="99060" y="175260"/>
                </a:lnTo>
                <a:lnTo>
                  <a:pt x="106680" y="190500"/>
                </a:lnTo>
                <a:lnTo>
                  <a:pt x="106680" y="205740"/>
                </a:lnTo>
                <a:lnTo>
                  <a:pt x="106680" y="213360"/>
                </a:lnTo>
                <a:lnTo>
                  <a:pt x="114300" y="228600"/>
                </a:lnTo>
                <a:lnTo>
                  <a:pt x="114300" y="243840"/>
                </a:lnTo>
                <a:lnTo>
                  <a:pt x="114300" y="259080"/>
                </a:lnTo>
                <a:lnTo>
                  <a:pt x="114300" y="266700"/>
                </a:lnTo>
                <a:lnTo>
                  <a:pt x="114300" y="274320"/>
                </a:lnTo>
                <a:lnTo>
                  <a:pt x="114300" y="289560"/>
                </a:lnTo>
                <a:lnTo>
                  <a:pt x="114300" y="297180"/>
                </a:lnTo>
                <a:lnTo>
                  <a:pt x="114300" y="312420"/>
                </a:lnTo>
                <a:lnTo>
                  <a:pt x="114300" y="320040"/>
                </a:lnTo>
                <a:lnTo>
                  <a:pt x="114300" y="327660"/>
                </a:lnTo>
                <a:lnTo>
                  <a:pt x="106680" y="342900"/>
                </a:lnTo>
                <a:lnTo>
                  <a:pt x="106680" y="350520"/>
                </a:lnTo>
                <a:lnTo>
                  <a:pt x="106680" y="350520"/>
                </a:lnTo>
                <a:lnTo>
                  <a:pt x="99060" y="365760"/>
                </a:lnTo>
                <a:lnTo>
                  <a:pt x="99060" y="365760"/>
                </a:lnTo>
                <a:lnTo>
                  <a:pt x="99060" y="373380"/>
                </a:lnTo>
                <a:lnTo>
                  <a:pt x="99060" y="381000"/>
                </a:lnTo>
                <a:lnTo>
                  <a:pt x="91440" y="381000"/>
                </a:lnTo>
                <a:lnTo>
                  <a:pt x="91440" y="388620"/>
                </a:lnTo>
                <a:lnTo>
                  <a:pt x="91440" y="388620"/>
                </a:lnTo>
                <a:lnTo>
                  <a:pt x="91440" y="396240"/>
                </a:lnTo>
                <a:lnTo>
                  <a:pt x="83820" y="396240"/>
                </a:lnTo>
                <a:lnTo>
                  <a:pt x="83820" y="39624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403860"/>
                </a:lnTo>
                <a:lnTo>
                  <a:pt x="83820" y="396240"/>
                </a:lnTo>
                <a:lnTo>
                  <a:pt x="91440" y="396240"/>
                </a:lnTo>
                <a:lnTo>
                  <a:pt x="91440" y="3962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6"/>
          <p:cNvSpPr/>
          <p:nvPr/>
        </p:nvSpPr>
        <p:spPr>
          <a:xfrm>
            <a:off x="1943280" y="4038480"/>
            <a:ext cx="944280" cy="701640"/>
          </a:xfrm>
          <a:custGeom>
            <a:avLst/>
            <a:gdLst>
              <a:gd name="textAreaLeft" fmla="*/ 0 w 944280"/>
              <a:gd name="textAreaRight" fmla="*/ 944640 w 94428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944881" h="701041">
                <a:moveTo>
                  <a:pt x="0" y="0"/>
                </a:moveTo>
                <a:lnTo>
                  <a:pt x="0" y="7620"/>
                </a:lnTo>
                <a:lnTo>
                  <a:pt x="0" y="7620"/>
                </a:lnTo>
                <a:lnTo>
                  <a:pt x="7620" y="15240"/>
                </a:lnTo>
                <a:lnTo>
                  <a:pt x="7620" y="22860"/>
                </a:lnTo>
                <a:lnTo>
                  <a:pt x="7620" y="30480"/>
                </a:lnTo>
                <a:lnTo>
                  <a:pt x="15240" y="38100"/>
                </a:lnTo>
                <a:lnTo>
                  <a:pt x="15240" y="45720"/>
                </a:lnTo>
                <a:lnTo>
                  <a:pt x="22860" y="53340"/>
                </a:lnTo>
                <a:lnTo>
                  <a:pt x="30480" y="60960"/>
                </a:lnTo>
                <a:lnTo>
                  <a:pt x="38100" y="76200"/>
                </a:lnTo>
                <a:lnTo>
                  <a:pt x="38100" y="83820"/>
                </a:lnTo>
                <a:lnTo>
                  <a:pt x="45720" y="91440"/>
                </a:lnTo>
                <a:lnTo>
                  <a:pt x="53340" y="99060"/>
                </a:lnTo>
                <a:lnTo>
                  <a:pt x="60960" y="106680"/>
                </a:lnTo>
                <a:lnTo>
                  <a:pt x="68580" y="121920"/>
                </a:lnTo>
                <a:lnTo>
                  <a:pt x="68580" y="129540"/>
                </a:lnTo>
                <a:lnTo>
                  <a:pt x="83820" y="137160"/>
                </a:lnTo>
                <a:lnTo>
                  <a:pt x="91440" y="152400"/>
                </a:lnTo>
                <a:lnTo>
                  <a:pt x="99060" y="160020"/>
                </a:lnTo>
                <a:lnTo>
                  <a:pt x="106680" y="175260"/>
                </a:lnTo>
                <a:lnTo>
                  <a:pt x="114300" y="182880"/>
                </a:lnTo>
                <a:lnTo>
                  <a:pt x="121920" y="198120"/>
                </a:lnTo>
                <a:lnTo>
                  <a:pt x="137160" y="205740"/>
                </a:lnTo>
                <a:lnTo>
                  <a:pt x="144780" y="220980"/>
                </a:lnTo>
                <a:lnTo>
                  <a:pt x="160020" y="236220"/>
                </a:lnTo>
                <a:lnTo>
                  <a:pt x="167640" y="243840"/>
                </a:lnTo>
                <a:lnTo>
                  <a:pt x="182880" y="259080"/>
                </a:lnTo>
                <a:lnTo>
                  <a:pt x="198120" y="274320"/>
                </a:lnTo>
                <a:lnTo>
                  <a:pt x="205740" y="289560"/>
                </a:lnTo>
                <a:lnTo>
                  <a:pt x="220980" y="304800"/>
                </a:lnTo>
                <a:lnTo>
                  <a:pt x="236220" y="312420"/>
                </a:lnTo>
                <a:lnTo>
                  <a:pt x="251460" y="327660"/>
                </a:lnTo>
                <a:lnTo>
                  <a:pt x="266700" y="342900"/>
                </a:lnTo>
                <a:lnTo>
                  <a:pt x="289560" y="358140"/>
                </a:lnTo>
                <a:lnTo>
                  <a:pt x="304800" y="373380"/>
                </a:lnTo>
                <a:lnTo>
                  <a:pt x="320040" y="381000"/>
                </a:lnTo>
                <a:lnTo>
                  <a:pt x="335280" y="396240"/>
                </a:lnTo>
                <a:lnTo>
                  <a:pt x="358140" y="411480"/>
                </a:lnTo>
                <a:lnTo>
                  <a:pt x="381000" y="426720"/>
                </a:lnTo>
                <a:lnTo>
                  <a:pt x="403860" y="434340"/>
                </a:lnTo>
                <a:lnTo>
                  <a:pt x="426720" y="449580"/>
                </a:lnTo>
                <a:lnTo>
                  <a:pt x="441960" y="464820"/>
                </a:lnTo>
                <a:lnTo>
                  <a:pt x="464820" y="472440"/>
                </a:lnTo>
                <a:lnTo>
                  <a:pt x="487680" y="487680"/>
                </a:lnTo>
                <a:lnTo>
                  <a:pt x="510540" y="495300"/>
                </a:lnTo>
                <a:lnTo>
                  <a:pt x="533400" y="502920"/>
                </a:lnTo>
                <a:lnTo>
                  <a:pt x="556260" y="518160"/>
                </a:lnTo>
                <a:lnTo>
                  <a:pt x="579120" y="525780"/>
                </a:lnTo>
                <a:lnTo>
                  <a:pt x="601980" y="533400"/>
                </a:lnTo>
                <a:lnTo>
                  <a:pt x="624840" y="548640"/>
                </a:lnTo>
                <a:lnTo>
                  <a:pt x="647700" y="556260"/>
                </a:lnTo>
                <a:lnTo>
                  <a:pt x="670560" y="571500"/>
                </a:lnTo>
                <a:lnTo>
                  <a:pt x="693420" y="579120"/>
                </a:lnTo>
                <a:lnTo>
                  <a:pt x="716280" y="586740"/>
                </a:lnTo>
                <a:lnTo>
                  <a:pt x="739140" y="601980"/>
                </a:lnTo>
                <a:lnTo>
                  <a:pt x="762000" y="609600"/>
                </a:lnTo>
                <a:lnTo>
                  <a:pt x="784860" y="617220"/>
                </a:lnTo>
                <a:lnTo>
                  <a:pt x="807720" y="632460"/>
                </a:lnTo>
                <a:lnTo>
                  <a:pt x="830580" y="640080"/>
                </a:lnTo>
                <a:lnTo>
                  <a:pt x="853440" y="655320"/>
                </a:lnTo>
                <a:lnTo>
                  <a:pt x="876300" y="662940"/>
                </a:lnTo>
                <a:lnTo>
                  <a:pt x="891540" y="678180"/>
                </a:lnTo>
                <a:lnTo>
                  <a:pt x="914400" y="685800"/>
                </a:lnTo>
                <a:lnTo>
                  <a:pt x="944880" y="701040"/>
                </a:lnTo>
                <a:lnTo>
                  <a:pt x="944880" y="70104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7"/>
          <p:cNvSpPr/>
          <p:nvPr/>
        </p:nvSpPr>
        <p:spPr>
          <a:xfrm>
            <a:off x="3635280" y="2446200"/>
            <a:ext cx="1013040" cy="2324160"/>
          </a:xfrm>
          <a:custGeom>
            <a:avLst/>
            <a:gdLst>
              <a:gd name="textAreaLeft" fmla="*/ 0 w 1013040"/>
              <a:gd name="textAreaRight" fmla="*/ 1013400 w 1013040"/>
              <a:gd name="textAreaTop" fmla="*/ 0 h 2324160"/>
              <a:gd name="textAreaBottom" fmla="*/ 2324520 h 2324160"/>
            </a:gdLst>
            <a:ahLst/>
            <a:rect l="textAreaLeft" t="textAreaTop" r="textAreaRight" b="textAreaBottom"/>
            <a:pathLst>
              <a:path w="1013461" h="2324101">
                <a:moveTo>
                  <a:pt x="617220" y="0"/>
                </a:moveTo>
                <a:lnTo>
                  <a:pt x="617220" y="0"/>
                </a:lnTo>
                <a:lnTo>
                  <a:pt x="617220" y="0"/>
                </a:lnTo>
                <a:lnTo>
                  <a:pt x="617220" y="7620"/>
                </a:lnTo>
                <a:lnTo>
                  <a:pt x="617220" y="7620"/>
                </a:lnTo>
                <a:lnTo>
                  <a:pt x="624840" y="15240"/>
                </a:lnTo>
                <a:lnTo>
                  <a:pt x="624840" y="15240"/>
                </a:lnTo>
                <a:lnTo>
                  <a:pt x="624840" y="22860"/>
                </a:lnTo>
                <a:lnTo>
                  <a:pt x="632460" y="30480"/>
                </a:lnTo>
                <a:lnTo>
                  <a:pt x="632460" y="38100"/>
                </a:lnTo>
                <a:lnTo>
                  <a:pt x="632460" y="45720"/>
                </a:lnTo>
                <a:lnTo>
                  <a:pt x="640080" y="53340"/>
                </a:lnTo>
                <a:lnTo>
                  <a:pt x="647700" y="60960"/>
                </a:lnTo>
                <a:lnTo>
                  <a:pt x="655320" y="68580"/>
                </a:lnTo>
                <a:lnTo>
                  <a:pt x="655320" y="83820"/>
                </a:lnTo>
                <a:lnTo>
                  <a:pt x="662940" y="99060"/>
                </a:lnTo>
                <a:lnTo>
                  <a:pt x="670560" y="106680"/>
                </a:lnTo>
                <a:lnTo>
                  <a:pt x="678180" y="121920"/>
                </a:lnTo>
                <a:lnTo>
                  <a:pt x="685800" y="129540"/>
                </a:lnTo>
                <a:lnTo>
                  <a:pt x="701040" y="144780"/>
                </a:lnTo>
                <a:lnTo>
                  <a:pt x="708660" y="160020"/>
                </a:lnTo>
                <a:lnTo>
                  <a:pt x="716280" y="175260"/>
                </a:lnTo>
                <a:lnTo>
                  <a:pt x="723900" y="190500"/>
                </a:lnTo>
                <a:lnTo>
                  <a:pt x="731520" y="205740"/>
                </a:lnTo>
                <a:lnTo>
                  <a:pt x="746760" y="220980"/>
                </a:lnTo>
                <a:lnTo>
                  <a:pt x="754380" y="236220"/>
                </a:lnTo>
                <a:lnTo>
                  <a:pt x="762000" y="259080"/>
                </a:lnTo>
                <a:lnTo>
                  <a:pt x="769620" y="274320"/>
                </a:lnTo>
                <a:lnTo>
                  <a:pt x="784860" y="289560"/>
                </a:lnTo>
                <a:lnTo>
                  <a:pt x="792480" y="312420"/>
                </a:lnTo>
                <a:lnTo>
                  <a:pt x="800100" y="327660"/>
                </a:lnTo>
                <a:lnTo>
                  <a:pt x="815340" y="350520"/>
                </a:lnTo>
                <a:lnTo>
                  <a:pt x="822960" y="373380"/>
                </a:lnTo>
                <a:lnTo>
                  <a:pt x="830580" y="388620"/>
                </a:lnTo>
                <a:lnTo>
                  <a:pt x="845820" y="411480"/>
                </a:lnTo>
                <a:lnTo>
                  <a:pt x="853440" y="426720"/>
                </a:lnTo>
                <a:lnTo>
                  <a:pt x="861060" y="449580"/>
                </a:lnTo>
                <a:lnTo>
                  <a:pt x="868680" y="472440"/>
                </a:lnTo>
                <a:lnTo>
                  <a:pt x="876300" y="495300"/>
                </a:lnTo>
                <a:lnTo>
                  <a:pt x="883920" y="518160"/>
                </a:lnTo>
                <a:lnTo>
                  <a:pt x="891540" y="541020"/>
                </a:lnTo>
                <a:lnTo>
                  <a:pt x="899160" y="563880"/>
                </a:lnTo>
                <a:lnTo>
                  <a:pt x="906780" y="586740"/>
                </a:lnTo>
                <a:lnTo>
                  <a:pt x="914400" y="609600"/>
                </a:lnTo>
                <a:lnTo>
                  <a:pt x="922020" y="632460"/>
                </a:lnTo>
                <a:lnTo>
                  <a:pt x="929640" y="655320"/>
                </a:lnTo>
                <a:lnTo>
                  <a:pt x="937260" y="678180"/>
                </a:lnTo>
                <a:lnTo>
                  <a:pt x="944880" y="701040"/>
                </a:lnTo>
                <a:lnTo>
                  <a:pt x="952500" y="723900"/>
                </a:lnTo>
                <a:lnTo>
                  <a:pt x="960120" y="754380"/>
                </a:lnTo>
                <a:lnTo>
                  <a:pt x="967740" y="777240"/>
                </a:lnTo>
                <a:lnTo>
                  <a:pt x="975360" y="800100"/>
                </a:lnTo>
                <a:lnTo>
                  <a:pt x="975360" y="822960"/>
                </a:lnTo>
                <a:lnTo>
                  <a:pt x="982980" y="845820"/>
                </a:lnTo>
                <a:lnTo>
                  <a:pt x="990600" y="868680"/>
                </a:lnTo>
                <a:lnTo>
                  <a:pt x="998220" y="899160"/>
                </a:lnTo>
                <a:lnTo>
                  <a:pt x="998220" y="922020"/>
                </a:lnTo>
                <a:lnTo>
                  <a:pt x="1005840" y="944880"/>
                </a:lnTo>
                <a:lnTo>
                  <a:pt x="1005840" y="967740"/>
                </a:lnTo>
                <a:lnTo>
                  <a:pt x="1013460" y="990600"/>
                </a:lnTo>
                <a:lnTo>
                  <a:pt x="1013460" y="1013460"/>
                </a:lnTo>
                <a:lnTo>
                  <a:pt x="1013460" y="1036320"/>
                </a:lnTo>
                <a:lnTo>
                  <a:pt x="1013460" y="1066800"/>
                </a:lnTo>
                <a:lnTo>
                  <a:pt x="1013460" y="1089660"/>
                </a:lnTo>
                <a:lnTo>
                  <a:pt x="1013460" y="1112520"/>
                </a:lnTo>
                <a:lnTo>
                  <a:pt x="1013460" y="1135380"/>
                </a:lnTo>
                <a:lnTo>
                  <a:pt x="1013460" y="1158240"/>
                </a:lnTo>
                <a:lnTo>
                  <a:pt x="1013460" y="1181100"/>
                </a:lnTo>
                <a:lnTo>
                  <a:pt x="1005840" y="1211580"/>
                </a:lnTo>
                <a:lnTo>
                  <a:pt x="1005840" y="1234440"/>
                </a:lnTo>
                <a:lnTo>
                  <a:pt x="1005840" y="1257300"/>
                </a:lnTo>
                <a:lnTo>
                  <a:pt x="998220" y="1280160"/>
                </a:lnTo>
                <a:lnTo>
                  <a:pt x="998220" y="1303020"/>
                </a:lnTo>
                <a:lnTo>
                  <a:pt x="990600" y="1318260"/>
                </a:lnTo>
                <a:lnTo>
                  <a:pt x="982980" y="1341120"/>
                </a:lnTo>
                <a:lnTo>
                  <a:pt x="975360" y="1363980"/>
                </a:lnTo>
                <a:lnTo>
                  <a:pt x="975360" y="1386840"/>
                </a:lnTo>
                <a:lnTo>
                  <a:pt x="967740" y="1409700"/>
                </a:lnTo>
                <a:lnTo>
                  <a:pt x="960120" y="1432560"/>
                </a:lnTo>
                <a:lnTo>
                  <a:pt x="952500" y="1455420"/>
                </a:lnTo>
                <a:lnTo>
                  <a:pt x="944880" y="1478280"/>
                </a:lnTo>
                <a:lnTo>
                  <a:pt x="937260" y="1493520"/>
                </a:lnTo>
                <a:lnTo>
                  <a:pt x="929640" y="1516380"/>
                </a:lnTo>
                <a:lnTo>
                  <a:pt x="922020" y="1531620"/>
                </a:lnTo>
                <a:lnTo>
                  <a:pt x="914400" y="1554480"/>
                </a:lnTo>
                <a:lnTo>
                  <a:pt x="899160" y="1569720"/>
                </a:lnTo>
                <a:lnTo>
                  <a:pt x="891540" y="1592580"/>
                </a:lnTo>
                <a:lnTo>
                  <a:pt x="876300" y="1615440"/>
                </a:lnTo>
                <a:lnTo>
                  <a:pt x="868680" y="1630680"/>
                </a:lnTo>
                <a:lnTo>
                  <a:pt x="861060" y="1653540"/>
                </a:lnTo>
                <a:lnTo>
                  <a:pt x="845820" y="1668780"/>
                </a:lnTo>
                <a:lnTo>
                  <a:pt x="838200" y="1684020"/>
                </a:lnTo>
                <a:lnTo>
                  <a:pt x="822960" y="1706880"/>
                </a:lnTo>
                <a:lnTo>
                  <a:pt x="815340" y="1722120"/>
                </a:lnTo>
                <a:lnTo>
                  <a:pt x="807720" y="1737360"/>
                </a:lnTo>
                <a:lnTo>
                  <a:pt x="792480" y="1760220"/>
                </a:lnTo>
                <a:lnTo>
                  <a:pt x="777240" y="1775460"/>
                </a:lnTo>
                <a:lnTo>
                  <a:pt x="769620" y="1790700"/>
                </a:lnTo>
                <a:lnTo>
                  <a:pt x="754380" y="1805940"/>
                </a:lnTo>
                <a:lnTo>
                  <a:pt x="739140" y="1821180"/>
                </a:lnTo>
                <a:lnTo>
                  <a:pt x="723900" y="1844040"/>
                </a:lnTo>
                <a:lnTo>
                  <a:pt x="716280" y="1859280"/>
                </a:lnTo>
                <a:lnTo>
                  <a:pt x="701040" y="1874520"/>
                </a:lnTo>
                <a:lnTo>
                  <a:pt x="685800" y="1889760"/>
                </a:lnTo>
                <a:lnTo>
                  <a:pt x="670560" y="1905000"/>
                </a:lnTo>
                <a:lnTo>
                  <a:pt x="655320" y="1920240"/>
                </a:lnTo>
                <a:lnTo>
                  <a:pt x="640080" y="1935480"/>
                </a:lnTo>
                <a:lnTo>
                  <a:pt x="624840" y="1950720"/>
                </a:lnTo>
                <a:lnTo>
                  <a:pt x="609600" y="1965960"/>
                </a:lnTo>
                <a:lnTo>
                  <a:pt x="601980" y="1981200"/>
                </a:lnTo>
                <a:lnTo>
                  <a:pt x="579120" y="1996440"/>
                </a:lnTo>
                <a:lnTo>
                  <a:pt x="563880" y="2004060"/>
                </a:lnTo>
                <a:lnTo>
                  <a:pt x="548640" y="2019300"/>
                </a:lnTo>
                <a:lnTo>
                  <a:pt x="533400" y="2034540"/>
                </a:lnTo>
                <a:lnTo>
                  <a:pt x="518160" y="2049780"/>
                </a:lnTo>
                <a:lnTo>
                  <a:pt x="502920" y="2057400"/>
                </a:lnTo>
                <a:lnTo>
                  <a:pt x="487680" y="2072640"/>
                </a:lnTo>
                <a:lnTo>
                  <a:pt x="472440" y="2087880"/>
                </a:lnTo>
                <a:lnTo>
                  <a:pt x="457200" y="2095500"/>
                </a:lnTo>
                <a:lnTo>
                  <a:pt x="441960" y="2110740"/>
                </a:lnTo>
                <a:lnTo>
                  <a:pt x="426720" y="2118360"/>
                </a:lnTo>
                <a:lnTo>
                  <a:pt x="411480" y="2125980"/>
                </a:lnTo>
                <a:lnTo>
                  <a:pt x="388620" y="2141220"/>
                </a:lnTo>
                <a:lnTo>
                  <a:pt x="373380" y="2156460"/>
                </a:lnTo>
                <a:lnTo>
                  <a:pt x="358140" y="2164080"/>
                </a:lnTo>
                <a:lnTo>
                  <a:pt x="342900" y="2171700"/>
                </a:lnTo>
                <a:lnTo>
                  <a:pt x="327660" y="2179320"/>
                </a:lnTo>
                <a:lnTo>
                  <a:pt x="312420" y="2186940"/>
                </a:lnTo>
                <a:lnTo>
                  <a:pt x="297180" y="2202180"/>
                </a:lnTo>
                <a:lnTo>
                  <a:pt x="281940" y="2209800"/>
                </a:lnTo>
                <a:lnTo>
                  <a:pt x="266700" y="2217420"/>
                </a:lnTo>
                <a:lnTo>
                  <a:pt x="251460" y="2225040"/>
                </a:lnTo>
                <a:lnTo>
                  <a:pt x="236220" y="2232660"/>
                </a:lnTo>
                <a:lnTo>
                  <a:pt x="220980" y="2240280"/>
                </a:lnTo>
                <a:lnTo>
                  <a:pt x="198120" y="2247900"/>
                </a:lnTo>
                <a:lnTo>
                  <a:pt x="182880" y="2247900"/>
                </a:lnTo>
                <a:lnTo>
                  <a:pt x="167640" y="2263140"/>
                </a:lnTo>
                <a:lnTo>
                  <a:pt x="152400" y="2263140"/>
                </a:lnTo>
                <a:lnTo>
                  <a:pt x="137160" y="2270760"/>
                </a:lnTo>
                <a:lnTo>
                  <a:pt x="121920" y="2278380"/>
                </a:lnTo>
                <a:lnTo>
                  <a:pt x="114300" y="2286000"/>
                </a:lnTo>
                <a:lnTo>
                  <a:pt x="99060" y="2286000"/>
                </a:lnTo>
                <a:lnTo>
                  <a:pt x="83820" y="2293620"/>
                </a:lnTo>
                <a:lnTo>
                  <a:pt x="76200" y="2301240"/>
                </a:lnTo>
                <a:lnTo>
                  <a:pt x="60960" y="2301240"/>
                </a:lnTo>
                <a:lnTo>
                  <a:pt x="45720" y="2308860"/>
                </a:lnTo>
                <a:lnTo>
                  <a:pt x="38100" y="2308860"/>
                </a:lnTo>
                <a:lnTo>
                  <a:pt x="30480" y="2308860"/>
                </a:lnTo>
                <a:lnTo>
                  <a:pt x="22860" y="2316480"/>
                </a:lnTo>
                <a:lnTo>
                  <a:pt x="15240" y="2324100"/>
                </a:lnTo>
                <a:lnTo>
                  <a:pt x="0" y="2324100"/>
                </a:lnTo>
                <a:lnTo>
                  <a:pt x="0" y="232410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8"/>
          <p:cNvSpPr/>
          <p:nvPr/>
        </p:nvSpPr>
        <p:spPr>
          <a:xfrm>
            <a:off x="800280" y="2392200"/>
            <a:ext cx="3717720" cy="2400480"/>
          </a:xfrm>
          <a:custGeom>
            <a:avLst/>
            <a:gdLst>
              <a:gd name="textAreaLeft" fmla="*/ 0 w 3717720"/>
              <a:gd name="textAreaRight" fmla="*/ 3718080 w 3717720"/>
              <a:gd name="textAreaTop" fmla="*/ 0 h 2400480"/>
              <a:gd name="textAreaBottom" fmla="*/ 2400840 h 2400480"/>
            </a:gdLst>
            <a:ahLst/>
            <a:rect l="textAreaLeft" t="textAreaTop" r="textAreaRight" b="textAreaBottom"/>
            <a:pathLst>
              <a:path w="3718561" h="2400301">
                <a:moveTo>
                  <a:pt x="3398520" y="0"/>
                </a:moveTo>
                <a:lnTo>
                  <a:pt x="3398520" y="0"/>
                </a:lnTo>
                <a:lnTo>
                  <a:pt x="3398520" y="0"/>
                </a:lnTo>
                <a:lnTo>
                  <a:pt x="3398520" y="7620"/>
                </a:lnTo>
                <a:lnTo>
                  <a:pt x="3398520" y="7620"/>
                </a:lnTo>
                <a:lnTo>
                  <a:pt x="3398520" y="7620"/>
                </a:lnTo>
                <a:lnTo>
                  <a:pt x="3398520" y="15240"/>
                </a:lnTo>
                <a:lnTo>
                  <a:pt x="3398520" y="15240"/>
                </a:lnTo>
                <a:lnTo>
                  <a:pt x="3390900" y="15240"/>
                </a:lnTo>
                <a:lnTo>
                  <a:pt x="3390900" y="22860"/>
                </a:lnTo>
                <a:lnTo>
                  <a:pt x="3390900" y="22860"/>
                </a:lnTo>
                <a:lnTo>
                  <a:pt x="3383280" y="30480"/>
                </a:lnTo>
                <a:lnTo>
                  <a:pt x="3383280" y="30480"/>
                </a:lnTo>
                <a:lnTo>
                  <a:pt x="3383280" y="38100"/>
                </a:lnTo>
                <a:lnTo>
                  <a:pt x="3375660" y="38100"/>
                </a:lnTo>
                <a:lnTo>
                  <a:pt x="3368040" y="45720"/>
                </a:lnTo>
                <a:lnTo>
                  <a:pt x="3360420" y="53340"/>
                </a:lnTo>
                <a:lnTo>
                  <a:pt x="3360420" y="53340"/>
                </a:lnTo>
                <a:lnTo>
                  <a:pt x="3352800" y="60960"/>
                </a:lnTo>
                <a:lnTo>
                  <a:pt x="3345180" y="68580"/>
                </a:lnTo>
                <a:lnTo>
                  <a:pt x="3337560" y="76200"/>
                </a:lnTo>
                <a:lnTo>
                  <a:pt x="3322320" y="83820"/>
                </a:lnTo>
                <a:lnTo>
                  <a:pt x="3314700" y="91440"/>
                </a:lnTo>
                <a:lnTo>
                  <a:pt x="3307080" y="99060"/>
                </a:lnTo>
                <a:lnTo>
                  <a:pt x="3291840" y="106680"/>
                </a:lnTo>
                <a:lnTo>
                  <a:pt x="3276600" y="121920"/>
                </a:lnTo>
                <a:lnTo>
                  <a:pt x="3261360" y="129540"/>
                </a:lnTo>
                <a:lnTo>
                  <a:pt x="3253740" y="137160"/>
                </a:lnTo>
                <a:lnTo>
                  <a:pt x="3238500" y="152400"/>
                </a:lnTo>
                <a:lnTo>
                  <a:pt x="3215640" y="160020"/>
                </a:lnTo>
                <a:lnTo>
                  <a:pt x="3200400" y="175260"/>
                </a:lnTo>
                <a:lnTo>
                  <a:pt x="3185160" y="190500"/>
                </a:lnTo>
                <a:lnTo>
                  <a:pt x="3162300" y="205740"/>
                </a:lnTo>
                <a:lnTo>
                  <a:pt x="3139440" y="213360"/>
                </a:lnTo>
                <a:lnTo>
                  <a:pt x="3116580" y="228600"/>
                </a:lnTo>
                <a:lnTo>
                  <a:pt x="3101340" y="243840"/>
                </a:lnTo>
                <a:lnTo>
                  <a:pt x="3078480" y="259080"/>
                </a:lnTo>
                <a:lnTo>
                  <a:pt x="3055620" y="274320"/>
                </a:lnTo>
                <a:lnTo>
                  <a:pt x="3032760" y="289560"/>
                </a:lnTo>
                <a:lnTo>
                  <a:pt x="3009900" y="304800"/>
                </a:lnTo>
                <a:lnTo>
                  <a:pt x="2979420" y="327660"/>
                </a:lnTo>
                <a:lnTo>
                  <a:pt x="2956560" y="342900"/>
                </a:lnTo>
                <a:lnTo>
                  <a:pt x="2933700" y="358140"/>
                </a:lnTo>
                <a:lnTo>
                  <a:pt x="2903220" y="373380"/>
                </a:lnTo>
                <a:lnTo>
                  <a:pt x="2880360" y="388620"/>
                </a:lnTo>
                <a:lnTo>
                  <a:pt x="2849880" y="411480"/>
                </a:lnTo>
                <a:lnTo>
                  <a:pt x="2819400" y="426720"/>
                </a:lnTo>
                <a:lnTo>
                  <a:pt x="2796540" y="449580"/>
                </a:lnTo>
                <a:lnTo>
                  <a:pt x="2766060" y="464820"/>
                </a:lnTo>
                <a:lnTo>
                  <a:pt x="2743200" y="487680"/>
                </a:lnTo>
                <a:lnTo>
                  <a:pt x="2705100" y="502920"/>
                </a:lnTo>
                <a:lnTo>
                  <a:pt x="2674620" y="525780"/>
                </a:lnTo>
                <a:lnTo>
                  <a:pt x="2651760" y="541020"/>
                </a:lnTo>
                <a:lnTo>
                  <a:pt x="2621280" y="563880"/>
                </a:lnTo>
                <a:lnTo>
                  <a:pt x="2590800" y="586740"/>
                </a:lnTo>
                <a:lnTo>
                  <a:pt x="2560320" y="601980"/>
                </a:lnTo>
                <a:lnTo>
                  <a:pt x="2529840" y="624840"/>
                </a:lnTo>
                <a:lnTo>
                  <a:pt x="2499360" y="647700"/>
                </a:lnTo>
                <a:lnTo>
                  <a:pt x="2468880" y="670560"/>
                </a:lnTo>
                <a:lnTo>
                  <a:pt x="2438400" y="693420"/>
                </a:lnTo>
                <a:lnTo>
                  <a:pt x="2407920" y="716280"/>
                </a:lnTo>
                <a:lnTo>
                  <a:pt x="2377440" y="731520"/>
                </a:lnTo>
                <a:lnTo>
                  <a:pt x="2346960" y="754380"/>
                </a:lnTo>
                <a:lnTo>
                  <a:pt x="2316480" y="777240"/>
                </a:lnTo>
                <a:lnTo>
                  <a:pt x="2286000" y="800100"/>
                </a:lnTo>
                <a:lnTo>
                  <a:pt x="2247900" y="822960"/>
                </a:lnTo>
                <a:lnTo>
                  <a:pt x="2217420" y="845820"/>
                </a:lnTo>
                <a:lnTo>
                  <a:pt x="2186940" y="868680"/>
                </a:lnTo>
                <a:lnTo>
                  <a:pt x="2156460" y="891540"/>
                </a:lnTo>
                <a:lnTo>
                  <a:pt x="2125980" y="914400"/>
                </a:lnTo>
                <a:lnTo>
                  <a:pt x="2095500" y="937260"/>
                </a:lnTo>
                <a:lnTo>
                  <a:pt x="2065020" y="952500"/>
                </a:lnTo>
                <a:lnTo>
                  <a:pt x="2034540" y="975360"/>
                </a:lnTo>
                <a:lnTo>
                  <a:pt x="2004060" y="1005840"/>
                </a:lnTo>
                <a:lnTo>
                  <a:pt x="1973580" y="1021080"/>
                </a:lnTo>
                <a:lnTo>
                  <a:pt x="1943100" y="1043940"/>
                </a:lnTo>
                <a:lnTo>
                  <a:pt x="1912620" y="1066800"/>
                </a:lnTo>
                <a:lnTo>
                  <a:pt x="1882140" y="1089660"/>
                </a:lnTo>
                <a:lnTo>
                  <a:pt x="1851660" y="1112520"/>
                </a:lnTo>
                <a:lnTo>
                  <a:pt x="1821180" y="1135380"/>
                </a:lnTo>
                <a:lnTo>
                  <a:pt x="1790700" y="1158240"/>
                </a:lnTo>
                <a:lnTo>
                  <a:pt x="1760220" y="1181100"/>
                </a:lnTo>
                <a:lnTo>
                  <a:pt x="1729740" y="1203960"/>
                </a:lnTo>
                <a:lnTo>
                  <a:pt x="1699260" y="1226820"/>
                </a:lnTo>
                <a:lnTo>
                  <a:pt x="1668780" y="1249680"/>
                </a:lnTo>
                <a:lnTo>
                  <a:pt x="1638300" y="1264920"/>
                </a:lnTo>
                <a:lnTo>
                  <a:pt x="1607820" y="1287780"/>
                </a:lnTo>
                <a:lnTo>
                  <a:pt x="1584960" y="1310640"/>
                </a:lnTo>
                <a:lnTo>
                  <a:pt x="1554480" y="1333500"/>
                </a:lnTo>
                <a:lnTo>
                  <a:pt x="1524000" y="1348740"/>
                </a:lnTo>
                <a:lnTo>
                  <a:pt x="1493520" y="1371600"/>
                </a:lnTo>
                <a:lnTo>
                  <a:pt x="1463040" y="1394460"/>
                </a:lnTo>
                <a:lnTo>
                  <a:pt x="1432560" y="1417320"/>
                </a:lnTo>
                <a:lnTo>
                  <a:pt x="1409700" y="1432560"/>
                </a:lnTo>
                <a:lnTo>
                  <a:pt x="1379220" y="1455420"/>
                </a:lnTo>
                <a:lnTo>
                  <a:pt x="1348740" y="1470660"/>
                </a:lnTo>
                <a:lnTo>
                  <a:pt x="1325880" y="1493520"/>
                </a:lnTo>
                <a:lnTo>
                  <a:pt x="1295400" y="1508760"/>
                </a:lnTo>
                <a:lnTo>
                  <a:pt x="1272540" y="1531620"/>
                </a:lnTo>
                <a:lnTo>
                  <a:pt x="1242060" y="1546860"/>
                </a:lnTo>
                <a:lnTo>
                  <a:pt x="1219200" y="1562100"/>
                </a:lnTo>
                <a:lnTo>
                  <a:pt x="1188720" y="1584960"/>
                </a:lnTo>
                <a:lnTo>
                  <a:pt x="1165860" y="1600200"/>
                </a:lnTo>
                <a:lnTo>
                  <a:pt x="1143000" y="1615440"/>
                </a:lnTo>
                <a:lnTo>
                  <a:pt x="1112520" y="1630680"/>
                </a:lnTo>
                <a:lnTo>
                  <a:pt x="1089660" y="1653540"/>
                </a:lnTo>
                <a:lnTo>
                  <a:pt x="1066800" y="1668780"/>
                </a:lnTo>
                <a:lnTo>
                  <a:pt x="1043940" y="1684020"/>
                </a:lnTo>
                <a:lnTo>
                  <a:pt x="1021080" y="1699260"/>
                </a:lnTo>
                <a:lnTo>
                  <a:pt x="998220" y="1714500"/>
                </a:lnTo>
                <a:lnTo>
                  <a:pt x="967740" y="1729740"/>
                </a:lnTo>
                <a:lnTo>
                  <a:pt x="952500" y="1744980"/>
                </a:lnTo>
                <a:lnTo>
                  <a:pt x="929640" y="1760220"/>
                </a:lnTo>
                <a:lnTo>
                  <a:pt x="906780" y="1775460"/>
                </a:lnTo>
                <a:lnTo>
                  <a:pt x="883920" y="1790700"/>
                </a:lnTo>
                <a:lnTo>
                  <a:pt x="861060" y="1805940"/>
                </a:lnTo>
                <a:lnTo>
                  <a:pt x="838200" y="1821180"/>
                </a:lnTo>
                <a:lnTo>
                  <a:pt x="815340" y="1836420"/>
                </a:lnTo>
                <a:lnTo>
                  <a:pt x="800100" y="1851660"/>
                </a:lnTo>
                <a:lnTo>
                  <a:pt x="777240" y="1859280"/>
                </a:lnTo>
                <a:lnTo>
                  <a:pt x="754380" y="1874520"/>
                </a:lnTo>
                <a:lnTo>
                  <a:pt x="739140" y="1889760"/>
                </a:lnTo>
                <a:lnTo>
                  <a:pt x="716280" y="1905000"/>
                </a:lnTo>
                <a:lnTo>
                  <a:pt x="693420" y="1912620"/>
                </a:lnTo>
                <a:lnTo>
                  <a:pt x="670560" y="1927860"/>
                </a:lnTo>
                <a:lnTo>
                  <a:pt x="655320" y="1943100"/>
                </a:lnTo>
                <a:lnTo>
                  <a:pt x="632460" y="1958340"/>
                </a:lnTo>
                <a:lnTo>
                  <a:pt x="609600" y="1965960"/>
                </a:lnTo>
                <a:lnTo>
                  <a:pt x="594360" y="1981200"/>
                </a:lnTo>
                <a:lnTo>
                  <a:pt x="571500" y="1996440"/>
                </a:lnTo>
                <a:lnTo>
                  <a:pt x="556260" y="2004060"/>
                </a:lnTo>
                <a:lnTo>
                  <a:pt x="533400" y="2019300"/>
                </a:lnTo>
                <a:lnTo>
                  <a:pt x="518160" y="2026920"/>
                </a:lnTo>
                <a:lnTo>
                  <a:pt x="502920" y="2042160"/>
                </a:lnTo>
                <a:lnTo>
                  <a:pt x="480060" y="2049780"/>
                </a:lnTo>
                <a:lnTo>
                  <a:pt x="464820" y="2065020"/>
                </a:lnTo>
                <a:lnTo>
                  <a:pt x="449580" y="2072640"/>
                </a:lnTo>
                <a:lnTo>
                  <a:pt x="434340" y="2087880"/>
                </a:lnTo>
                <a:lnTo>
                  <a:pt x="419100" y="2095500"/>
                </a:lnTo>
                <a:lnTo>
                  <a:pt x="403860" y="2110740"/>
                </a:lnTo>
                <a:lnTo>
                  <a:pt x="388620" y="2118360"/>
                </a:lnTo>
                <a:lnTo>
                  <a:pt x="373380" y="2133600"/>
                </a:lnTo>
                <a:lnTo>
                  <a:pt x="358140" y="2141220"/>
                </a:lnTo>
                <a:lnTo>
                  <a:pt x="350520" y="2148840"/>
                </a:lnTo>
                <a:lnTo>
                  <a:pt x="335280" y="2164080"/>
                </a:lnTo>
                <a:lnTo>
                  <a:pt x="320040" y="2171700"/>
                </a:lnTo>
                <a:lnTo>
                  <a:pt x="312420" y="2179320"/>
                </a:lnTo>
                <a:lnTo>
                  <a:pt x="297180" y="2186940"/>
                </a:lnTo>
                <a:lnTo>
                  <a:pt x="281940" y="2194560"/>
                </a:lnTo>
                <a:lnTo>
                  <a:pt x="274320" y="2209800"/>
                </a:lnTo>
                <a:lnTo>
                  <a:pt x="259080" y="2209800"/>
                </a:lnTo>
                <a:lnTo>
                  <a:pt x="251460" y="2217420"/>
                </a:lnTo>
                <a:lnTo>
                  <a:pt x="236220" y="2225040"/>
                </a:lnTo>
                <a:lnTo>
                  <a:pt x="220980" y="2232660"/>
                </a:lnTo>
                <a:lnTo>
                  <a:pt x="213360" y="2240280"/>
                </a:lnTo>
                <a:lnTo>
                  <a:pt x="205740" y="2240280"/>
                </a:lnTo>
                <a:lnTo>
                  <a:pt x="198120" y="2247900"/>
                </a:lnTo>
                <a:lnTo>
                  <a:pt x="182880" y="2255520"/>
                </a:lnTo>
                <a:lnTo>
                  <a:pt x="175260" y="2263140"/>
                </a:lnTo>
                <a:lnTo>
                  <a:pt x="167640" y="2263140"/>
                </a:lnTo>
                <a:lnTo>
                  <a:pt x="160020" y="2270760"/>
                </a:lnTo>
                <a:lnTo>
                  <a:pt x="152400" y="2270760"/>
                </a:lnTo>
                <a:lnTo>
                  <a:pt x="152400" y="2278380"/>
                </a:lnTo>
                <a:lnTo>
                  <a:pt x="144780" y="2278380"/>
                </a:lnTo>
                <a:lnTo>
                  <a:pt x="137160" y="2286000"/>
                </a:lnTo>
                <a:lnTo>
                  <a:pt x="129540" y="2286000"/>
                </a:lnTo>
                <a:lnTo>
                  <a:pt x="129540" y="2293620"/>
                </a:lnTo>
                <a:lnTo>
                  <a:pt x="121920" y="2293620"/>
                </a:lnTo>
                <a:lnTo>
                  <a:pt x="114300" y="2293620"/>
                </a:lnTo>
                <a:lnTo>
                  <a:pt x="114300" y="2301240"/>
                </a:lnTo>
                <a:lnTo>
                  <a:pt x="106680" y="2301240"/>
                </a:lnTo>
                <a:lnTo>
                  <a:pt x="106680" y="2301240"/>
                </a:lnTo>
                <a:lnTo>
                  <a:pt x="106680" y="2301240"/>
                </a:lnTo>
                <a:lnTo>
                  <a:pt x="99060" y="2301240"/>
                </a:lnTo>
                <a:lnTo>
                  <a:pt x="99060" y="2308860"/>
                </a:lnTo>
                <a:lnTo>
                  <a:pt x="99060" y="2308860"/>
                </a:lnTo>
                <a:lnTo>
                  <a:pt x="91440" y="2308860"/>
                </a:lnTo>
                <a:lnTo>
                  <a:pt x="83820" y="2316480"/>
                </a:lnTo>
                <a:lnTo>
                  <a:pt x="83820" y="2316480"/>
                </a:lnTo>
                <a:lnTo>
                  <a:pt x="83820" y="2316480"/>
                </a:lnTo>
                <a:lnTo>
                  <a:pt x="83820" y="2316480"/>
                </a:lnTo>
                <a:lnTo>
                  <a:pt x="83820" y="2316480"/>
                </a:lnTo>
                <a:lnTo>
                  <a:pt x="76200" y="2316480"/>
                </a:lnTo>
                <a:lnTo>
                  <a:pt x="76200" y="2316480"/>
                </a:lnTo>
                <a:lnTo>
                  <a:pt x="76200" y="2316480"/>
                </a:lnTo>
                <a:lnTo>
                  <a:pt x="76200" y="2324100"/>
                </a:lnTo>
                <a:lnTo>
                  <a:pt x="76200" y="2324100"/>
                </a:lnTo>
                <a:lnTo>
                  <a:pt x="68580" y="2324100"/>
                </a:lnTo>
                <a:lnTo>
                  <a:pt x="68580" y="2324100"/>
                </a:lnTo>
                <a:lnTo>
                  <a:pt x="68580" y="2324100"/>
                </a:lnTo>
                <a:lnTo>
                  <a:pt x="68580" y="2324100"/>
                </a:lnTo>
                <a:lnTo>
                  <a:pt x="68580" y="2331720"/>
                </a:lnTo>
                <a:lnTo>
                  <a:pt x="68580" y="2331720"/>
                </a:lnTo>
                <a:lnTo>
                  <a:pt x="60960" y="2331720"/>
                </a:lnTo>
                <a:lnTo>
                  <a:pt x="60960" y="2331720"/>
                </a:lnTo>
                <a:lnTo>
                  <a:pt x="60960" y="2331720"/>
                </a:lnTo>
                <a:lnTo>
                  <a:pt x="60960" y="2331720"/>
                </a:lnTo>
                <a:lnTo>
                  <a:pt x="53340" y="2339340"/>
                </a:lnTo>
                <a:lnTo>
                  <a:pt x="53340" y="2339340"/>
                </a:lnTo>
                <a:lnTo>
                  <a:pt x="53340" y="2339340"/>
                </a:lnTo>
                <a:lnTo>
                  <a:pt x="53340" y="2339340"/>
                </a:lnTo>
                <a:lnTo>
                  <a:pt x="53340" y="2339340"/>
                </a:lnTo>
                <a:lnTo>
                  <a:pt x="45720" y="2339340"/>
                </a:lnTo>
                <a:lnTo>
                  <a:pt x="45720" y="2346960"/>
                </a:lnTo>
                <a:lnTo>
                  <a:pt x="38100" y="2346960"/>
                </a:lnTo>
                <a:lnTo>
                  <a:pt x="38100" y="2346960"/>
                </a:lnTo>
                <a:lnTo>
                  <a:pt x="38100" y="2346960"/>
                </a:lnTo>
                <a:lnTo>
                  <a:pt x="38100" y="2346960"/>
                </a:lnTo>
                <a:lnTo>
                  <a:pt x="30480" y="2346960"/>
                </a:lnTo>
                <a:lnTo>
                  <a:pt x="30480" y="2354580"/>
                </a:lnTo>
                <a:lnTo>
                  <a:pt x="30480" y="2354580"/>
                </a:lnTo>
                <a:lnTo>
                  <a:pt x="30480" y="2354580"/>
                </a:lnTo>
                <a:lnTo>
                  <a:pt x="22860" y="2354580"/>
                </a:lnTo>
                <a:lnTo>
                  <a:pt x="22860" y="2354580"/>
                </a:lnTo>
                <a:lnTo>
                  <a:pt x="22860" y="2362200"/>
                </a:lnTo>
                <a:lnTo>
                  <a:pt x="22860" y="2362200"/>
                </a:lnTo>
                <a:lnTo>
                  <a:pt x="15240" y="2362200"/>
                </a:lnTo>
                <a:lnTo>
                  <a:pt x="15240" y="2362200"/>
                </a:lnTo>
                <a:lnTo>
                  <a:pt x="15240" y="2362200"/>
                </a:lnTo>
                <a:lnTo>
                  <a:pt x="15240" y="2362200"/>
                </a:lnTo>
                <a:lnTo>
                  <a:pt x="7620" y="2369820"/>
                </a:lnTo>
                <a:lnTo>
                  <a:pt x="7620" y="2369820"/>
                </a:lnTo>
                <a:lnTo>
                  <a:pt x="7620" y="2369820"/>
                </a:lnTo>
                <a:lnTo>
                  <a:pt x="7620" y="2377440"/>
                </a:lnTo>
                <a:lnTo>
                  <a:pt x="7620" y="2377440"/>
                </a:lnTo>
                <a:lnTo>
                  <a:pt x="0" y="2377440"/>
                </a:lnTo>
                <a:lnTo>
                  <a:pt x="0" y="2377440"/>
                </a:lnTo>
                <a:lnTo>
                  <a:pt x="0" y="2377440"/>
                </a:lnTo>
                <a:lnTo>
                  <a:pt x="0" y="2377440"/>
                </a:lnTo>
                <a:lnTo>
                  <a:pt x="0" y="237744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0" y="2385060"/>
                </a:lnTo>
                <a:lnTo>
                  <a:pt x="7620" y="2385060"/>
                </a:lnTo>
                <a:lnTo>
                  <a:pt x="7620" y="2385060"/>
                </a:lnTo>
                <a:lnTo>
                  <a:pt x="15240" y="2385060"/>
                </a:lnTo>
                <a:lnTo>
                  <a:pt x="15240" y="2385060"/>
                </a:lnTo>
                <a:lnTo>
                  <a:pt x="22860" y="2385060"/>
                </a:lnTo>
                <a:lnTo>
                  <a:pt x="22860" y="2385060"/>
                </a:lnTo>
                <a:lnTo>
                  <a:pt x="30480" y="2385060"/>
                </a:lnTo>
                <a:lnTo>
                  <a:pt x="38100" y="2385060"/>
                </a:lnTo>
                <a:lnTo>
                  <a:pt x="45720" y="2385060"/>
                </a:lnTo>
                <a:lnTo>
                  <a:pt x="60960" y="2385060"/>
                </a:lnTo>
                <a:lnTo>
                  <a:pt x="68580" y="2385060"/>
                </a:lnTo>
                <a:lnTo>
                  <a:pt x="76200" y="2385060"/>
                </a:lnTo>
                <a:lnTo>
                  <a:pt x="83820" y="2385060"/>
                </a:lnTo>
                <a:lnTo>
                  <a:pt x="99060" y="2385060"/>
                </a:lnTo>
                <a:lnTo>
                  <a:pt x="114300" y="2385060"/>
                </a:lnTo>
                <a:lnTo>
                  <a:pt x="121920" y="2385060"/>
                </a:lnTo>
                <a:lnTo>
                  <a:pt x="137160" y="2385060"/>
                </a:lnTo>
                <a:lnTo>
                  <a:pt x="152400" y="2385060"/>
                </a:lnTo>
                <a:lnTo>
                  <a:pt x="167640" y="2385060"/>
                </a:lnTo>
                <a:lnTo>
                  <a:pt x="175260" y="2385060"/>
                </a:lnTo>
                <a:lnTo>
                  <a:pt x="198120" y="2385060"/>
                </a:lnTo>
                <a:lnTo>
                  <a:pt x="205740" y="2385060"/>
                </a:lnTo>
                <a:lnTo>
                  <a:pt x="220980" y="2385060"/>
                </a:lnTo>
                <a:lnTo>
                  <a:pt x="236220" y="2385060"/>
                </a:lnTo>
                <a:lnTo>
                  <a:pt x="259080" y="2385060"/>
                </a:lnTo>
                <a:lnTo>
                  <a:pt x="274320" y="2385060"/>
                </a:lnTo>
                <a:lnTo>
                  <a:pt x="289560" y="2385060"/>
                </a:lnTo>
                <a:lnTo>
                  <a:pt x="304800" y="2385060"/>
                </a:lnTo>
                <a:lnTo>
                  <a:pt x="320040" y="2385060"/>
                </a:lnTo>
                <a:lnTo>
                  <a:pt x="342900" y="2385060"/>
                </a:lnTo>
                <a:lnTo>
                  <a:pt x="358140" y="2385060"/>
                </a:lnTo>
                <a:lnTo>
                  <a:pt x="381000" y="2385060"/>
                </a:lnTo>
                <a:lnTo>
                  <a:pt x="396240" y="2385060"/>
                </a:lnTo>
                <a:lnTo>
                  <a:pt x="419100" y="2385060"/>
                </a:lnTo>
                <a:lnTo>
                  <a:pt x="434340" y="2385060"/>
                </a:lnTo>
                <a:lnTo>
                  <a:pt x="457200" y="2377440"/>
                </a:lnTo>
                <a:lnTo>
                  <a:pt x="472440" y="2377440"/>
                </a:lnTo>
                <a:lnTo>
                  <a:pt x="495300" y="2377440"/>
                </a:lnTo>
                <a:lnTo>
                  <a:pt x="510540" y="2377440"/>
                </a:lnTo>
                <a:lnTo>
                  <a:pt x="533400" y="2377440"/>
                </a:lnTo>
                <a:lnTo>
                  <a:pt x="556260" y="2377440"/>
                </a:lnTo>
                <a:lnTo>
                  <a:pt x="579120" y="2377440"/>
                </a:lnTo>
                <a:lnTo>
                  <a:pt x="601980" y="2377440"/>
                </a:lnTo>
                <a:lnTo>
                  <a:pt x="624840" y="2377440"/>
                </a:lnTo>
                <a:lnTo>
                  <a:pt x="647700" y="2377440"/>
                </a:lnTo>
                <a:lnTo>
                  <a:pt x="670560" y="2377440"/>
                </a:lnTo>
                <a:lnTo>
                  <a:pt x="693420" y="2377440"/>
                </a:lnTo>
                <a:lnTo>
                  <a:pt x="716280" y="2377440"/>
                </a:lnTo>
                <a:lnTo>
                  <a:pt x="739140" y="2377440"/>
                </a:lnTo>
                <a:lnTo>
                  <a:pt x="762000" y="2377440"/>
                </a:lnTo>
                <a:lnTo>
                  <a:pt x="784860" y="2377440"/>
                </a:lnTo>
                <a:lnTo>
                  <a:pt x="807720" y="2377440"/>
                </a:lnTo>
                <a:lnTo>
                  <a:pt x="838200" y="2377440"/>
                </a:lnTo>
                <a:lnTo>
                  <a:pt x="861060" y="2385060"/>
                </a:lnTo>
                <a:lnTo>
                  <a:pt x="883920" y="2385060"/>
                </a:lnTo>
                <a:lnTo>
                  <a:pt x="906780" y="2385060"/>
                </a:lnTo>
                <a:lnTo>
                  <a:pt x="929640" y="2385060"/>
                </a:lnTo>
                <a:lnTo>
                  <a:pt x="952500" y="2385060"/>
                </a:lnTo>
                <a:lnTo>
                  <a:pt x="982980" y="2385060"/>
                </a:lnTo>
                <a:lnTo>
                  <a:pt x="1005840" y="2385060"/>
                </a:lnTo>
                <a:lnTo>
                  <a:pt x="1028700" y="2385060"/>
                </a:lnTo>
                <a:lnTo>
                  <a:pt x="1059180" y="2385060"/>
                </a:lnTo>
                <a:lnTo>
                  <a:pt x="1082040" y="2385060"/>
                </a:lnTo>
                <a:lnTo>
                  <a:pt x="1104900" y="2385060"/>
                </a:lnTo>
                <a:lnTo>
                  <a:pt x="1135380" y="2385060"/>
                </a:lnTo>
                <a:lnTo>
                  <a:pt x="1158240" y="2385060"/>
                </a:lnTo>
                <a:lnTo>
                  <a:pt x="1188720" y="2385060"/>
                </a:lnTo>
                <a:lnTo>
                  <a:pt x="1211580" y="2385060"/>
                </a:lnTo>
                <a:lnTo>
                  <a:pt x="1242060" y="2385060"/>
                </a:lnTo>
                <a:lnTo>
                  <a:pt x="1264920" y="2385060"/>
                </a:lnTo>
                <a:lnTo>
                  <a:pt x="1295400" y="2385060"/>
                </a:lnTo>
                <a:lnTo>
                  <a:pt x="1325880" y="2377440"/>
                </a:lnTo>
                <a:lnTo>
                  <a:pt x="1348740" y="2377440"/>
                </a:lnTo>
                <a:lnTo>
                  <a:pt x="1379220" y="2377440"/>
                </a:lnTo>
                <a:lnTo>
                  <a:pt x="1402080" y="2377440"/>
                </a:lnTo>
                <a:lnTo>
                  <a:pt x="1432560" y="2377440"/>
                </a:lnTo>
                <a:lnTo>
                  <a:pt x="1455420" y="2377440"/>
                </a:lnTo>
                <a:lnTo>
                  <a:pt x="1485900" y="2377440"/>
                </a:lnTo>
                <a:lnTo>
                  <a:pt x="1516380" y="2377440"/>
                </a:lnTo>
                <a:lnTo>
                  <a:pt x="1546860" y="2377440"/>
                </a:lnTo>
                <a:lnTo>
                  <a:pt x="1569720" y="2377440"/>
                </a:lnTo>
                <a:lnTo>
                  <a:pt x="1600200" y="2377440"/>
                </a:lnTo>
                <a:lnTo>
                  <a:pt x="1630680" y="2377440"/>
                </a:lnTo>
                <a:lnTo>
                  <a:pt x="1653540" y="2377440"/>
                </a:lnTo>
                <a:lnTo>
                  <a:pt x="1684020" y="2377440"/>
                </a:lnTo>
                <a:lnTo>
                  <a:pt x="1714500" y="2377440"/>
                </a:lnTo>
                <a:lnTo>
                  <a:pt x="1744980" y="2377440"/>
                </a:lnTo>
                <a:lnTo>
                  <a:pt x="1767840" y="2377440"/>
                </a:lnTo>
                <a:lnTo>
                  <a:pt x="1798320" y="2377440"/>
                </a:lnTo>
                <a:lnTo>
                  <a:pt x="1828800" y="2377440"/>
                </a:lnTo>
                <a:lnTo>
                  <a:pt x="1851660" y="2369820"/>
                </a:lnTo>
                <a:lnTo>
                  <a:pt x="1882140" y="2369820"/>
                </a:lnTo>
                <a:lnTo>
                  <a:pt x="1912620" y="2369820"/>
                </a:lnTo>
                <a:lnTo>
                  <a:pt x="1935480" y="2369820"/>
                </a:lnTo>
                <a:lnTo>
                  <a:pt x="1965960" y="2369820"/>
                </a:lnTo>
                <a:lnTo>
                  <a:pt x="1996440" y="2369820"/>
                </a:lnTo>
                <a:lnTo>
                  <a:pt x="2026920" y="2369820"/>
                </a:lnTo>
                <a:lnTo>
                  <a:pt x="2049780" y="2369820"/>
                </a:lnTo>
                <a:lnTo>
                  <a:pt x="2080260" y="2369820"/>
                </a:lnTo>
                <a:lnTo>
                  <a:pt x="2110740" y="2369820"/>
                </a:lnTo>
                <a:lnTo>
                  <a:pt x="2133600" y="2369820"/>
                </a:lnTo>
                <a:lnTo>
                  <a:pt x="2164080" y="2369820"/>
                </a:lnTo>
                <a:lnTo>
                  <a:pt x="2194560" y="2369820"/>
                </a:lnTo>
                <a:lnTo>
                  <a:pt x="2225040" y="2369820"/>
                </a:lnTo>
                <a:lnTo>
                  <a:pt x="2255520" y="2369820"/>
                </a:lnTo>
                <a:lnTo>
                  <a:pt x="2278380" y="2369820"/>
                </a:lnTo>
                <a:lnTo>
                  <a:pt x="2308860" y="2369820"/>
                </a:lnTo>
                <a:lnTo>
                  <a:pt x="2331720" y="2369820"/>
                </a:lnTo>
                <a:lnTo>
                  <a:pt x="2362200" y="2377440"/>
                </a:lnTo>
                <a:lnTo>
                  <a:pt x="2392680" y="2377440"/>
                </a:lnTo>
                <a:lnTo>
                  <a:pt x="2423160" y="2377440"/>
                </a:lnTo>
                <a:lnTo>
                  <a:pt x="2446020" y="2377440"/>
                </a:lnTo>
                <a:lnTo>
                  <a:pt x="2476500" y="2377440"/>
                </a:lnTo>
                <a:lnTo>
                  <a:pt x="2499360" y="2377440"/>
                </a:lnTo>
                <a:lnTo>
                  <a:pt x="2529840" y="2377440"/>
                </a:lnTo>
                <a:lnTo>
                  <a:pt x="2552700" y="2377440"/>
                </a:lnTo>
                <a:lnTo>
                  <a:pt x="2575560" y="2377440"/>
                </a:lnTo>
                <a:lnTo>
                  <a:pt x="2606040" y="2377440"/>
                </a:lnTo>
                <a:lnTo>
                  <a:pt x="2628900" y="2377440"/>
                </a:lnTo>
                <a:lnTo>
                  <a:pt x="2659380" y="2377440"/>
                </a:lnTo>
                <a:lnTo>
                  <a:pt x="2682240" y="2377440"/>
                </a:lnTo>
                <a:lnTo>
                  <a:pt x="2705100" y="2377440"/>
                </a:lnTo>
                <a:lnTo>
                  <a:pt x="2735580" y="2377440"/>
                </a:lnTo>
                <a:lnTo>
                  <a:pt x="2758440" y="2377440"/>
                </a:lnTo>
                <a:lnTo>
                  <a:pt x="2781300" y="2377440"/>
                </a:lnTo>
                <a:lnTo>
                  <a:pt x="2804160" y="2377440"/>
                </a:lnTo>
                <a:lnTo>
                  <a:pt x="2827020" y="2377440"/>
                </a:lnTo>
                <a:lnTo>
                  <a:pt x="2857500" y="2377440"/>
                </a:lnTo>
                <a:lnTo>
                  <a:pt x="2880360" y="2377440"/>
                </a:lnTo>
                <a:lnTo>
                  <a:pt x="2903220" y="2377440"/>
                </a:lnTo>
                <a:lnTo>
                  <a:pt x="2926080" y="2377440"/>
                </a:lnTo>
                <a:lnTo>
                  <a:pt x="2948940" y="2377440"/>
                </a:lnTo>
                <a:lnTo>
                  <a:pt x="2971800" y="2377440"/>
                </a:lnTo>
                <a:lnTo>
                  <a:pt x="2994660" y="2377440"/>
                </a:lnTo>
                <a:lnTo>
                  <a:pt x="3017520" y="2377440"/>
                </a:lnTo>
                <a:lnTo>
                  <a:pt x="3048000" y="2377440"/>
                </a:lnTo>
                <a:lnTo>
                  <a:pt x="3063240" y="2377440"/>
                </a:lnTo>
                <a:lnTo>
                  <a:pt x="3093720" y="2377440"/>
                </a:lnTo>
                <a:lnTo>
                  <a:pt x="3108960" y="2377440"/>
                </a:lnTo>
                <a:lnTo>
                  <a:pt x="3131820" y="2377440"/>
                </a:lnTo>
                <a:lnTo>
                  <a:pt x="3154680" y="2377440"/>
                </a:lnTo>
                <a:lnTo>
                  <a:pt x="3177540" y="2377440"/>
                </a:lnTo>
                <a:lnTo>
                  <a:pt x="3200400" y="2377440"/>
                </a:lnTo>
                <a:lnTo>
                  <a:pt x="3215640" y="2377440"/>
                </a:lnTo>
                <a:lnTo>
                  <a:pt x="3238500" y="2377440"/>
                </a:lnTo>
                <a:lnTo>
                  <a:pt x="3261360" y="2377440"/>
                </a:lnTo>
                <a:lnTo>
                  <a:pt x="3276600" y="2377440"/>
                </a:lnTo>
                <a:lnTo>
                  <a:pt x="3299460" y="2377440"/>
                </a:lnTo>
                <a:lnTo>
                  <a:pt x="3314700" y="2377440"/>
                </a:lnTo>
                <a:lnTo>
                  <a:pt x="3337560" y="2377440"/>
                </a:lnTo>
                <a:lnTo>
                  <a:pt x="3352800" y="2377440"/>
                </a:lnTo>
                <a:lnTo>
                  <a:pt x="3375660" y="2377440"/>
                </a:lnTo>
                <a:lnTo>
                  <a:pt x="3390900" y="2377440"/>
                </a:lnTo>
                <a:lnTo>
                  <a:pt x="3413760" y="2377440"/>
                </a:lnTo>
                <a:lnTo>
                  <a:pt x="3429000" y="2377440"/>
                </a:lnTo>
                <a:lnTo>
                  <a:pt x="3444240" y="2377440"/>
                </a:lnTo>
                <a:lnTo>
                  <a:pt x="3467100" y="2377440"/>
                </a:lnTo>
                <a:lnTo>
                  <a:pt x="3482340" y="2377440"/>
                </a:lnTo>
                <a:lnTo>
                  <a:pt x="3497580" y="2377440"/>
                </a:lnTo>
                <a:lnTo>
                  <a:pt x="3512820" y="2377440"/>
                </a:lnTo>
                <a:lnTo>
                  <a:pt x="3528060" y="2377440"/>
                </a:lnTo>
                <a:lnTo>
                  <a:pt x="3543300" y="2377440"/>
                </a:lnTo>
                <a:lnTo>
                  <a:pt x="3558540" y="2377440"/>
                </a:lnTo>
                <a:lnTo>
                  <a:pt x="3573780" y="2377440"/>
                </a:lnTo>
                <a:lnTo>
                  <a:pt x="3589020" y="2377440"/>
                </a:lnTo>
                <a:lnTo>
                  <a:pt x="3596640" y="2377440"/>
                </a:lnTo>
                <a:lnTo>
                  <a:pt x="3611880" y="2377440"/>
                </a:lnTo>
                <a:lnTo>
                  <a:pt x="3627120" y="2377440"/>
                </a:lnTo>
                <a:lnTo>
                  <a:pt x="3634740" y="2377440"/>
                </a:lnTo>
                <a:lnTo>
                  <a:pt x="3642360" y="2377440"/>
                </a:lnTo>
                <a:lnTo>
                  <a:pt x="3649980" y="2377440"/>
                </a:lnTo>
                <a:lnTo>
                  <a:pt x="3665220" y="2377440"/>
                </a:lnTo>
                <a:lnTo>
                  <a:pt x="3672840" y="2377440"/>
                </a:lnTo>
                <a:lnTo>
                  <a:pt x="3680460" y="2377440"/>
                </a:lnTo>
                <a:lnTo>
                  <a:pt x="3688080" y="2377440"/>
                </a:lnTo>
                <a:lnTo>
                  <a:pt x="3695700" y="2377440"/>
                </a:lnTo>
                <a:lnTo>
                  <a:pt x="3695700" y="2377440"/>
                </a:lnTo>
                <a:lnTo>
                  <a:pt x="3703320" y="2377440"/>
                </a:lnTo>
                <a:lnTo>
                  <a:pt x="3710940" y="2377440"/>
                </a:lnTo>
                <a:lnTo>
                  <a:pt x="3710940" y="2377440"/>
                </a:lnTo>
                <a:lnTo>
                  <a:pt x="3710940" y="2377440"/>
                </a:lnTo>
                <a:lnTo>
                  <a:pt x="3718560" y="2377440"/>
                </a:lnTo>
                <a:lnTo>
                  <a:pt x="3718560" y="2377440"/>
                </a:lnTo>
                <a:lnTo>
                  <a:pt x="3718560" y="2377440"/>
                </a:lnTo>
                <a:lnTo>
                  <a:pt x="3718560" y="2377440"/>
                </a:lnTo>
                <a:lnTo>
                  <a:pt x="3718560" y="2377440"/>
                </a:lnTo>
                <a:lnTo>
                  <a:pt x="3718560" y="2377440"/>
                </a:lnTo>
                <a:lnTo>
                  <a:pt x="3718560" y="2385060"/>
                </a:lnTo>
                <a:lnTo>
                  <a:pt x="3718560" y="2385060"/>
                </a:lnTo>
                <a:lnTo>
                  <a:pt x="3710940" y="2385060"/>
                </a:lnTo>
                <a:lnTo>
                  <a:pt x="3710940" y="2385060"/>
                </a:lnTo>
                <a:lnTo>
                  <a:pt x="3703320" y="2385060"/>
                </a:lnTo>
                <a:lnTo>
                  <a:pt x="3703320" y="2385060"/>
                </a:lnTo>
                <a:lnTo>
                  <a:pt x="3695700" y="2385060"/>
                </a:lnTo>
                <a:lnTo>
                  <a:pt x="3688080" y="2385060"/>
                </a:lnTo>
                <a:lnTo>
                  <a:pt x="3680460" y="2385060"/>
                </a:lnTo>
                <a:lnTo>
                  <a:pt x="3665220" y="2385060"/>
                </a:lnTo>
                <a:lnTo>
                  <a:pt x="3657600" y="2385060"/>
                </a:lnTo>
                <a:lnTo>
                  <a:pt x="3642360" y="2385060"/>
                </a:lnTo>
                <a:lnTo>
                  <a:pt x="3634740" y="2385060"/>
                </a:lnTo>
                <a:lnTo>
                  <a:pt x="3619500" y="2385060"/>
                </a:lnTo>
                <a:lnTo>
                  <a:pt x="3604260" y="2385060"/>
                </a:lnTo>
                <a:lnTo>
                  <a:pt x="3589020" y="2385060"/>
                </a:lnTo>
                <a:lnTo>
                  <a:pt x="3573780" y="2385060"/>
                </a:lnTo>
                <a:lnTo>
                  <a:pt x="3558540" y="2385060"/>
                </a:lnTo>
                <a:lnTo>
                  <a:pt x="3543300" y="2392680"/>
                </a:lnTo>
                <a:lnTo>
                  <a:pt x="3520440" y="2392680"/>
                </a:lnTo>
                <a:lnTo>
                  <a:pt x="3497580" y="2392680"/>
                </a:lnTo>
                <a:lnTo>
                  <a:pt x="3482340" y="2392680"/>
                </a:lnTo>
                <a:lnTo>
                  <a:pt x="3459480" y="2392680"/>
                </a:lnTo>
                <a:lnTo>
                  <a:pt x="3436620" y="2392680"/>
                </a:lnTo>
                <a:lnTo>
                  <a:pt x="3413760" y="2400300"/>
                </a:lnTo>
                <a:lnTo>
                  <a:pt x="3390900" y="2400300"/>
                </a:lnTo>
                <a:lnTo>
                  <a:pt x="3368040" y="2400300"/>
                </a:lnTo>
                <a:lnTo>
                  <a:pt x="3345180" y="2400300"/>
                </a:lnTo>
                <a:lnTo>
                  <a:pt x="3314700" y="2400300"/>
                </a:lnTo>
                <a:lnTo>
                  <a:pt x="3291840" y="2400300"/>
                </a:lnTo>
                <a:lnTo>
                  <a:pt x="3261360" y="2400300"/>
                </a:lnTo>
                <a:lnTo>
                  <a:pt x="3238500" y="2400300"/>
                </a:lnTo>
                <a:lnTo>
                  <a:pt x="3208020" y="2400300"/>
                </a:lnTo>
                <a:lnTo>
                  <a:pt x="3177540" y="2400300"/>
                </a:lnTo>
                <a:lnTo>
                  <a:pt x="3147060" y="2400300"/>
                </a:lnTo>
                <a:lnTo>
                  <a:pt x="3116580" y="2400300"/>
                </a:lnTo>
                <a:lnTo>
                  <a:pt x="3086100" y="2400300"/>
                </a:lnTo>
                <a:lnTo>
                  <a:pt x="3055620" y="2400300"/>
                </a:lnTo>
                <a:lnTo>
                  <a:pt x="3025140" y="2400300"/>
                </a:lnTo>
                <a:lnTo>
                  <a:pt x="2994660" y="2400300"/>
                </a:lnTo>
                <a:lnTo>
                  <a:pt x="2956560" y="2400300"/>
                </a:lnTo>
                <a:lnTo>
                  <a:pt x="2926080" y="2400300"/>
                </a:lnTo>
                <a:lnTo>
                  <a:pt x="2887980" y="2400300"/>
                </a:lnTo>
                <a:lnTo>
                  <a:pt x="2857500" y="2400300"/>
                </a:lnTo>
                <a:lnTo>
                  <a:pt x="2819400" y="2400300"/>
                </a:lnTo>
                <a:lnTo>
                  <a:pt x="2781300" y="2392680"/>
                </a:lnTo>
                <a:lnTo>
                  <a:pt x="2750820" y="2392680"/>
                </a:lnTo>
                <a:lnTo>
                  <a:pt x="2712720" y="2392680"/>
                </a:lnTo>
                <a:lnTo>
                  <a:pt x="2674620" y="2392680"/>
                </a:lnTo>
                <a:lnTo>
                  <a:pt x="2644140" y="2392680"/>
                </a:lnTo>
                <a:lnTo>
                  <a:pt x="2606040" y="2392680"/>
                </a:lnTo>
                <a:lnTo>
                  <a:pt x="2567940" y="2392680"/>
                </a:lnTo>
                <a:lnTo>
                  <a:pt x="2529840" y="2392680"/>
                </a:lnTo>
                <a:lnTo>
                  <a:pt x="2499360" y="2392680"/>
                </a:lnTo>
                <a:lnTo>
                  <a:pt x="2461260" y="2392680"/>
                </a:lnTo>
                <a:lnTo>
                  <a:pt x="2423160" y="2392680"/>
                </a:lnTo>
                <a:lnTo>
                  <a:pt x="2377440" y="2392680"/>
                </a:lnTo>
                <a:lnTo>
                  <a:pt x="2339340" y="2400300"/>
                </a:lnTo>
                <a:lnTo>
                  <a:pt x="2308860" y="2400300"/>
                </a:lnTo>
                <a:lnTo>
                  <a:pt x="2270760" y="2392680"/>
                </a:lnTo>
                <a:lnTo>
                  <a:pt x="2232660" y="2400300"/>
                </a:lnTo>
                <a:lnTo>
                  <a:pt x="2194560" y="2400300"/>
                </a:lnTo>
                <a:lnTo>
                  <a:pt x="2156460" y="2400300"/>
                </a:lnTo>
                <a:lnTo>
                  <a:pt x="2118360" y="2400300"/>
                </a:lnTo>
                <a:lnTo>
                  <a:pt x="2072640" y="2400300"/>
                </a:lnTo>
                <a:lnTo>
                  <a:pt x="2034540" y="2400300"/>
                </a:lnTo>
                <a:lnTo>
                  <a:pt x="1996440" y="2400300"/>
                </a:lnTo>
                <a:lnTo>
                  <a:pt x="1958340" y="2400300"/>
                </a:lnTo>
                <a:lnTo>
                  <a:pt x="1920240" y="2400300"/>
                </a:lnTo>
                <a:lnTo>
                  <a:pt x="1882140" y="2400300"/>
                </a:lnTo>
                <a:lnTo>
                  <a:pt x="1836420" y="2400300"/>
                </a:lnTo>
                <a:lnTo>
                  <a:pt x="1798320" y="240030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9"/>
          <p:cNvSpPr/>
          <p:nvPr/>
        </p:nvSpPr>
        <p:spPr>
          <a:xfrm>
            <a:off x="898560" y="2454120"/>
            <a:ext cx="3330720" cy="2338560"/>
          </a:xfrm>
          <a:custGeom>
            <a:avLst/>
            <a:gdLst>
              <a:gd name="textAreaLeft" fmla="*/ 0 w 3330720"/>
              <a:gd name="textAreaRight" fmla="*/ 3331080 w 3330720"/>
              <a:gd name="textAreaTop" fmla="*/ 0 h 2338560"/>
              <a:gd name="textAreaBottom" fmla="*/ 2338920 h 2338560"/>
            </a:gdLst>
            <a:ahLst/>
            <a:rect l="textAreaLeft" t="textAreaTop" r="textAreaRight" b="textAreaBottom"/>
            <a:pathLst>
              <a:path w="3329941" h="2339341">
                <a:moveTo>
                  <a:pt x="1699260" y="2339340"/>
                </a:moveTo>
                <a:lnTo>
                  <a:pt x="1661160" y="2331720"/>
                </a:lnTo>
                <a:lnTo>
                  <a:pt x="1615440" y="2331720"/>
                </a:lnTo>
                <a:lnTo>
                  <a:pt x="1577340" y="2331720"/>
                </a:lnTo>
                <a:lnTo>
                  <a:pt x="1531620" y="2331720"/>
                </a:lnTo>
                <a:lnTo>
                  <a:pt x="1493520" y="2331720"/>
                </a:lnTo>
                <a:lnTo>
                  <a:pt x="1447800" y="2331720"/>
                </a:lnTo>
                <a:lnTo>
                  <a:pt x="1409700" y="2324100"/>
                </a:lnTo>
                <a:lnTo>
                  <a:pt x="1371600" y="2324100"/>
                </a:lnTo>
                <a:lnTo>
                  <a:pt x="1325880" y="2324100"/>
                </a:lnTo>
                <a:lnTo>
                  <a:pt x="1287780" y="2324100"/>
                </a:lnTo>
                <a:lnTo>
                  <a:pt x="1249680" y="2324100"/>
                </a:lnTo>
                <a:lnTo>
                  <a:pt x="1203960" y="2324100"/>
                </a:lnTo>
                <a:lnTo>
                  <a:pt x="1165860" y="2324100"/>
                </a:lnTo>
                <a:lnTo>
                  <a:pt x="1127760" y="2316480"/>
                </a:lnTo>
                <a:lnTo>
                  <a:pt x="1089660" y="2316480"/>
                </a:lnTo>
                <a:lnTo>
                  <a:pt x="1051560" y="2316480"/>
                </a:lnTo>
                <a:lnTo>
                  <a:pt x="1013460" y="2316480"/>
                </a:lnTo>
                <a:lnTo>
                  <a:pt x="975360" y="2316480"/>
                </a:lnTo>
                <a:lnTo>
                  <a:pt x="937260" y="2316480"/>
                </a:lnTo>
                <a:lnTo>
                  <a:pt x="899160" y="2316480"/>
                </a:lnTo>
                <a:lnTo>
                  <a:pt x="861060" y="2316480"/>
                </a:lnTo>
                <a:lnTo>
                  <a:pt x="822960" y="2316480"/>
                </a:lnTo>
                <a:lnTo>
                  <a:pt x="792480" y="2316480"/>
                </a:lnTo>
                <a:lnTo>
                  <a:pt x="754380" y="2316480"/>
                </a:lnTo>
                <a:lnTo>
                  <a:pt x="723900" y="2316480"/>
                </a:lnTo>
                <a:lnTo>
                  <a:pt x="693420" y="2308860"/>
                </a:lnTo>
                <a:lnTo>
                  <a:pt x="655320" y="2308860"/>
                </a:lnTo>
                <a:lnTo>
                  <a:pt x="624840" y="2308860"/>
                </a:lnTo>
                <a:lnTo>
                  <a:pt x="601980" y="2308860"/>
                </a:lnTo>
                <a:lnTo>
                  <a:pt x="571500" y="2308860"/>
                </a:lnTo>
                <a:lnTo>
                  <a:pt x="541020" y="2308860"/>
                </a:lnTo>
                <a:lnTo>
                  <a:pt x="510540" y="2308860"/>
                </a:lnTo>
                <a:lnTo>
                  <a:pt x="480060" y="2308860"/>
                </a:lnTo>
                <a:lnTo>
                  <a:pt x="457200" y="2308860"/>
                </a:lnTo>
                <a:lnTo>
                  <a:pt x="434340" y="2308860"/>
                </a:lnTo>
                <a:lnTo>
                  <a:pt x="403860" y="2308860"/>
                </a:lnTo>
                <a:lnTo>
                  <a:pt x="381000" y="2308860"/>
                </a:lnTo>
                <a:lnTo>
                  <a:pt x="358140" y="2308860"/>
                </a:lnTo>
                <a:lnTo>
                  <a:pt x="342900" y="2308860"/>
                </a:lnTo>
                <a:lnTo>
                  <a:pt x="312420" y="2308860"/>
                </a:lnTo>
                <a:lnTo>
                  <a:pt x="297180" y="2308860"/>
                </a:lnTo>
                <a:lnTo>
                  <a:pt x="274320" y="2308860"/>
                </a:lnTo>
                <a:lnTo>
                  <a:pt x="251460" y="2308860"/>
                </a:lnTo>
                <a:lnTo>
                  <a:pt x="228600" y="2308860"/>
                </a:lnTo>
                <a:lnTo>
                  <a:pt x="213360" y="2308860"/>
                </a:lnTo>
                <a:lnTo>
                  <a:pt x="198120" y="2308860"/>
                </a:lnTo>
                <a:lnTo>
                  <a:pt x="175260" y="2308860"/>
                </a:lnTo>
                <a:lnTo>
                  <a:pt x="160020" y="2301240"/>
                </a:lnTo>
                <a:lnTo>
                  <a:pt x="144780" y="2301240"/>
                </a:lnTo>
                <a:lnTo>
                  <a:pt x="129540" y="2301240"/>
                </a:lnTo>
                <a:lnTo>
                  <a:pt x="114300" y="2301240"/>
                </a:lnTo>
                <a:lnTo>
                  <a:pt x="106680" y="2301240"/>
                </a:lnTo>
                <a:lnTo>
                  <a:pt x="91440" y="2301240"/>
                </a:lnTo>
                <a:lnTo>
                  <a:pt x="83820" y="2301240"/>
                </a:lnTo>
                <a:lnTo>
                  <a:pt x="68580" y="2301240"/>
                </a:lnTo>
                <a:lnTo>
                  <a:pt x="60960" y="2301240"/>
                </a:lnTo>
                <a:lnTo>
                  <a:pt x="53340" y="2301240"/>
                </a:lnTo>
                <a:lnTo>
                  <a:pt x="45720" y="2301240"/>
                </a:lnTo>
                <a:lnTo>
                  <a:pt x="38100" y="2301240"/>
                </a:lnTo>
                <a:lnTo>
                  <a:pt x="30480" y="2301240"/>
                </a:lnTo>
                <a:lnTo>
                  <a:pt x="22860" y="2301240"/>
                </a:lnTo>
                <a:lnTo>
                  <a:pt x="15240" y="2301240"/>
                </a:lnTo>
                <a:lnTo>
                  <a:pt x="15240" y="2301240"/>
                </a:lnTo>
                <a:lnTo>
                  <a:pt x="7620" y="2301240"/>
                </a:lnTo>
                <a:lnTo>
                  <a:pt x="7620" y="2301240"/>
                </a:lnTo>
                <a:lnTo>
                  <a:pt x="7620" y="2301240"/>
                </a:lnTo>
                <a:lnTo>
                  <a:pt x="7620" y="2301240"/>
                </a:lnTo>
                <a:lnTo>
                  <a:pt x="7620" y="2301240"/>
                </a:lnTo>
                <a:lnTo>
                  <a:pt x="0" y="2301240"/>
                </a:lnTo>
                <a:lnTo>
                  <a:pt x="0" y="2301240"/>
                </a:lnTo>
                <a:lnTo>
                  <a:pt x="0" y="2301240"/>
                </a:lnTo>
                <a:lnTo>
                  <a:pt x="0" y="2301240"/>
                </a:lnTo>
                <a:lnTo>
                  <a:pt x="0" y="2301240"/>
                </a:lnTo>
                <a:lnTo>
                  <a:pt x="0" y="2301240"/>
                </a:lnTo>
                <a:lnTo>
                  <a:pt x="0" y="2293620"/>
                </a:lnTo>
                <a:lnTo>
                  <a:pt x="0" y="2293620"/>
                </a:lnTo>
                <a:lnTo>
                  <a:pt x="7620" y="2293620"/>
                </a:lnTo>
                <a:lnTo>
                  <a:pt x="7620" y="2293620"/>
                </a:lnTo>
                <a:lnTo>
                  <a:pt x="7620" y="2286000"/>
                </a:lnTo>
                <a:lnTo>
                  <a:pt x="7620" y="2286000"/>
                </a:lnTo>
                <a:lnTo>
                  <a:pt x="15240" y="2286000"/>
                </a:lnTo>
                <a:lnTo>
                  <a:pt x="22860" y="2278380"/>
                </a:lnTo>
                <a:lnTo>
                  <a:pt x="22860" y="2278380"/>
                </a:lnTo>
                <a:lnTo>
                  <a:pt x="30480" y="2270760"/>
                </a:lnTo>
                <a:lnTo>
                  <a:pt x="30480" y="2270760"/>
                </a:lnTo>
                <a:lnTo>
                  <a:pt x="38100" y="2263140"/>
                </a:lnTo>
                <a:lnTo>
                  <a:pt x="45720" y="2255520"/>
                </a:lnTo>
                <a:lnTo>
                  <a:pt x="53340" y="2255520"/>
                </a:lnTo>
                <a:lnTo>
                  <a:pt x="60960" y="2247900"/>
                </a:lnTo>
                <a:lnTo>
                  <a:pt x="68580" y="2240280"/>
                </a:lnTo>
                <a:lnTo>
                  <a:pt x="76200" y="2232660"/>
                </a:lnTo>
                <a:lnTo>
                  <a:pt x="83820" y="2225040"/>
                </a:lnTo>
                <a:lnTo>
                  <a:pt x="91440" y="2217420"/>
                </a:lnTo>
                <a:lnTo>
                  <a:pt x="99060" y="2209800"/>
                </a:lnTo>
                <a:lnTo>
                  <a:pt x="106680" y="2202180"/>
                </a:lnTo>
                <a:lnTo>
                  <a:pt x="121920" y="2194560"/>
                </a:lnTo>
                <a:lnTo>
                  <a:pt x="129540" y="2186940"/>
                </a:lnTo>
                <a:lnTo>
                  <a:pt x="137160" y="2179320"/>
                </a:lnTo>
                <a:lnTo>
                  <a:pt x="152400" y="2164080"/>
                </a:lnTo>
                <a:lnTo>
                  <a:pt x="167640" y="2156460"/>
                </a:lnTo>
                <a:lnTo>
                  <a:pt x="175260" y="2148840"/>
                </a:lnTo>
                <a:lnTo>
                  <a:pt x="190500" y="2141220"/>
                </a:lnTo>
                <a:lnTo>
                  <a:pt x="205740" y="2133600"/>
                </a:lnTo>
                <a:lnTo>
                  <a:pt x="220980" y="2118360"/>
                </a:lnTo>
                <a:lnTo>
                  <a:pt x="228600" y="2110740"/>
                </a:lnTo>
                <a:lnTo>
                  <a:pt x="243840" y="2095500"/>
                </a:lnTo>
                <a:lnTo>
                  <a:pt x="259080" y="2087880"/>
                </a:lnTo>
                <a:lnTo>
                  <a:pt x="274320" y="2072640"/>
                </a:lnTo>
                <a:lnTo>
                  <a:pt x="297180" y="2065020"/>
                </a:lnTo>
                <a:lnTo>
                  <a:pt x="312420" y="2049780"/>
                </a:lnTo>
                <a:lnTo>
                  <a:pt x="327660" y="2042160"/>
                </a:lnTo>
                <a:lnTo>
                  <a:pt x="350520" y="2026920"/>
                </a:lnTo>
                <a:lnTo>
                  <a:pt x="365760" y="2019300"/>
                </a:lnTo>
                <a:lnTo>
                  <a:pt x="381000" y="2004060"/>
                </a:lnTo>
                <a:lnTo>
                  <a:pt x="396240" y="1996440"/>
                </a:lnTo>
                <a:lnTo>
                  <a:pt x="419100" y="1981200"/>
                </a:lnTo>
                <a:lnTo>
                  <a:pt x="434340" y="1965960"/>
                </a:lnTo>
                <a:lnTo>
                  <a:pt x="457200" y="1958340"/>
                </a:lnTo>
                <a:lnTo>
                  <a:pt x="472440" y="1943100"/>
                </a:lnTo>
                <a:lnTo>
                  <a:pt x="495300" y="1935480"/>
                </a:lnTo>
                <a:lnTo>
                  <a:pt x="510540" y="1920240"/>
                </a:lnTo>
                <a:lnTo>
                  <a:pt x="533400" y="1905000"/>
                </a:lnTo>
                <a:lnTo>
                  <a:pt x="556260" y="1897380"/>
                </a:lnTo>
                <a:lnTo>
                  <a:pt x="571500" y="1882140"/>
                </a:lnTo>
                <a:lnTo>
                  <a:pt x="594360" y="1866900"/>
                </a:lnTo>
                <a:lnTo>
                  <a:pt x="617220" y="1859280"/>
                </a:lnTo>
                <a:lnTo>
                  <a:pt x="640080" y="1844040"/>
                </a:lnTo>
                <a:lnTo>
                  <a:pt x="655320" y="1836420"/>
                </a:lnTo>
                <a:lnTo>
                  <a:pt x="678180" y="1821180"/>
                </a:lnTo>
                <a:lnTo>
                  <a:pt x="701040" y="1805940"/>
                </a:lnTo>
                <a:lnTo>
                  <a:pt x="716280" y="1798320"/>
                </a:lnTo>
                <a:lnTo>
                  <a:pt x="739140" y="1783080"/>
                </a:lnTo>
                <a:lnTo>
                  <a:pt x="754380" y="1767840"/>
                </a:lnTo>
                <a:lnTo>
                  <a:pt x="777240" y="1760220"/>
                </a:lnTo>
                <a:lnTo>
                  <a:pt x="800100" y="1744980"/>
                </a:lnTo>
                <a:lnTo>
                  <a:pt x="815340" y="1729740"/>
                </a:lnTo>
                <a:lnTo>
                  <a:pt x="838200" y="1722120"/>
                </a:lnTo>
                <a:lnTo>
                  <a:pt x="861060" y="1706880"/>
                </a:lnTo>
                <a:lnTo>
                  <a:pt x="876300" y="1691640"/>
                </a:lnTo>
                <a:lnTo>
                  <a:pt x="899160" y="1676400"/>
                </a:lnTo>
                <a:lnTo>
                  <a:pt x="914400" y="1668780"/>
                </a:lnTo>
                <a:lnTo>
                  <a:pt x="929640" y="1653540"/>
                </a:lnTo>
                <a:lnTo>
                  <a:pt x="952500" y="1638300"/>
                </a:lnTo>
                <a:lnTo>
                  <a:pt x="967740" y="1630680"/>
                </a:lnTo>
                <a:lnTo>
                  <a:pt x="990600" y="1615440"/>
                </a:lnTo>
                <a:lnTo>
                  <a:pt x="1005840" y="1600200"/>
                </a:lnTo>
                <a:lnTo>
                  <a:pt x="1021080" y="1592580"/>
                </a:lnTo>
                <a:lnTo>
                  <a:pt x="1036320" y="1577340"/>
                </a:lnTo>
                <a:lnTo>
                  <a:pt x="1059180" y="1562100"/>
                </a:lnTo>
                <a:lnTo>
                  <a:pt x="1074420" y="1554480"/>
                </a:lnTo>
                <a:lnTo>
                  <a:pt x="1089660" y="1539240"/>
                </a:lnTo>
                <a:lnTo>
                  <a:pt x="1112520" y="1524000"/>
                </a:lnTo>
                <a:lnTo>
                  <a:pt x="1127760" y="1508760"/>
                </a:lnTo>
                <a:lnTo>
                  <a:pt x="1143000" y="1501140"/>
                </a:lnTo>
                <a:lnTo>
                  <a:pt x="1158240" y="1485900"/>
                </a:lnTo>
                <a:lnTo>
                  <a:pt x="1181100" y="1478280"/>
                </a:lnTo>
                <a:lnTo>
                  <a:pt x="1196340" y="1463040"/>
                </a:lnTo>
                <a:lnTo>
                  <a:pt x="1211580" y="1447800"/>
                </a:lnTo>
                <a:lnTo>
                  <a:pt x="1234440" y="1432560"/>
                </a:lnTo>
                <a:lnTo>
                  <a:pt x="1249680" y="1424940"/>
                </a:lnTo>
                <a:lnTo>
                  <a:pt x="1272540" y="1409700"/>
                </a:lnTo>
                <a:lnTo>
                  <a:pt x="1287780" y="1394460"/>
                </a:lnTo>
                <a:lnTo>
                  <a:pt x="1303020" y="1379220"/>
                </a:lnTo>
                <a:lnTo>
                  <a:pt x="1318260" y="1371600"/>
                </a:lnTo>
                <a:lnTo>
                  <a:pt x="1333500" y="1356360"/>
                </a:lnTo>
                <a:lnTo>
                  <a:pt x="1348740" y="1341120"/>
                </a:lnTo>
                <a:lnTo>
                  <a:pt x="1371600" y="1325880"/>
                </a:lnTo>
                <a:lnTo>
                  <a:pt x="1386840" y="1310640"/>
                </a:lnTo>
                <a:lnTo>
                  <a:pt x="1402080" y="1303020"/>
                </a:lnTo>
                <a:lnTo>
                  <a:pt x="1424940" y="1287780"/>
                </a:lnTo>
                <a:lnTo>
                  <a:pt x="1440180" y="1272540"/>
                </a:lnTo>
                <a:lnTo>
                  <a:pt x="1463040" y="1257300"/>
                </a:lnTo>
                <a:lnTo>
                  <a:pt x="1478280" y="1249680"/>
                </a:lnTo>
                <a:lnTo>
                  <a:pt x="1493520" y="1234440"/>
                </a:lnTo>
                <a:lnTo>
                  <a:pt x="1516380" y="1219200"/>
                </a:lnTo>
                <a:lnTo>
                  <a:pt x="1539240" y="1203960"/>
                </a:lnTo>
                <a:lnTo>
                  <a:pt x="1554480" y="1196340"/>
                </a:lnTo>
                <a:lnTo>
                  <a:pt x="1577340" y="1181100"/>
                </a:lnTo>
                <a:lnTo>
                  <a:pt x="1592580" y="1165860"/>
                </a:lnTo>
                <a:lnTo>
                  <a:pt x="1623060" y="1150620"/>
                </a:lnTo>
                <a:lnTo>
                  <a:pt x="1638300" y="1135380"/>
                </a:lnTo>
                <a:lnTo>
                  <a:pt x="1661160" y="1120140"/>
                </a:lnTo>
                <a:lnTo>
                  <a:pt x="1684020" y="1104900"/>
                </a:lnTo>
                <a:lnTo>
                  <a:pt x="1699260" y="1089660"/>
                </a:lnTo>
                <a:lnTo>
                  <a:pt x="1722120" y="1074420"/>
                </a:lnTo>
                <a:lnTo>
                  <a:pt x="1744980" y="1059180"/>
                </a:lnTo>
                <a:lnTo>
                  <a:pt x="1767840" y="1043940"/>
                </a:lnTo>
                <a:lnTo>
                  <a:pt x="1790700" y="1028700"/>
                </a:lnTo>
                <a:lnTo>
                  <a:pt x="1813560" y="1013460"/>
                </a:lnTo>
                <a:lnTo>
                  <a:pt x="1836420" y="998220"/>
                </a:lnTo>
                <a:lnTo>
                  <a:pt x="1866900" y="982980"/>
                </a:lnTo>
                <a:lnTo>
                  <a:pt x="1889760" y="967740"/>
                </a:lnTo>
                <a:lnTo>
                  <a:pt x="1912620" y="952500"/>
                </a:lnTo>
                <a:lnTo>
                  <a:pt x="1935480" y="937260"/>
                </a:lnTo>
                <a:lnTo>
                  <a:pt x="1965960" y="922020"/>
                </a:lnTo>
                <a:lnTo>
                  <a:pt x="1988820" y="899160"/>
                </a:lnTo>
                <a:lnTo>
                  <a:pt x="2019300" y="883920"/>
                </a:lnTo>
                <a:lnTo>
                  <a:pt x="2042160" y="868680"/>
                </a:lnTo>
                <a:lnTo>
                  <a:pt x="2072640" y="853440"/>
                </a:lnTo>
                <a:lnTo>
                  <a:pt x="2103120" y="838200"/>
                </a:lnTo>
                <a:lnTo>
                  <a:pt x="2125980" y="822960"/>
                </a:lnTo>
                <a:lnTo>
                  <a:pt x="2156460" y="800100"/>
                </a:lnTo>
                <a:lnTo>
                  <a:pt x="2186940" y="784860"/>
                </a:lnTo>
                <a:lnTo>
                  <a:pt x="2217420" y="769620"/>
                </a:lnTo>
                <a:lnTo>
                  <a:pt x="2240280" y="746760"/>
                </a:lnTo>
                <a:lnTo>
                  <a:pt x="2270760" y="731520"/>
                </a:lnTo>
                <a:lnTo>
                  <a:pt x="2301240" y="716280"/>
                </a:lnTo>
                <a:lnTo>
                  <a:pt x="2331720" y="701040"/>
                </a:lnTo>
                <a:lnTo>
                  <a:pt x="2362200" y="678180"/>
                </a:lnTo>
                <a:lnTo>
                  <a:pt x="2385060" y="662940"/>
                </a:lnTo>
                <a:lnTo>
                  <a:pt x="2415540" y="647700"/>
                </a:lnTo>
                <a:lnTo>
                  <a:pt x="2446020" y="624840"/>
                </a:lnTo>
                <a:lnTo>
                  <a:pt x="2476500" y="609600"/>
                </a:lnTo>
                <a:lnTo>
                  <a:pt x="2499360" y="586740"/>
                </a:lnTo>
                <a:lnTo>
                  <a:pt x="2529840" y="571500"/>
                </a:lnTo>
                <a:lnTo>
                  <a:pt x="2552700" y="556260"/>
                </a:lnTo>
                <a:lnTo>
                  <a:pt x="2583180" y="533400"/>
                </a:lnTo>
                <a:lnTo>
                  <a:pt x="2606040" y="518160"/>
                </a:lnTo>
                <a:lnTo>
                  <a:pt x="2636520" y="502920"/>
                </a:lnTo>
                <a:lnTo>
                  <a:pt x="2659380" y="480060"/>
                </a:lnTo>
                <a:lnTo>
                  <a:pt x="2682240" y="464820"/>
                </a:lnTo>
                <a:lnTo>
                  <a:pt x="2712720" y="449580"/>
                </a:lnTo>
                <a:lnTo>
                  <a:pt x="2735580" y="426720"/>
                </a:lnTo>
                <a:lnTo>
                  <a:pt x="2758440" y="411480"/>
                </a:lnTo>
                <a:lnTo>
                  <a:pt x="2781300" y="388620"/>
                </a:lnTo>
                <a:lnTo>
                  <a:pt x="2811780" y="373380"/>
                </a:lnTo>
                <a:lnTo>
                  <a:pt x="2834640" y="358140"/>
                </a:lnTo>
                <a:lnTo>
                  <a:pt x="2857500" y="342900"/>
                </a:lnTo>
                <a:lnTo>
                  <a:pt x="2880360" y="320040"/>
                </a:lnTo>
                <a:lnTo>
                  <a:pt x="2903220" y="304800"/>
                </a:lnTo>
                <a:lnTo>
                  <a:pt x="2926080" y="289560"/>
                </a:lnTo>
                <a:lnTo>
                  <a:pt x="2948940" y="274320"/>
                </a:lnTo>
                <a:lnTo>
                  <a:pt x="2964180" y="259080"/>
                </a:lnTo>
                <a:lnTo>
                  <a:pt x="2987040" y="236220"/>
                </a:lnTo>
                <a:lnTo>
                  <a:pt x="3009900" y="220980"/>
                </a:lnTo>
                <a:lnTo>
                  <a:pt x="3025140" y="205740"/>
                </a:lnTo>
                <a:lnTo>
                  <a:pt x="3048000" y="190500"/>
                </a:lnTo>
                <a:lnTo>
                  <a:pt x="3070860" y="175260"/>
                </a:lnTo>
                <a:lnTo>
                  <a:pt x="3093720" y="160020"/>
                </a:lnTo>
                <a:lnTo>
                  <a:pt x="3108960" y="144780"/>
                </a:lnTo>
                <a:lnTo>
                  <a:pt x="3124200" y="137160"/>
                </a:lnTo>
                <a:lnTo>
                  <a:pt x="3147060" y="121920"/>
                </a:lnTo>
                <a:lnTo>
                  <a:pt x="3162300" y="106680"/>
                </a:lnTo>
                <a:lnTo>
                  <a:pt x="3177540" y="91440"/>
                </a:lnTo>
                <a:lnTo>
                  <a:pt x="3192780" y="83820"/>
                </a:lnTo>
                <a:lnTo>
                  <a:pt x="3208020" y="68580"/>
                </a:lnTo>
                <a:lnTo>
                  <a:pt x="3223260" y="60960"/>
                </a:lnTo>
                <a:lnTo>
                  <a:pt x="3238500" y="45720"/>
                </a:lnTo>
                <a:lnTo>
                  <a:pt x="3253740" y="38100"/>
                </a:lnTo>
                <a:lnTo>
                  <a:pt x="3261360" y="30480"/>
                </a:lnTo>
                <a:lnTo>
                  <a:pt x="3276600" y="22860"/>
                </a:lnTo>
                <a:lnTo>
                  <a:pt x="3284220" y="15240"/>
                </a:lnTo>
                <a:lnTo>
                  <a:pt x="3291840" y="15240"/>
                </a:lnTo>
                <a:lnTo>
                  <a:pt x="3299460" y="7620"/>
                </a:lnTo>
                <a:lnTo>
                  <a:pt x="3307080" y="0"/>
                </a:lnTo>
                <a:lnTo>
                  <a:pt x="3314700" y="0"/>
                </a:lnTo>
                <a:lnTo>
                  <a:pt x="3329940" y="0"/>
                </a:lnTo>
                <a:lnTo>
                  <a:pt x="3329940" y="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0"/>
          <p:cNvSpPr/>
          <p:nvPr/>
        </p:nvSpPr>
        <p:spPr>
          <a:xfrm>
            <a:off x="1782720" y="5638680"/>
            <a:ext cx="252360" cy="266760"/>
          </a:xfrm>
          <a:custGeom>
            <a:avLst/>
            <a:gdLst>
              <a:gd name="textAreaLeft" fmla="*/ 0 w 252360"/>
              <a:gd name="textAreaRight" fmla="*/ 252720 w 2523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251461" h="266701">
                <a:moveTo>
                  <a:pt x="60960" y="236220"/>
                </a:moveTo>
                <a:lnTo>
                  <a:pt x="60960" y="236220"/>
                </a:lnTo>
                <a:lnTo>
                  <a:pt x="60960" y="236220"/>
                </a:lnTo>
                <a:lnTo>
                  <a:pt x="68580" y="236220"/>
                </a:lnTo>
                <a:lnTo>
                  <a:pt x="68580" y="236220"/>
                </a:lnTo>
                <a:lnTo>
                  <a:pt x="68580" y="236220"/>
                </a:lnTo>
                <a:lnTo>
                  <a:pt x="76200" y="243840"/>
                </a:lnTo>
                <a:lnTo>
                  <a:pt x="76200" y="243840"/>
                </a:lnTo>
                <a:lnTo>
                  <a:pt x="83820" y="243840"/>
                </a:lnTo>
                <a:lnTo>
                  <a:pt x="91440" y="243840"/>
                </a:lnTo>
                <a:lnTo>
                  <a:pt x="99060" y="243840"/>
                </a:lnTo>
                <a:lnTo>
                  <a:pt x="99060" y="251460"/>
                </a:lnTo>
                <a:lnTo>
                  <a:pt x="106680" y="251460"/>
                </a:lnTo>
                <a:lnTo>
                  <a:pt x="114300" y="251460"/>
                </a:lnTo>
                <a:lnTo>
                  <a:pt x="114300" y="259080"/>
                </a:lnTo>
                <a:lnTo>
                  <a:pt x="121920" y="259080"/>
                </a:lnTo>
                <a:lnTo>
                  <a:pt x="129540" y="259080"/>
                </a:lnTo>
                <a:lnTo>
                  <a:pt x="137160" y="259080"/>
                </a:lnTo>
                <a:lnTo>
                  <a:pt x="144780" y="266700"/>
                </a:lnTo>
                <a:lnTo>
                  <a:pt x="152400" y="266700"/>
                </a:lnTo>
                <a:lnTo>
                  <a:pt x="160020" y="266700"/>
                </a:lnTo>
                <a:lnTo>
                  <a:pt x="167640" y="266700"/>
                </a:lnTo>
                <a:lnTo>
                  <a:pt x="175260" y="266700"/>
                </a:lnTo>
                <a:lnTo>
                  <a:pt x="182880" y="266700"/>
                </a:lnTo>
                <a:lnTo>
                  <a:pt x="190500" y="259080"/>
                </a:lnTo>
                <a:lnTo>
                  <a:pt x="198120" y="259080"/>
                </a:lnTo>
                <a:lnTo>
                  <a:pt x="205740" y="259080"/>
                </a:lnTo>
                <a:lnTo>
                  <a:pt x="213360" y="251460"/>
                </a:lnTo>
                <a:lnTo>
                  <a:pt x="220980" y="243840"/>
                </a:lnTo>
                <a:lnTo>
                  <a:pt x="220980" y="236220"/>
                </a:lnTo>
                <a:lnTo>
                  <a:pt x="228600" y="228600"/>
                </a:lnTo>
                <a:lnTo>
                  <a:pt x="236220" y="220980"/>
                </a:lnTo>
                <a:lnTo>
                  <a:pt x="243840" y="213360"/>
                </a:lnTo>
                <a:lnTo>
                  <a:pt x="243840" y="198120"/>
                </a:lnTo>
                <a:lnTo>
                  <a:pt x="243840" y="190500"/>
                </a:lnTo>
                <a:lnTo>
                  <a:pt x="251460" y="175260"/>
                </a:lnTo>
                <a:lnTo>
                  <a:pt x="251460" y="167640"/>
                </a:lnTo>
                <a:lnTo>
                  <a:pt x="251460" y="152400"/>
                </a:lnTo>
                <a:lnTo>
                  <a:pt x="243840" y="144780"/>
                </a:lnTo>
                <a:lnTo>
                  <a:pt x="243840" y="137160"/>
                </a:lnTo>
                <a:lnTo>
                  <a:pt x="243840" y="121920"/>
                </a:lnTo>
                <a:lnTo>
                  <a:pt x="236220" y="106680"/>
                </a:lnTo>
                <a:lnTo>
                  <a:pt x="236220" y="99060"/>
                </a:lnTo>
                <a:lnTo>
                  <a:pt x="228600" y="83820"/>
                </a:lnTo>
                <a:lnTo>
                  <a:pt x="220980" y="76200"/>
                </a:lnTo>
                <a:lnTo>
                  <a:pt x="220980" y="68580"/>
                </a:lnTo>
                <a:lnTo>
                  <a:pt x="213360" y="60960"/>
                </a:lnTo>
                <a:lnTo>
                  <a:pt x="205740" y="45720"/>
                </a:lnTo>
                <a:lnTo>
                  <a:pt x="198120" y="38100"/>
                </a:lnTo>
                <a:lnTo>
                  <a:pt x="190500" y="30480"/>
                </a:lnTo>
                <a:lnTo>
                  <a:pt x="182880" y="22860"/>
                </a:lnTo>
                <a:lnTo>
                  <a:pt x="175260" y="22860"/>
                </a:lnTo>
                <a:lnTo>
                  <a:pt x="167640" y="15240"/>
                </a:lnTo>
                <a:lnTo>
                  <a:pt x="152400" y="15240"/>
                </a:lnTo>
                <a:lnTo>
                  <a:pt x="144780" y="7620"/>
                </a:lnTo>
                <a:lnTo>
                  <a:pt x="137160" y="0"/>
                </a:lnTo>
                <a:lnTo>
                  <a:pt x="121920" y="0"/>
                </a:lnTo>
                <a:lnTo>
                  <a:pt x="114300" y="0"/>
                </a:lnTo>
                <a:lnTo>
                  <a:pt x="106680" y="0"/>
                </a:lnTo>
                <a:lnTo>
                  <a:pt x="91440" y="0"/>
                </a:lnTo>
                <a:lnTo>
                  <a:pt x="83820" y="0"/>
                </a:lnTo>
                <a:lnTo>
                  <a:pt x="68580" y="7620"/>
                </a:lnTo>
                <a:lnTo>
                  <a:pt x="60960" y="7620"/>
                </a:lnTo>
                <a:lnTo>
                  <a:pt x="53340" y="15240"/>
                </a:lnTo>
                <a:lnTo>
                  <a:pt x="45720" y="22860"/>
                </a:lnTo>
                <a:lnTo>
                  <a:pt x="30480" y="22860"/>
                </a:lnTo>
                <a:lnTo>
                  <a:pt x="22860" y="30480"/>
                </a:lnTo>
                <a:lnTo>
                  <a:pt x="15240" y="45720"/>
                </a:lnTo>
                <a:lnTo>
                  <a:pt x="7620" y="53340"/>
                </a:lnTo>
                <a:lnTo>
                  <a:pt x="7620" y="60960"/>
                </a:lnTo>
                <a:lnTo>
                  <a:pt x="0" y="68580"/>
                </a:lnTo>
                <a:lnTo>
                  <a:pt x="0" y="83820"/>
                </a:lnTo>
                <a:lnTo>
                  <a:pt x="0" y="91440"/>
                </a:lnTo>
                <a:lnTo>
                  <a:pt x="0" y="106680"/>
                </a:lnTo>
                <a:lnTo>
                  <a:pt x="0" y="121920"/>
                </a:lnTo>
                <a:lnTo>
                  <a:pt x="7620" y="129540"/>
                </a:lnTo>
                <a:lnTo>
                  <a:pt x="15240" y="144780"/>
                </a:lnTo>
                <a:lnTo>
                  <a:pt x="22860" y="152400"/>
                </a:lnTo>
                <a:lnTo>
                  <a:pt x="30480" y="167640"/>
                </a:lnTo>
                <a:lnTo>
                  <a:pt x="38100" y="182880"/>
                </a:lnTo>
                <a:lnTo>
                  <a:pt x="45720" y="190500"/>
                </a:lnTo>
                <a:lnTo>
                  <a:pt x="60960" y="205740"/>
                </a:lnTo>
                <a:lnTo>
                  <a:pt x="68580" y="213360"/>
                </a:lnTo>
                <a:lnTo>
                  <a:pt x="83820" y="220980"/>
                </a:lnTo>
                <a:lnTo>
                  <a:pt x="99060" y="228600"/>
                </a:lnTo>
                <a:lnTo>
                  <a:pt x="106680" y="228600"/>
                </a:lnTo>
                <a:lnTo>
                  <a:pt x="121920" y="236220"/>
                </a:lnTo>
                <a:lnTo>
                  <a:pt x="129540" y="236220"/>
                </a:lnTo>
                <a:lnTo>
                  <a:pt x="144780" y="236220"/>
                </a:lnTo>
                <a:lnTo>
                  <a:pt x="152400" y="236220"/>
                </a:lnTo>
                <a:lnTo>
                  <a:pt x="160020" y="228600"/>
                </a:lnTo>
                <a:lnTo>
                  <a:pt x="175260" y="228600"/>
                </a:lnTo>
                <a:lnTo>
                  <a:pt x="175260" y="22860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4465800" y="3192480"/>
            <a:ext cx="868320" cy="480960"/>
          </a:xfrm>
          <a:custGeom>
            <a:avLst/>
            <a:gdLst>
              <a:gd name="textAreaLeft" fmla="*/ 0 w 868320"/>
              <a:gd name="textAreaRight" fmla="*/ 868680 w 86832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868681" h="480061">
                <a:moveTo>
                  <a:pt x="0" y="365760"/>
                </a:moveTo>
                <a:lnTo>
                  <a:pt x="0" y="365760"/>
                </a:lnTo>
                <a:lnTo>
                  <a:pt x="0" y="373380"/>
                </a:lnTo>
                <a:lnTo>
                  <a:pt x="7620" y="381000"/>
                </a:lnTo>
                <a:lnTo>
                  <a:pt x="15240" y="381000"/>
                </a:lnTo>
                <a:lnTo>
                  <a:pt x="22860" y="388620"/>
                </a:lnTo>
                <a:lnTo>
                  <a:pt x="30480" y="396240"/>
                </a:lnTo>
                <a:lnTo>
                  <a:pt x="38100" y="403860"/>
                </a:lnTo>
                <a:lnTo>
                  <a:pt x="53340" y="403860"/>
                </a:lnTo>
                <a:lnTo>
                  <a:pt x="60960" y="411480"/>
                </a:lnTo>
                <a:lnTo>
                  <a:pt x="76200" y="426720"/>
                </a:lnTo>
                <a:lnTo>
                  <a:pt x="91440" y="426720"/>
                </a:lnTo>
                <a:lnTo>
                  <a:pt x="106680" y="434340"/>
                </a:lnTo>
                <a:lnTo>
                  <a:pt x="121920" y="441960"/>
                </a:lnTo>
                <a:lnTo>
                  <a:pt x="137160" y="449580"/>
                </a:lnTo>
                <a:lnTo>
                  <a:pt x="160020" y="457200"/>
                </a:lnTo>
                <a:lnTo>
                  <a:pt x="175260" y="464820"/>
                </a:lnTo>
                <a:lnTo>
                  <a:pt x="198120" y="464820"/>
                </a:lnTo>
                <a:lnTo>
                  <a:pt x="228600" y="472440"/>
                </a:lnTo>
                <a:lnTo>
                  <a:pt x="251460" y="472440"/>
                </a:lnTo>
                <a:lnTo>
                  <a:pt x="274320" y="480060"/>
                </a:lnTo>
                <a:lnTo>
                  <a:pt x="304800" y="480060"/>
                </a:lnTo>
                <a:lnTo>
                  <a:pt x="335280" y="480060"/>
                </a:lnTo>
                <a:lnTo>
                  <a:pt x="365760" y="480060"/>
                </a:lnTo>
                <a:lnTo>
                  <a:pt x="388620" y="480060"/>
                </a:lnTo>
                <a:lnTo>
                  <a:pt x="419100" y="480060"/>
                </a:lnTo>
                <a:lnTo>
                  <a:pt x="457200" y="480060"/>
                </a:lnTo>
                <a:lnTo>
                  <a:pt x="480060" y="472440"/>
                </a:lnTo>
                <a:lnTo>
                  <a:pt x="518160" y="464820"/>
                </a:lnTo>
                <a:lnTo>
                  <a:pt x="548640" y="464820"/>
                </a:lnTo>
                <a:lnTo>
                  <a:pt x="579120" y="457200"/>
                </a:lnTo>
                <a:lnTo>
                  <a:pt x="609600" y="449580"/>
                </a:lnTo>
                <a:lnTo>
                  <a:pt x="632460" y="441960"/>
                </a:lnTo>
                <a:lnTo>
                  <a:pt x="662940" y="426720"/>
                </a:lnTo>
                <a:lnTo>
                  <a:pt x="685800" y="419100"/>
                </a:lnTo>
                <a:lnTo>
                  <a:pt x="716280" y="403860"/>
                </a:lnTo>
                <a:lnTo>
                  <a:pt x="739140" y="396240"/>
                </a:lnTo>
                <a:lnTo>
                  <a:pt x="762000" y="381000"/>
                </a:lnTo>
                <a:lnTo>
                  <a:pt x="777240" y="365760"/>
                </a:lnTo>
                <a:lnTo>
                  <a:pt x="800100" y="350520"/>
                </a:lnTo>
                <a:lnTo>
                  <a:pt x="815340" y="335280"/>
                </a:lnTo>
                <a:lnTo>
                  <a:pt x="830580" y="320040"/>
                </a:lnTo>
                <a:lnTo>
                  <a:pt x="838200" y="297180"/>
                </a:lnTo>
                <a:lnTo>
                  <a:pt x="853440" y="281940"/>
                </a:lnTo>
                <a:lnTo>
                  <a:pt x="861060" y="259080"/>
                </a:lnTo>
                <a:lnTo>
                  <a:pt x="861060" y="243840"/>
                </a:lnTo>
                <a:lnTo>
                  <a:pt x="868680" y="220980"/>
                </a:lnTo>
                <a:lnTo>
                  <a:pt x="868680" y="205740"/>
                </a:lnTo>
                <a:lnTo>
                  <a:pt x="868680" y="182880"/>
                </a:lnTo>
                <a:lnTo>
                  <a:pt x="861060" y="167640"/>
                </a:lnTo>
                <a:lnTo>
                  <a:pt x="853440" y="144780"/>
                </a:lnTo>
                <a:lnTo>
                  <a:pt x="845820" y="129540"/>
                </a:lnTo>
                <a:lnTo>
                  <a:pt x="838200" y="106680"/>
                </a:lnTo>
                <a:lnTo>
                  <a:pt x="822960" y="91440"/>
                </a:lnTo>
                <a:lnTo>
                  <a:pt x="807720" y="76200"/>
                </a:lnTo>
                <a:lnTo>
                  <a:pt x="792480" y="60960"/>
                </a:lnTo>
                <a:lnTo>
                  <a:pt x="777240" y="53340"/>
                </a:lnTo>
                <a:lnTo>
                  <a:pt x="754380" y="38100"/>
                </a:lnTo>
                <a:lnTo>
                  <a:pt x="731520" y="30480"/>
                </a:lnTo>
                <a:lnTo>
                  <a:pt x="708660" y="15240"/>
                </a:lnTo>
                <a:lnTo>
                  <a:pt x="678180" y="7620"/>
                </a:lnTo>
                <a:lnTo>
                  <a:pt x="655320" y="7620"/>
                </a:lnTo>
                <a:lnTo>
                  <a:pt x="624840" y="0"/>
                </a:lnTo>
                <a:lnTo>
                  <a:pt x="586740" y="0"/>
                </a:lnTo>
                <a:lnTo>
                  <a:pt x="556260" y="0"/>
                </a:lnTo>
                <a:lnTo>
                  <a:pt x="525780" y="0"/>
                </a:lnTo>
                <a:lnTo>
                  <a:pt x="487680" y="7620"/>
                </a:lnTo>
                <a:lnTo>
                  <a:pt x="457200" y="7620"/>
                </a:lnTo>
                <a:lnTo>
                  <a:pt x="426720" y="15240"/>
                </a:lnTo>
                <a:lnTo>
                  <a:pt x="388620" y="22860"/>
                </a:lnTo>
                <a:lnTo>
                  <a:pt x="358140" y="30480"/>
                </a:lnTo>
                <a:lnTo>
                  <a:pt x="320040" y="38100"/>
                </a:lnTo>
                <a:lnTo>
                  <a:pt x="289560" y="53340"/>
                </a:lnTo>
                <a:lnTo>
                  <a:pt x="259080" y="68580"/>
                </a:lnTo>
                <a:lnTo>
                  <a:pt x="228600" y="76200"/>
                </a:lnTo>
                <a:lnTo>
                  <a:pt x="198120" y="91440"/>
                </a:lnTo>
                <a:lnTo>
                  <a:pt x="167640" y="106680"/>
                </a:lnTo>
                <a:lnTo>
                  <a:pt x="144780" y="121920"/>
                </a:lnTo>
                <a:lnTo>
                  <a:pt x="121920" y="137160"/>
                </a:lnTo>
                <a:lnTo>
                  <a:pt x="99060" y="152400"/>
                </a:lnTo>
                <a:lnTo>
                  <a:pt x="76200" y="167640"/>
                </a:lnTo>
                <a:lnTo>
                  <a:pt x="53340" y="190500"/>
                </a:lnTo>
                <a:lnTo>
                  <a:pt x="38100" y="205740"/>
                </a:lnTo>
                <a:lnTo>
                  <a:pt x="30480" y="220980"/>
                </a:lnTo>
                <a:lnTo>
                  <a:pt x="22860" y="236220"/>
                </a:lnTo>
                <a:lnTo>
                  <a:pt x="15240" y="243840"/>
                </a:lnTo>
                <a:lnTo>
                  <a:pt x="7620" y="259080"/>
                </a:lnTo>
                <a:lnTo>
                  <a:pt x="7620" y="274320"/>
                </a:lnTo>
                <a:lnTo>
                  <a:pt x="7620" y="281940"/>
                </a:lnTo>
                <a:lnTo>
                  <a:pt x="15240" y="297180"/>
                </a:lnTo>
                <a:lnTo>
                  <a:pt x="15240" y="304800"/>
                </a:lnTo>
                <a:lnTo>
                  <a:pt x="22860" y="312420"/>
                </a:lnTo>
                <a:lnTo>
                  <a:pt x="30480" y="327660"/>
                </a:lnTo>
                <a:lnTo>
                  <a:pt x="45720" y="335280"/>
                </a:lnTo>
                <a:lnTo>
                  <a:pt x="60960" y="342900"/>
                </a:lnTo>
                <a:lnTo>
                  <a:pt x="76200" y="350520"/>
                </a:lnTo>
                <a:lnTo>
                  <a:pt x="91440" y="358140"/>
                </a:lnTo>
                <a:lnTo>
                  <a:pt x="106680" y="358140"/>
                </a:lnTo>
                <a:lnTo>
                  <a:pt x="129540" y="358140"/>
                </a:lnTo>
                <a:lnTo>
                  <a:pt x="152400" y="365760"/>
                </a:lnTo>
                <a:lnTo>
                  <a:pt x="175260" y="365760"/>
                </a:lnTo>
                <a:lnTo>
                  <a:pt x="198120" y="373380"/>
                </a:lnTo>
                <a:lnTo>
                  <a:pt x="220980" y="373380"/>
                </a:lnTo>
                <a:lnTo>
                  <a:pt x="243840" y="373380"/>
                </a:lnTo>
                <a:lnTo>
                  <a:pt x="266700" y="373380"/>
                </a:lnTo>
                <a:lnTo>
                  <a:pt x="289560" y="373380"/>
                </a:lnTo>
                <a:lnTo>
                  <a:pt x="312420" y="373380"/>
                </a:lnTo>
                <a:lnTo>
                  <a:pt x="335280" y="373380"/>
                </a:lnTo>
                <a:lnTo>
                  <a:pt x="365760" y="373380"/>
                </a:lnTo>
                <a:lnTo>
                  <a:pt x="365760" y="37338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2"/>
          <p:cNvSpPr/>
          <p:nvPr/>
        </p:nvSpPr>
        <p:spPr>
          <a:xfrm>
            <a:off x="2103480" y="4098960"/>
            <a:ext cx="593640" cy="366840"/>
          </a:xfrm>
          <a:custGeom>
            <a:avLst/>
            <a:gdLst>
              <a:gd name="textAreaLeft" fmla="*/ 0 w 593640"/>
              <a:gd name="textAreaRight" fmla="*/ 594000 w 593640"/>
              <a:gd name="textAreaTop" fmla="*/ 0 h 366840"/>
              <a:gd name="textAreaBottom" fmla="*/ 366840 h 366840"/>
            </a:gdLst>
            <a:ahLst/>
            <a:rect l="textAreaLeft" t="textAreaTop" r="textAreaRight" b="textAreaBottom"/>
            <a:pathLst>
              <a:path w="594361" h="365761">
                <a:moveTo>
                  <a:pt x="137160" y="312420"/>
                </a:moveTo>
                <a:lnTo>
                  <a:pt x="137160" y="312420"/>
                </a:lnTo>
                <a:lnTo>
                  <a:pt x="137160" y="312420"/>
                </a:lnTo>
                <a:lnTo>
                  <a:pt x="137160" y="312420"/>
                </a:lnTo>
                <a:lnTo>
                  <a:pt x="144780" y="312420"/>
                </a:lnTo>
                <a:lnTo>
                  <a:pt x="144780" y="320040"/>
                </a:lnTo>
                <a:lnTo>
                  <a:pt x="152400" y="320040"/>
                </a:lnTo>
                <a:lnTo>
                  <a:pt x="160020" y="320040"/>
                </a:lnTo>
                <a:lnTo>
                  <a:pt x="167640" y="320040"/>
                </a:lnTo>
                <a:lnTo>
                  <a:pt x="175260" y="320040"/>
                </a:lnTo>
                <a:lnTo>
                  <a:pt x="190500" y="327660"/>
                </a:lnTo>
                <a:lnTo>
                  <a:pt x="205740" y="327660"/>
                </a:lnTo>
                <a:lnTo>
                  <a:pt x="220980" y="327660"/>
                </a:lnTo>
                <a:lnTo>
                  <a:pt x="243840" y="327660"/>
                </a:lnTo>
                <a:lnTo>
                  <a:pt x="259080" y="327660"/>
                </a:lnTo>
                <a:lnTo>
                  <a:pt x="281940" y="327660"/>
                </a:lnTo>
                <a:lnTo>
                  <a:pt x="304800" y="335280"/>
                </a:lnTo>
                <a:lnTo>
                  <a:pt x="327660" y="335280"/>
                </a:lnTo>
                <a:lnTo>
                  <a:pt x="350520" y="327660"/>
                </a:lnTo>
                <a:lnTo>
                  <a:pt x="373380" y="327660"/>
                </a:lnTo>
                <a:lnTo>
                  <a:pt x="396240" y="320040"/>
                </a:lnTo>
                <a:lnTo>
                  <a:pt x="419100" y="320040"/>
                </a:lnTo>
                <a:lnTo>
                  <a:pt x="441960" y="312420"/>
                </a:lnTo>
                <a:lnTo>
                  <a:pt x="464820" y="304800"/>
                </a:lnTo>
                <a:lnTo>
                  <a:pt x="487680" y="297180"/>
                </a:lnTo>
                <a:lnTo>
                  <a:pt x="510540" y="281940"/>
                </a:lnTo>
                <a:lnTo>
                  <a:pt x="525780" y="274320"/>
                </a:lnTo>
                <a:lnTo>
                  <a:pt x="548640" y="259080"/>
                </a:lnTo>
                <a:lnTo>
                  <a:pt x="563880" y="243840"/>
                </a:lnTo>
                <a:lnTo>
                  <a:pt x="571500" y="228600"/>
                </a:lnTo>
                <a:lnTo>
                  <a:pt x="579120" y="213360"/>
                </a:lnTo>
                <a:lnTo>
                  <a:pt x="586740" y="198120"/>
                </a:lnTo>
                <a:lnTo>
                  <a:pt x="586740" y="182880"/>
                </a:lnTo>
                <a:lnTo>
                  <a:pt x="594360" y="160020"/>
                </a:lnTo>
                <a:lnTo>
                  <a:pt x="594360" y="144780"/>
                </a:lnTo>
                <a:lnTo>
                  <a:pt x="586740" y="129540"/>
                </a:lnTo>
                <a:lnTo>
                  <a:pt x="579120" y="106680"/>
                </a:lnTo>
                <a:lnTo>
                  <a:pt x="563880" y="91440"/>
                </a:lnTo>
                <a:lnTo>
                  <a:pt x="548640" y="76200"/>
                </a:lnTo>
                <a:lnTo>
                  <a:pt x="533400" y="60960"/>
                </a:lnTo>
                <a:lnTo>
                  <a:pt x="518160" y="45720"/>
                </a:lnTo>
                <a:lnTo>
                  <a:pt x="487680" y="38100"/>
                </a:lnTo>
                <a:lnTo>
                  <a:pt x="464820" y="22860"/>
                </a:lnTo>
                <a:lnTo>
                  <a:pt x="441960" y="15240"/>
                </a:lnTo>
                <a:lnTo>
                  <a:pt x="411480" y="7620"/>
                </a:lnTo>
                <a:lnTo>
                  <a:pt x="381000" y="0"/>
                </a:lnTo>
                <a:lnTo>
                  <a:pt x="350520" y="0"/>
                </a:lnTo>
                <a:lnTo>
                  <a:pt x="320040" y="0"/>
                </a:lnTo>
                <a:lnTo>
                  <a:pt x="281940" y="0"/>
                </a:lnTo>
                <a:lnTo>
                  <a:pt x="251460" y="0"/>
                </a:lnTo>
                <a:lnTo>
                  <a:pt x="220980" y="7620"/>
                </a:lnTo>
                <a:lnTo>
                  <a:pt x="190500" y="15240"/>
                </a:lnTo>
                <a:lnTo>
                  <a:pt x="160020" y="30480"/>
                </a:lnTo>
                <a:lnTo>
                  <a:pt x="129540" y="38100"/>
                </a:lnTo>
                <a:lnTo>
                  <a:pt x="106680" y="53340"/>
                </a:lnTo>
                <a:lnTo>
                  <a:pt x="83820" y="68580"/>
                </a:lnTo>
                <a:lnTo>
                  <a:pt x="68580" y="83820"/>
                </a:lnTo>
                <a:lnTo>
                  <a:pt x="45720" y="99060"/>
                </a:lnTo>
                <a:lnTo>
                  <a:pt x="30480" y="114300"/>
                </a:lnTo>
                <a:lnTo>
                  <a:pt x="22860" y="137160"/>
                </a:lnTo>
                <a:lnTo>
                  <a:pt x="7620" y="152400"/>
                </a:lnTo>
                <a:lnTo>
                  <a:pt x="0" y="175260"/>
                </a:lnTo>
                <a:lnTo>
                  <a:pt x="0" y="198120"/>
                </a:lnTo>
                <a:lnTo>
                  <a:pt x="0" y="213360"/>
                </a:lnTo>
                <a:lnTo>
                  <a:pt x="7620" y="228600"/>
                </a:lnTo>
                <a:lnTo>
                  <a:pt x="15240" y="251460"/>
                </a:lnTo>
                <a:lnTo>
                  <a:pt x="22860" y="266700"/>
                </a:lnTo>
                <a:lnTo>
                  <a:pt x="38100" y="281940"/>
                </a:lnTo>
                <a:lnTo>
                  <a:pt x="53340" y="297180"/>
                </a:lnTo>
                <a:lnTo>
                  <a:pt x="76200" y="312420"/>
                </a:lnTo>
                <a:lnTo>
                  <a:pt x="91440" y="320040"/>
                </a:lnTo>
                <a:lnTo>
                  <a:pt x="114300" y="335280"/>
                </a:lnTo>
                <a:lnTo>
                  <a:pt x="137160" y="342900"/>
                </a:lnTo>
                <a:lnTo>
                  <a:pt x="152400" y="350520"/>
                </a:lnTo>
                <a:lnTo>
                  <a:pt x="175260" y="358140"/>
                </a:lnTo>
                <a:lnTo>
                  <a:pt x="205740" y="365760"/>
                </a:lnTo>
                <a:lnTo>
                  <a:pt x="205740" y="365760"/>
                </a:lnTo>
              </a:path>
            </a:pathLst>
          </a:custGeom>
          <a:noFill/>
          <a:ln w="1260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32Z</dcterms:created>
  <dc:creator>AsevedoSmith, David - RMH</dc:creator>
  <dc:description/>
  <dc:language>en-US</dc:language>
  <cp:lastModifiedBy>Windows User</cp:lastModifiedBy>
  <dcterms:modified xsi:type="dcterms:W3CDTF">2013-11-12T15:38:24Z</dcterms:modified>
  <cp:revision>19</cp:revision>
  <dc:subject/>
  <dc:title>12-4 Angle Measures &amp; Segment Lengths in Circles</dc:title>
</cp:coreProperties>
</file>